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AAAED-FAC6-4FF3-B222-5BBD59143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295B-6A2D-44FC-9BEE-4D3703EAE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6CDD0-235D-4E1A-B8D1-106AFD644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743D-90DF-466F-9957-89E939C62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CD693-1192-4134-A09E-8F46372FB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54EC-A330-457F-9350-5FEECE2F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5C413-DB13-43A3-ADA2-88309F6E6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DDA34-7ACB-4A79-A755-1CE2528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F0D14-6381-4286-ADF1-FB2A2787B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7B9AE-E786-411E-B7F5-9A0EF690C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7ECB8-6C67-4D0D-8419-0370052DE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169-7C32-43E8-BDB5-8B89673AE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E006-C02D-468E-B44B-5B699B191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E01EE-14B4-4A68-B4CA-18B2F76FF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B8024-2D2D-4B3B-A924-2EF942F2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575CC-C928-47D7-914B-C7A6E2F5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D6AF-7BB2-495E-A052-0863DD3B1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D5387-CE9D-46EC-A767-859280CE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2AB8-7EF3-452B-A2C2-ECA8FF321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D64C-C922-4986-A4F6-2D4D68D7E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84F-62B8-4E9C-A3F2-FACD7F0AC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D97F-AB39-4565-A2F4-EA4F61E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7A35-B792-4B09-99FB-34393473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FD385-45EE-4371-8E16-76365B1E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CBA6-AC05-45C5-AB70-29FB2A7FE9D0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29909-711D-4BA4-AA0D-D762D8EA4F81}" type="slidenum">
              <a:rPr b="0" lang="es-CL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Derecho de la 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Garamond"/>
              </a:rPr>
              <a:t>Int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57200" y="277920"/>
            <a:ext cx="8229600" cy="58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“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Solución”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Utilizar mecanismos Regulatorios: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Derecho Antimonopolios (</a:t>
            </a:r>
            <a:r>
              <a:rPr b="0" i="1" lang="es-ES" sz="3000" spc="-1" strike="noStrike">
                <a:solidFill>
                  <a:srgbClr val="000000"/>
                </a:solidFill>
                <a:latin typeface="Garamond"/>
              </a:rPr>
              <a:t>Antitrust Law</a:t>
            </a: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84358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¿Por qué hablar de Libre Competencia?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Problema Económi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autoritaria, dirigida, planificada (centralmen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Economía de libre merc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erca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interacción Oferta y Demanda (</a:t>
            </a:r>
            <a:r>
              <a:rPr b="0" i="1" lang="es-ES" sz="2600" spc="-1" strike="noStrike">
                <a:solidFill>
                  <a:srgbClr val="000000"/>
                </a:solidFill>
                <a:latin typeface="Garamond"/>
              </a:rPr>
              <a:t>Mano invisible</a:t>
            </a: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Varios elemen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 (Sistem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2800" indent="-30240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Libre Competencia (Interés - Mecanismos)</a:t>
            </a:r>
            <a:r>
              <a:rPr b="0" lang="es-ES" sz="2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Libre Competenci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tor de la Economí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Garamond"/>
              </a:rPr>
              <a:t>Relación entre Economías desarrolladas y Competencia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nsumidores reciben Bs y S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Calidad, Cantidad y Precio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ferentes reciben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oductos, Costos e Ingreso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Fundamentos Económicos: </a:t>
            </a:r>
            <a:br>
              <a:rPr sz="3800"/>
            </a:b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Modelo de Competencia Perfecta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Gran Número de Oferentes y Demandantes (Atomicidad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Producto Homogéne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ibre Movilidad de los Factores Productiv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imetría de Información (Completa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000000"/>
                </a:solidFill>
                <a:latin typeface="Garamond"/>
              </a:rPr>
              <a:t>Competencia Perfecta: Consecuencia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s Empresas intervinientes son Precio-Aceptantes o Tomadoras de Preci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l Grado de Elasticidad es Alt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No Existen Barreras Legales o Financi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stos de Transacción bajos o nul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95280" y="277920"/>
            <a:ext cx="8748720" cy="6178320"/>
            <a:chOff x="395280" y="277920"/>
            <a:chExt cx="8748720" cy="6178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395280" y="277920"/>
              <a:ext cx="8748720" cy="617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 txBox="1"/>
            <p:nvPr/>
          </p:nvSpPr>
          <p:spPr>
            <a:xfrm>
              <a:off x="395280" y="277920"/>
              <a:ext cx="8748720" cy="6178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850"/>
                </a:spcBef>
                <a:buClr>
                  <a:srgbClr val="cc9900"/>
                </a:buClr>
                <a:buSzPct val="6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Continuació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uando Ingresos Marginales (IMg) = P = Costos Marginales (CMg), se detiene la Produc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Se logra eficiencia privada y social (Pareto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UMg = P = CM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recios, cantidades y rentas (no hay alternativa más satisfactoria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3120" indent="-3218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Garamond"/>
              </a:rPr>
              <a:t>Pareto / Kaldor-Hic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Pero </a:t>
            </a:r>
            <a:r>
              <a:rPr b="1" i="1" lang="es-ES" sz="4200" spc="-1" strike="noStrike">
                <a:solidFill>
                  <a:srgbClr val="000000"/>
                </a:solidFill>
                <a:latin typeface="Garamond"/>
              </a:rPr>
              <a:t>al final del día</a:t>
            </a:r>
            <a:r>
              <a:rPr b="1" lang="es-ES" sz="4200" spc="-1" strike="noStrike">
                <a:solidFill>
                  <a:srgbClr val="000000"/>
                </a:solidFill>
                <a:latin typeface="Garamond"/>
              </a:rPr>
              <a:t>…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La Oferta (y/o Demanda) tiende a concentrar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Existen Inelasticidad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Hay Barreras a la Entrada y a la Sali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Fuertes Asimetrías de Infor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006633"/>
                </a:solidFill>
                <a:latin typeface="Garamond"/>
              </a:rPr>
              <a:t>Competencia Imperfecta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Monopolio Pur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Posicionar producto canasta consum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Bs Sustitutos – Competencia potenc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Competencia Monopolís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10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000000"/>
                </a:solidFill>
                <a:latin typeface="Garamond"/>
              </a:rPr>
              <a:t>Varios empresarios. Bs diferenciad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Garamond"/>
              </a:rPr>
              <a:t>Oligopoli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7T01:30:47Z</dcterms:created>
  <dc:creator>Sebastian Spolmann</dc:creator>
  <dc:description/>
  <dc:language>en-US</dc:language>
  <cp:lastModifiedBy>Sebastian Spolmann</cp:lastModifiedBy>
  <dcterms:modified xsi:type="dcterms:W3CDTF">2007-08-06T02:09:14Z</dcterms:modified>
  <cp:revision>28</cp:revision>
  <dc:subject/>
  <dc:title>Fundamentos Económicos: Modelo de Competencia Perfecta</dc:title>
</cp:coreProperties>
</file>