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25C1-479E-4A10-9C14-44DA413F0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9115-298F-44C3-AA2A-60B997971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6489-C54B-4A12-B079-8FD174746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52BD-3EEA-4D11-BBC5-D81E30943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7FCEB-613D-43C2-8725-AF328D04F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E73AA-F272-402A-94B0-3F41EF6ED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FB877-9148-4E9D-8CFB-AD27BCCC1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4752D-781D-430E-8A8D-065255CE1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30368-33B9-4877-BC69-A7634074C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F6EE1-3C76-42B7-AD7F-F724814C0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B28BE-DE79-4EF9-9C64-EF123FB39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556C-4D3C-4B58-9D6F-B821B5244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264C8-483E-44C9-8EA2-0A6E9DC3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119B3-9090-4D3F-96A7-4DC85EE7C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AFDEB-6534-4B0B-8DD7-7E760FF77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BEE25-ED90-4175-8D66-A72D11B41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06350-8870-40CE-B0E2-B78ED9E49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1175-5549-4C95-B56E-1E32D5B20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A563-C80D-48AC-8E4D-D76C0F5FB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480C-EED9-40AC-87F0-11537717F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F29F-6008-4FF7-AA89-95E2D1126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0213-9996-4664-ADC2-BD5F53C8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DE08-A9F8-4BFC-ACE1-C1B8E14A7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8E28-A84A-438C-95F2-802773723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DBCA2-6726-4761-BF29-B1CED5A22E81}" type="slidenum">
              <a:rPr b="0" lang="es-C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7E9A0-7CD2-496C-B74E-6403E5B1CDD7}" type="slidenum">
              <a:rPr b="0" lang="es-C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Derecho de la Libre Competenci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Introduc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277920"/>
            <a:ext cx="8229600" cy="58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1" lang="es-ES" sz="4200" spc="-1" strike="noStrike">
                <a:solidFill>
                  <a:srgbClr val="000000"/>
                </a:solidFill>
                <a:latin typeface="Garamond"/>
              </a:rPr>
              <a:t>Solución”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Utilizar mecanismos Regulatorio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Derecho Antimonopolios (</a:t>
            </a:r>
            <a:r>
              <a:rPr b="0" i="1" lang="es-ES" sz="3000" spc="-1" strike="noStrike">
                <a:solidFill>
                  <a:srgbClr val="000000"/>
                </a:solidFill>
                <a:latin typeface="Garamond"/>
              </a:rPr>
              <a:t>Antitrust Law</a:t>
            </a: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435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Garamond"/>
              </a:rPr>
              <a:t>¿Por qué hablar de Libre Competencia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El Problema Económ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Economía autoritaria, dirigida, planificada (centralmen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Economía de libre merc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Merca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Libre interacción Oferta y Demanda (</a:t>
            </a:r>
            <a:r>
              <a:rPr b="0" i="1" lang="es-ES" sz="2600" spc="-1" strike="noStrike">
                <a:solidFill>
                  <a:srgbClr val="000000"/>
                </a:solidFill>
                <a:latin typeface="Garamond"/>
              </a:rPr>
              <a:t>Mano invisible</a:t>
            </a: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Varios elemen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Precios (Sistem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Libre Competencia (Interés - Mecanismos)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0000"/>
                </a:solidFill>
                <a:latin typeface="Garamond"/>
              </a:rPr>
              <a:t>Libre Competenci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Motor de la Economí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Garamond"/>
              </a:rPr>
              <a:t>Relación entre Economías desarrolladas y Competenci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Consumidores reciben Bs y 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Calidad, Cantidad y Preci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Oferentes reciben inform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Productos, Costos e Ingres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Garamond"/>
              </a:rPr>
              <a:t>Fundamentos Económicos: </a:t>
            </a:r>
            <a:br>
              <a:rPr sz="3800"/>
            </a:br>
            <a:r>
              <a:rPr b="1" lang="es-ES" sz="3800" spc="-1" strike="noStrike">
                <a:solidFill>
                  <a:srgbClr val="000000"/>
                </a:solidFill>
                <a:latin typeface="Garamond"/>
              </a:rPr>
              <a:t>Modelo de Competencia Perfect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Gran Número de Oferentes y Demandantes (Atomicida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Producto Homogéne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Libre Movilidad de los Factores Productiv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Simetría de Información (Complet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Garamond"/>
              </a:rPr>
              <a:t>Competencia Perfecta: Consecuencia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Las Empresas intervinientes son Precio-Aceptantes o Tomadoras de Preci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El Grado de Elasticidad es Al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No Existen Barreras Legales o Financieras a la Entrada y a la Salid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Costos de Transacción bajos o nul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395280" y="277920"/>
            <a:ext cx="8748720" cy="6178320"/>
            <a:chOff x="395280" y="277920"/>
            <a:chExt cx="8748720" cy="617832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395280" y="277920"/>
              <a:ext cx="8748720" cy="617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 txBox="1"/>
            <p:nvPr/>
          </p:nvSpPr>
          <p:spPr>
            <a:xfrm>
              <a:off x="395280" y="277920"/>
              <a:ext cx="8748720" cy="6178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850"/>
                </a:spcBef>
                <a:buClr>
                  <a:srgbClr val="cc9900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0000"/>
                </a:solidFill>
                <a:latin typeface="Garamond"/>
              </a:rPr>
              <a:t>Continuació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Cuando Ingresos Marginales (IMg) = P = Costos Marginales (CMg), se detiene la Produc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Se logra eficiencia privada y social (Paret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UMg = P = CM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Precios, cantidades y rentas (no hay alternativa más satisfactoria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aramond"/>
              </a:rPr>
              <a:t>Pareto / Kaldor-Hic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0000"/>
                </a:solidFill>
                <a:latin typeface="Garamond"/>
              </a:rPr>
              <a:t>Pero </a:t>
            </a:r>
            <a:r>
              <a:rPr b="1" i="1" lang="es-ES" sz="4200" spc="-1" strike="noStrike">
                <a:solidFill>
                  <a:srgbClr val="000000"/>
                </a:solidFill>
                <a:latin typeface="Garamond"/>
              </a:rPr>
              <a:t>al final del día</a:t>
            </a:r>
            <a:r>
              <a:rPr b="1" lang="es-ES" sz="4200" spc="-1" strike="noStrike">
                <a:solidFill>
                  <a:srgbClr val="000000"/>
                </a:solidFill>
                <a:latin typeface="Garamond"/>
              </a:rPr>
              <a:t>…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La Oferta (y/o Demanda) tiende a concentrar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Existen Inelasticida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Hay Barreras a la Entrada y a la Salid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Fuertes Asimetrías de Inform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Competencia Imperfect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Monopolio Pur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Posicionar producto canasta consum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Bs Sustitutos – Competencia potenc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Competencia Monopolíst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Varios empresarios. Bs diferenciad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Oligopol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7T01:30:47Z</dcterms:created>
  <dc:creator>Sebastian Spolmann</dc:creator>
  <dc:description/>
  <dc:language>en-US</dc:language>
  <cp:lastModifiedBy>Sebastian Spolmann</cp:lastModifiedBy>
  <dcterms:modified xsi:type="dcterms:W3CDTF">2007-08-06T02:09:14Z</dcterms:modified>
  <cp:revision>28</cp:revision>
  <dc:subject/>
  <dc:title>Fundamentos Económicos: Modelo de Competencia Perfecta</dc:title>
</cp:coreProperties>
</file>