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47D-A94B-4CD7-B7FD-ECE502FD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066-8B8F-4DF1-A6D0-06BA47FB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DCD-7CEF-4799-8F2A-722C6F2B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61F-42B3-41DA-9DE1-56499FAD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731B-79AA-4AA4-9B7F-E2BB9B67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AA48-E48D-4D24-B214-20954228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79FA-D783-4B90-9BD0-72985329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AF08-F8C7-45D7-A3E6-3CC4DF9D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2F3E-F000-4D6C-AD6E-C7412A95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42A9-42D6-4662-9082-BD095F62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903C-42A2-4C51-A0B6-E21CA70D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EC7-5CDC-449A-B877-AA6685E9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E2C5-F44D-4B83-90B7-D9F168F8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2462-2680-4668-A675-5646E871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EDC6-7F0E-48A5-8ED1-A6286C84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4B13-D50A-4294-9FAE-C477CDCC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2A0E-117A-44A1-91AC-6A6ABF9B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FB3-17E0-4362-A2A7-CA65E7E7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92A-5230-4143-B905-67D68030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4C8-8FEB-4A99-80EF-DD01701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844-0B07-4C0D-A0EB-9B2FB843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7E9-2B39-41B8-BB11-7FBF26D4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2AA-462E-4A2F-9D9B-B5F5B424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A5D-E8ED-4F45-8350-27088670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E6AA-89F2-4CB0-919D-092D08348471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AF2-8379-49AE-9FE8-B96272D9B4DE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erecho de la 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Solución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Utilizar mecanismos Regulator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erecho Antimonopolios (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Antitrust Law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or qué hablar de Libre Competencia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Problema Económ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autoritaria, dirigida, planificada (centralmen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de libre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interacción Oferta y Demanda (</a:t>
            </a:r>
            <a:r>
              <a:rPr b="0" i="1" lang="es-ES" sz="2600" spc="-1" strike="noStrike">
                <a:solidFill>
                  <a:srgbClr val="000000"/>
                </a:solidFill>
                <a:latin typeface="Garamond"/>
              </a:rPr>
              <a:t>Mano invisible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Varios e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 (Siste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Competencia (Interés - Mecanismos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tor de la Economí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Relación entre Economías desarrolladas y Compet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nsumidores reciben Bs y 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alidad, Cantidad y Pre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ferentes recibe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ductos, Costos e Ingre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Fundamentos Económicos: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Modelo de Competencia Perfec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Gran Número de Oferentes y Demandantes (Atomicid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ducto Homogén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ibre Movilidad de los Factores Produ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metría de Información (Complet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Competencia Perfecta: Consecuenci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s Empresas intervinientes son Precio-Aceptantes o Tomadoras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Grado de Elasticidad es Al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No Existen Barreras Legales o Financi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stos de Transacción bajos o n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95280" y="277920"/>
            <a:ext cx="8748720" cy="6178320"/>
            <a:chOff x="395280" y="277920"/>
            <a:chExt cx="8748720" cy="6178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395280" y="277920"/>
              <a:ext cx="8748720" cy="61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395280" y="277920"/>
              <a:ext cx="8748720" cy="617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8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uando Ingresos Marginales (IMg) = P = Costos Marginales (CMg), se detiene la P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logra eficiencia privada y social (Pare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UMg = P = CM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, cantidades y rentas (no hay alternativa más satisfactori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Pareto / Kaldor-Hi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Pero </a:t>
            </a:r>
            <a:r>
              <a:rPr b="1" i="1" lang="es-ES" sz="4200" spc="-1" strike="noStrike">
                <a:solidFill>
                  <a:srgbClr val="000000"/>
                </a:solidFill>
                <a:latin typeface="Garamond"/>
              </a:rPr>
              <a:t>al final del día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 Oferta (y/o Demanda) tiende a concentra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xisten Inelastic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Hay Barr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Fuertes Asimetrías de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mpetencia Imperfec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nopolio Pu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cionar producto canasta consu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s Sustitutos – Competencia poten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mpetencia Monopolí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Varios empresarios. Bs diferen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lig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1:30:47Z</dcterms:created>
  <dc:creator>Sebastian Spolmann</dc:creator>
  <dc:description/>
  <dc:language>en-US</dc:language>
  <cp:lastModifiedBy>Sebastian Spolmann</cp:lastModifiedBy>
  <dcterms:modified xsi:type="dcterms:W3CDTF">2007-08-06T02:09:14Z</dcterms:modified>
  <cp:revision>28</cp:revision>
  <dc:subject/>
  <dc:title>Fundamentos Económicos: Modelo de Competencia Perfecta</dc:title>
</cp:coreProperties>
</file>