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ED9-56FF-4178-A9B5-9995B32B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6AE-FBDB-4140-AFCC-61BA1440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533-3E92-4EC5-95C5-6CA81BC1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DBD-82B6-4D93-91DB-B262AB3C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FAA-FFB7-417D-96EB-C9051F3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362-8655-4360-8231-42314118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455-520E-48AC-9795-5963FCDA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9FB-14B9-45AB-96F1-26C809C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A32-4F19-4315-9978-FAFCAEB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305-7515-44DB-B730-2C8C4EC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F58-E272-4119-9A08-C803852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C83-BE45-452F-B1FF-98A7C46B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144-21DC-411B-8D54-56A3045BE8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0-30T21:03:25Z</dcterms:modified>
  <cp:revision>26</cp:revision>
  <dc:subject/>
  <dc:title>IS-LM</dc:title>
</cp:coreProperties>
</file>