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32E8-D1FC-4758-BC1B-591B0CCD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6ECB-02B8-4C8A-9B8A-212C814E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E8D-5AAB-43EB-8532-E1725F66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06E2-E34F-4D43-9A87-7644EE02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FB00-A362-4D42-AC28-DB946E37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83F-D9E6-474E-B5C9-3DA43DC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CD5-5E09-4676-B5C9-C836A2A2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0E1-13FD-4D69-907F-0B3A3D4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2876-CB87-4117-AD31-52089AD0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7507-7261-4A99-9D64-A2876CE0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66F-7DD4-4035-AC49-C739241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5AF-E9B0-4AB0-B952-7B204548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1A54-F7F1-4249-A64C-38108BB1EA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0-30T21:03:25Z</dcterms:modified>
  <cp:revision>26</cp:revision>
  <dc:subject/>
  <dc:title>IS-LM</dc:title>
</cp:coreProperties>
</file>