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2A3-253D-4717-8616-98B4A331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191-15F1-43F0-AFA3-C803A8B0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459-4B72-4887-A709-CBDE1FAA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498-BE58-43AB-B17B-1D69527F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58D-B316-45B4-88A7-EA2DF767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133-4A73-45AB-8C88-062A3331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4BE-E82A-4430-80B9-95D772BB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116-A721-4494-939E-35C213B8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556-6CC9-4299-B88C-F7252547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4F6-F9DB-462E-AC65-217DDCCB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27C-0D3B-4190-9261-916FC0EF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0C3-FC00-45DD-A6C4-B17CA7C8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C509-34CA-48BB-80F1-F4D4BC3F0ED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: TC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ómo cambian los efectos de las políticas macro si a parte de existir libre movilidad de capitales, la economía tiene TC flexi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caso de la PF expansiva, el desplazamiento de la IS a la derecha ante el aumento de G hace que la tasa de interés local sea mayor que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sto impulsa el ingreso de capitales y, en el caso en que hay TC flexible,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preciación del 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el saldo comercial se reduce y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a IS retrocede hacia su posición origina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nalmente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la DA no camb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porque la caída de las exportaciones netas, compensa el aumento de G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vemos, el efecto expulsión se produce sobre la balanza comercial y no sobre I+C, como en el caso con TC fij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BC aumenta M, se produce una incipiente reducción de i, provocando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alida de capit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 TC se deprec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lo que hace mejorar la balanza comercial y la IS se desplaza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nuevo equilibrio, la tasa de interés no cambia y la DA aument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r lo tanto, en una economía abierta, con TC flexible y libre movilidad de capitales, la PM actúa a través de su efecto sobre el tipo de cambio. (La tasa de interés está dada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clase iniciaremos el estudio de las políticas macroeconómicas para el caso de una economía abierta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con tipo de cambio fijo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l abrir la economía sabemos que la demanda agregada debe considerar la demanda externa neta por bienes nacionales (X-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debemos considerar que existe un nivel de precios externos que llamaremos P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e conoce como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tipo de cambio real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al ratio de precios extranjeros, respecto al precio de los bienes doméstic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TCR = eP*/P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, donde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corresponde al TC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La balanza comercial (X-M) depende positivamente del TC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TCR sube (depreciación real), los bienes extranjeros se encarecen respecto a los nacionales, por lo tanto, aumenta el volumen de exportaciones y disminuye el de importacion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principal cambio que se introduce es que la IS se desplaza a la derecha cuando aumentan las X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particular, un aumento de la demanda externa por bienes nacionales o una depreciación del TCR desplazarán la IS a la derech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M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abemos que esta curva representa el equilibrio del mercado del dinero donde la tasa de interés es un factor clav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uando abrimos la economía y suponemos libre movilidad de capitales, la tasa de interés relevante es la tasa de interés internacional: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i hay libre movilidad de capitales, debe darse que i =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ta relación se conoce como línea de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movilidad de capitales (MC)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debe cumplirse en equilibr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lo tanto, bajo libre movilidad de capitales, el equilibrio de una economía abierta se encuentra donde se intersectan IS, LM y MC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. Efectos de una expansión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. Efectos de una expansión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. Efectos de una devalua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aumento de G desplaza la curva IS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una economía cerrada el equilibrio estaría en la intersección de la nueva IS con la LM inicial, pero este punto no cumple con la condición MC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ansitoriamente, la tasa de interés local es mayor a i*, lo que lleva a los agentes a cambiar sus activos externos por moneda local (para aprovechar las tasas más alta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el BC desea mantener el TC fijo comprará los activos externos, incrementando la cantidad de dinero (M) en la economí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 la LM se desplaza a la derecha y se cumple el equilibrio IS-LM-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 observa que la PF es altamente efectiva para incrementar la 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(bajo estos supuesto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a diferencia clave con el caso de economía cerrada es que no se da crowding out, debido a que debe cumplirse la condición 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 análisis gráfico similar aplica para una devaluación de la moneda local, una reducción de impuestos, un aumento de la demanda externa o un aumento del ingreso futuro esperado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abe destacar que en el caso de una economía grande (US, ZE, Japón), la política fiscal tiene efectos en la tasa de interés internacional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xpansión Mone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. que el BC compra bonos domésticos, aumentando M (LM a la derecha). La intersección de la nueva LM con la IS no es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familias tratan de cambiar el exceso de dinero por activos externos y 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C tiende a deprecia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vende divisas para mantener el TC fijo y en este proceso, saca dinero de la economí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 vuelve a su posición orig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decir, la expansión monetaria (con TC fijo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iene efectos sobre la 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hecho, con TC fijo y libre movilidad de capitales, el BC no tiene control sobre la oferta monetaria (el dinero es endóge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 expansión monetaria son nulos? NO. El BC ha perdido reservas y las familias ganaron activos extern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valuación nominal genera un aumento del TCR (dados los niveles de P y P*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jora la balanza comercial y crece la DA para cualquier nivel de 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IS se desplaza a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incipiente aumento de la tasa local genera un exceso de divisas y de demanda por moneda local (por entrada de capitales o porque las familias cambian sus activos en moneda extranj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compra las divisas para evitar que el TC se aprecie, y al comprar, aumenta la oferta monetaria (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l nuevo equilibrio, la DA aumenta, y los efectos son similares a los de un aumento de 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0-30T21:03:25Z</dcterms:modified>
  <cp:revision>26</cp:revision>
  <dc:subject/>
  <dc:title>IS-LM</dc:title>
</cp:coreProperties>
</file>