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026B-E64D-446E-938B-19787FFA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C51-5FC3-497A-BD70-5DFDE132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E4B5-DEED-4F6B-8885-9AD4B600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B22A-21B5-4F74-8147-B345ED21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1086-B562-44D0-928A-5CE01287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70D9-F668-4EA2-A710-A7E95D2E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024-950E-4516-8ED7-482B331A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1682-2EEA-4091-8CF8-E119A9A5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53D-0C7D-4A28-A481-9B4900B9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961-7EC0-4716-9E50-0EDE00DB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399-440D-40F1-B7B7-CA100800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B171-2315-4D1F-9DCC-5360B3E4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8B1E-4464-4295-AC0E-BDFBA67EF7B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Economía cer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El efecto de las mayores tasas sobre C e I se cono ce como efecto crowding out o expulsión, porque el aumento del gasto público expulsa gasto privad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Qué pasa con el nivel de equilibrio del producto y de los precio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R. Depende de la forma de la curva de OA y en última instancia, del supuesto sobre flexibilidad de salari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s efectos de un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ducción de impuest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obre la DA son los mismos que causa una expansión de 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n embargo, menores impuestos también pueden tener efectos positivos sobre la oferta, estimulando el empleo y la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umento de 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duce un exceso de oferta de din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familias convierten su exceso de dinero en bonos (ahorran) haciendo caer las tasas de interé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 caída en i, aumenta C e I, causando un aumento de la D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evamente, los efectos sobre el producto y los precios dependen del supuesto de O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Times New Roman"/>
              </a:rPr>
              <a:t>Qué pasa en el caso clás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A medida que P sube (OA inelástica) los saldos reales disminuyen, revirtiendo el aumento inicial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Es decir, de acuerdo al enfoque clásico, en el equilibrio final, el nivel de producto no ha variado y los precios suben en igual proporción que el aumento de M. M/P, i, también invariab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Ver casos especiales y otros tópicos en L&amp;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Economía cer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2628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FOQUE IS-LM Y LA DEMANDA AGREGA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n esta sección estudiaremos como las políticas macroeconómicas afectan la </a:t>
            </a:r>
            <a:r>
              <a:rPr b="0" lang="es-ES" sz="2500" spc="-1" strike="noStrike" u="sng">
                <a:solidFill>
                  <a:srgbClr val="000000"/>
                </a:solidFill>
                <a:uFillTx/>
                <a:latin typeface="Times New Roman"/>
              </a:rPr>
              <a:t>demanda agregada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y por lo tanto, el producto y el emple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Sabemos que Qd = C + I + 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demás, el consumo es una función decreciente de la tasa de interés, creciente del ingreso disponible corriente y esperad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s decir, C = C (i, Q-T, (Q-T)</a:t>
            </a:r>
            <a:r>
              <a:rPr b="0" lang="es-ES" sz="25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Por su parte, la inversión también es una función inversa de la tasa de interés, pero además depende positivamente de la PMgK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I = I ( i, PMgK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sí, la DA se puede expresar com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Qd = C (i, Q-T, (Q-T)</a:t>
            </a:r>
            <a:r>
              <a:rPr b="0" lang="es-ES" sz="25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) + I ( i, PMgK) + 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a forma útil de derivar la curva de demanda agregada y visualizar los efectos de las PM es el modelo IS-LM  (1937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a curva 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versión-ahorro) relaciona el nivel de demanda agregada con el nivel de tasa de interés, manteniendo fijas otras variabl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o sabemos, un aumento de la tasa de interés deprime la DA por sus efectos sobre el consumo y la inversió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 representar gráficamente esta relación encontramos una curva con pendiente negativa conocida como 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variables que mantuvimos constante determinan la posición de la I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Así, la IS se desplaza a la derecha si aumenta G, o el ingreso disponible o la PMg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La curva L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ra determinar la tasa de interés, debemos considerar el mercado monetari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odemos expresar el equilibrio del mercado monetario de la siguiente form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M/P = L(i, Qd); es decir, la oferta de saldos reales (M/P) es igual a la demanda por saldos reales de dinero, dada por L(i, Qd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La curva LM muestra las combinaciones de demanda agregada y tasa de interés consistentes con el 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Times New Roman"/>
              </a:rPr>
              <a:t>equilibrio del mercado monetario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, para un nivel dado de M/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 curva LM tiene pendiente positiva (¿por qué?) y su posición depende del valor de M/P en la economí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 equilibrio IS-L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graficado para G, T, M y P dado) determina el único par de tasa de interés y demanda de producto, para los cuales el mercado de bienes y el mercado monetario están simultáneamente en equilibri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ve es recordar que para determinar el nivel de precios y de producto de la economía, debemos combinar la curva de DA (que se deriva de IS-LM) con la curva de OA (derivada las clases previas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ra derivar la curva de DA a partir de este modelo, debemos preguntarnos qué sucede si cambia P (recordemos que la DA muestra la relación existente entre Qd y P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 sube P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, la IS no se modifica, pero M/P disminuye, generándose un exceso de demanda por din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ra restablecer el equilibrio en este mercado, se requiere (i) un aumento de tasas de interés, (ii) una menor demanda de bienes y servicios o una combinación de ambo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Vemos gráficamente que se produce ambos efectos, obteniéndose la curva de 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fectos de un aumento del gasto fiscal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fectos de una reducción de impuesto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fectos de un incremento de la oferta monetari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 el gobierno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umenta el gast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para una tasa de interés dada, aumenta la demanda de bienes desplazando la IS a la derech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 la tasa de interés no cambia, el incremento de la actividad produce un exceso de demanda por saldos monetarios re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familias cambian sus ahorros (bonos) por dinero, es decir, reducen su ahorro haciendo subir la tasa de interé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 aumento de i, permite reducir el exceso de demanda por dinero y a la vez reduce el consumo y la inversión privad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0:41:57Z</dcterms:created>
  <dc:creator>Hermann </dc:creator>
  <dc:description/>
  <dc:language>en-US</dc:language>
  <cp:lastModifiedBy>BCCH</cp:lastModifiedBy>
  <dcterms:modified xsi:type="dcterms:W3CDTF">2007-10-30T21:03:06Z</dcterms:modified>
  <cp:revision>15</cp:revision>
  <dc:subject/>
  <dc:title>IS-LM</dc:title>
</cp:coreProperties>
</file>