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30D-EDCB-41C1-8429-CF302491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B01-7D1D-46E5-87BF-190D8DA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54A-A168-47C3-98CB-12B2E5DD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DC6-23C5-41BF-BAB9-B4B0EEBF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5E9-39CB-4704-A33C-EC77701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AC9-D385-4399-AD05-73021B6C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DD5-2281-40C3-89E3-E14949C4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FF9-1D59-41B2-8F0C-2868422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251-6089-489B-8EC0-A2D161E2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B65-7773-42CA-92BA-DDC26DC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628-AC8B-439A-AA99-C9BA0BB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2F5-E4FB-4D0B-BDAB-D09C1D2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87F-25F3-4CEB-BAF1-F9347AEF97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06Z</dcterms:modified>
  <cp:revision>15</cp:revision>
  <dc:subject/>
  <dc:title>IS-LM</dc:title>
</cp:coreProperties>
</file>