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8E04-C29A-42E8-A369-0767A51CA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25D9E-74EF-4623-8A3F-0841EC32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069E1-F3E8-4A01-984C-B1DDADA9F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CF89-B9A3-4A34-B840-5A9F43E14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9984B-D43A-41CE-8491-D690FD6BD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12EC-5658-4328-8B4F-2C764535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8385F-C596-4254-A1B6-000772D4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4986D-E8BD-485F-BD70-8E61E13E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A5E74-4F8E-43B4-A701-DFB34D02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86E26-F30F-4BC1-A808-54DFA484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D3A7-35E8-4170-AEB0-65A5F9B1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A415-F6F0-4160-89DF-FBE209F1C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640B-5EF0-40A5-A6DB-FC0FD07FDF0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55640" y="692280"/>
            <a:ext cx="763272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rimer paso para reducir una elevada tasa de inflación es atacar su causa fundamental: </a:t>
            </a:r>
            <a:r>
              <a:rPr b="1" lang="en-US" sz="2400" spc="-1" strike="noStrike">
                <a:solidFill>
                  <a:srgbClr val="000000"/>
                </a:solidFill>
                <a:latin typeface="Times New Roman"/>
              </a:rPr>
              <a:t>reducir el DF.</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además es dar </a:t>
            </a:r>
            <a:r>
              <a:rPr b="1" lang="en-US" sz="2400" spc="-1" strike="noStrike">
                <a:solidFill>
                  <a:srgbClr val="000000"/>
                </a:solidFill>
                <a:latin typeface="Times New Roman"/>
              </a:rPr>
              <a:t>credibilidad</a:t>
            </a:r>
            <a:r>
              <a:rPr b="0" lang="en-US" sz="2400" spc="-1" strike="noStrike">
                <a:solidFill>
                  <a:srgbClr val="000000"/>
                </a:solidFill>
                <a:latin typeface="Times New Roman"/>
              </a:rPr>
              <a:t> al programa antiinflacionario para anclar las expectativas (uso de reglas,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redibilidad no basta, porque puede existir un problema de carácter más mecánico: la inflación tiene </a:t>
            </a:r>
            <a:r>
              <a:rPr b="1" lang="en-US" sz="2400" spc="-1" strike="noStrike">
                <a:solidFill>
                  <a:srgbClr val="000000"/>
                </a:solidFill>
                <a:latin typeface="Times New Roman"/>
              </a:rPr>
              <a:t>inercia</a:t>
            </a:r>
            <a:r>
              <a:rPr b="0" lang="en-US" sz="2400" spc="-1" strike="noStrike">
                <a:solidFill>
                  <a:srgbClr val="000000"/>
                </a:solidFill>
                <a:latin typeface="Times New Roman"/>
              </a:rPr>
              <a:t>, la que debe ser reducida o eliminada (indexación de salarios)</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81000"/>
          </a:bodyPr>
          <a:p>
            <a:pPr marL="2775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 ESTABILIZACION</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conomías latinoamericanas se han caracterizado por tener, a diferencia de otras economías, altas tasas de inflación (150% prom. en la década de 1980).</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s 70 y 80 existió un fuerte debate respecto a la forma de reducir la inflación y la velocidad a la cual hacerlo.</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chos pensaban que la única forma de generar una caída rápida de la inflación era provocando una recesión, mediante el uso restrictivo de las políticas fiscal y monetaria.</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lternativa era hacerlo de forma gradual, pero aceptando por más tiempo los costos de la inf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677880" y="449280"/>
            <a:ext cx="7532640" cy="5748480"/>
            <a:chOff x="677880" y="449280"/>
            <a:chExt cx="7532640" cy="5748480"/>
          </a:xfrm>
        </p:grpSpPr>
        <p:sp>
          <p:nvSpPr>
            <p:cNvPr id="55" name=""/>
            <p:cNvSpPr/>
            <p:nvPr/>
          </p:nvSpPr>
          <p:spPr>
            <a:xfrm>
              <a:off x="677880" y="449280"/>
              <a:ext cx="7532640" cy="5748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27320" y="1206360"/>
              <a:ext cx="1440" cy="397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58920" y="518328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258920" y="451944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1258920" y="385776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258920" y="319392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1258920" y="25322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1258920" y="186840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258920" y="120636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327320" y="5183280"/>
              <a:ext cx="67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flipV="1">
              <a:off x="132732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flipV="1">
              <a:off x="253044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37479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flipV="1">
              <a:off x="495144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 name=""/>
            <p:cNvSpPr/>
            <p:nvPr/>
          </p:nvSpPr>
          <p:spPr>
            <a:xfrm flipV="1">
              <a:off x="61545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flipV="1">
              <a:off x="735948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a:off x="1447920" y="4749840"/>
              <a:ext cx="244440" cy="41400"/>
            </a:xfrm>
            <a:prstGeom prst="line">
              <a:avLst/>
            </a:prstGeom>
            <a:ln w="414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flipV="1">
              <a:off x="1692360" y="4709880"/>
              <a:ext cx="242640" cy="810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flipV="1">
              <a:off x="1935000" y="4452480"/>
              <a:ext cx="243000" cy="2574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178000" y="4289400"/>
              <a:ext cx="230400" cy="163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408400" y="4195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52840" y="4195800"/>
              <a:ext cx="242640" cy="392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2895480" y="4317840"/>
              <a:ext cx="243000" cy="2700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138480" y="3519360"/>
              <a:ext cx="244440" cy="7984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382920" y="2233440"/>
              <a:ext cx="243000" cy="1285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625920" y="1422000"/>
              <a:ext cx="242640" cy="811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68560" y="1422360"/>
              <a:ext cx="230400" cy="2759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4098960" y="4087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343400" y="3749400"/>
              <a:ext cx="243000" cy="338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586400" y="3722400"/>
              <a:ext cx="2426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4829040" y="3722760"/>
              <a:ext cx="244440" cy="1216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73480" y="4938840"/>
              <a:ext cx="243000" cy="109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16480" y="5048280"/>
              <a:ext cx="243000" cy="54000"/>
            </a:xfrm>
            <a:prstGeom prst="line">
              <a:avLst/>
            </a:prstGeom>
            <a:ln w="414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5559480" y="5102280"/>
              <a:ext cx="2300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 name=""/>
            <p:cNvSpPr/>
            <p:nvPr/>
          </p:nvSpPr>
          <p:spPr>
            <a:xfrm>
              <a:off x="5789520" y="5129280"/>
              <a:ext cx="24444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033960" y="5129280"/>
              <a:ext cx="24300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6276960" y="5129280"/>
              <a:ext cx="24300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 name=""/>
            <p:cNvSpPr/>
            <p:nvPr/>
          </p:nvSpPr>
          <p:spPr>
            <a:xfrm flipV="1">
              <a:off x="6519960" y="5128920"/>
              <a:ext cx="24444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 name=""/>
            <p:cNvSpPr/>
            <p:nvPr/>
          </p:nvSpPr>
          <p:spPr>
            <a:xfrm flipV="1">
              <a:off x="6764400" y="5114880"/>
              <a:ext cx="243000" cy="14400"/>
            </a:xfrm>
            <a:prstGeom prst="line">
              <a:avLst/>
            </a:prstGeom>
            <a:ln w="414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 name=""/>
            <p:cNvSpPr/>
            <p:nvPr/>
          </p:nvSpPr>
          <p:spPr>
            <a:xfrm>
              <a:off x="7007400" y="5114880"/>
              <a:ext cx="2444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7251840" y="5141880"/>
              <a:ext cx="22860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7480440" y="5141880"/>
              <a:ext cx="244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7724880" y="5141880"/>
              <a:ext cx="2426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447920" y="5075280"/>
              <a:ext cx="24444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 name=""/>
            <p:cNvSpPr/>
            <p:nvPr/>
          </p:nvSpPr>
          <p:spPr>
            <a:xfrm>
              <a:off x="1692360" y="5087880"/>
              <a:ext cx="242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1935000" y="5087880"/>
              <a:ext cx="2430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V="1">
              <a:off x="2178000" y="5087880"/>
              <a:ext cx="2304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2408400" y="5087880"/>
              <a:ext cx="2444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2652840" y="5087880"/>
              <a:ext cx="24264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flipV="1">
              <a:off x="2895480" y="510192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3138480" y="5060520"/>
              <a:ext cx="2444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 name=""/>
            <p:cNvSpPr/>
            <p:nvPr/>
          </p:nvSpPr>
          <p:spPr>
            <a:xfrm flipV="1">
              <a:off x="3382920" y="5021280"/>
              <a:ext cx="243000" cy="39600"/>
            </a:xfrm>
            <a:prstGeom prst="line">
              <a:avLst/>
            </a:prstGeom>
            <a:ln w="414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flipV="1">
              <a:off x="3625920" y="5006880"/>
              <a:ext cx="2426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3868560" y="5006880"/>
              <a:ext cx="23040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flipV="1">
              <a:off x="4098960" y="4938840"/>
              <a:ext cx="244440" cy="9504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4938840"/>
              <a:ext cx="243000" cy="14040"/>
            </a:xfrm>
            <a:prstGeom prst="line">
              <a:avLst/>
            </a:prstGeom>
            <a:ln w="414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a:off x="4586400" y="4952880"/>
              <a:ext cx="2426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 name=""/>
            <p:cNvSpPr/>
            <p:nvPr/>
          </p:nvSpPr>
          <p:spPr>
            <a:xfrm>
              <a:off x="4829040" y="4994280"/>
              <a:ext cx="244440" cy="9360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73480" y="5087880"/>
              <a:ext cx="24300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 name=""/>
            <p:cNvSpPr/>
            <p:nvPr/>
          </p:nvSpPr>
          <p:spPr>
            <a:xfrm>
              <a:off x="5316480" y="512928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 name=""/>
            <p:cNvSpPr/>
            <p:nvPr/>
          </p:nvSpPr>
          <p:spPr>
            <a:xfrm>
              <a:off x="5559480" y="5141880"/>
              <a:ext cx="2300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5789520" y="5141880"/>
              <a:ext cx="2444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6033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6276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651996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676440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700740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7251840" y="5156280"/>
              <a:ext cx="2286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48044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7724880" y="5156280"/>
              <a:ext cx="2426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311280" y="638280"/>
              <a:ext cx="224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ción anual (%)</a:t>
              </a:r>
              <a:endParaRPr b="0" lang="en-US" sz="2000" spc="-1" strike="noStrike">
                <a:solidFill>
                  <a:srgbClr val="000000"/>
                </a:solidFill>
                <a:latin typeface="Times New Roman"/>
              </a:endParaRPr>
            </a:p>
          </p:txBody>
        </p:sp>
        <p:sp>
          <p:nvSpPr>
            <p:cNvPr id="126" name=""/>
            <p:cNvSpPr/>
            <p:nvPr/>
          </p:nvSpPr>
          <p:spPr>
            <a:xfrm>
              <a:off x="1055520" y="5075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7" name=""/>
            <p:cNvSpPr/>
            <p:nvPr/>
          </p:nvSpPr>
          <p:spPr>
            <a:xfrm>
              <a:off x="839520" y="4411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28" name=""/>
            <p:cNvSpPr/>
            <p:nvPr/>
          </p:nvSpPr>
          <p:spPr>
            <a:xfrm>
              <a:off x="839520" y="3749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29" name=""/>
            <p:cNvSpPr/>
            <p:nvPr/>
          </p:nvSpPr>
          <p:spPr>
            <a:xfrm>
              <a:off x="839520" y="3086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Times New Roman"/>
              </a:endParaRPr>
            </a:p>
          </p:txBody>
        </p:sp>
        <p:sp>
          <p:nvSpPr>
            <p:cNvPr id="130" name=""/>
            <p:cNvSpPr/>
            <p:nvPr/>
          </p:nvSpPr>
          <p:spPr>
            <a:xfrm>
              <a:off x="839520" y="2424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31" name=""/>
            <p:cNvSpPr/>
            <p:nvPr/>
          </p:nvSpPr>
          <p:spPr>
            <a:xfrm>
              <a:off x="839520" y="1760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132" name=""/>
            <p:cNvSpPr/>
            <p:nvPr/>
          </p:nvSpPr>
          <p:spPr>
            <a:xfrm>
              <a:off x="839520" y="1098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Times New Roman"/>
              </a:endParaRPr>
            </a:p>
          </p:txBody>
        </p:sp>
        <p:sp>
          <p:nvSpPr>
            <p:cNvPr id="133" name=""/>
            <p:cNvSpPr/>
            <p:nvPr/>
          </p:nvSpPr>
          <p:spPr>
            <a:xfrm>
              <a:off x="1231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134" name=""/>
            <p:cNvSpPr/>
            <p:nvPr/>
          </p:nvSpPr>
          <p:spPr>
            <a:xfrm>
              <a:off x="243504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000000"/>
                </a:solidFill>
                <a:latin typeface="Times New Roman"/>
              </a:endParaRPr>
            </a:p>
          </p:txBody>
        </p:sp>
        <p:sp>
          <p:nvSpPr>
            <p:cNvPr id="135" name=""/>
            <p:cNvSpPr/>
            <p:nvPr/>
          </p:nvSpPr>
          <p:spPr>
            <a:xfrm>
              <a:off x="3652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136" name=""/>
            <p:cNvSpPr/>
            <p:nvPr/>
          </p:nvSpPr>
          <p:spPr>
            <a:xfrm>
              <a:off x="48556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p:txBody>
        </p:sp>
        <p:sp>
          <p:nvSpPr>
            <p:cNvPr id="137" name=""/>
            <p:cNvSpPr/>
            <p:nvPr/>
          </p:nvSpPr>
          <p:spPr>
            <a:xfrm>
              <a:off x="606060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38" name=""/>
            <p:cNvSpPr/>
            <p:nvPr/>
          </p:nvSpPr>
          <p:spPr>
            <a:xfrm>
              <a:off x="72640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a:t>
              </a:r>
              <a:endParaRPr b="0" lang="en-US" sz="1600" spc="-1" strike="noStrike">
                <a:solidFill>
                  <a:srgbClr val="000000"/>
                </a:solidFill>
                <a:latin typeface="Times New Roman"/>
              </a:endParaRPr>
            </a:p>
          </p:txBody>
        </p:sp>
        <p:sp>
          <p:nvSpPr>
            <p:cNvPr id="139" name=""/>
            <p:cNvSpPr/>
            <p:nvPr/>
          </p:nvSpPr>
          <p:spPr>
            <a:xfrm>
              <a:off x="3125880" y="5724360"/>
              <a:ext cx="2867040" cy="338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92480" y="5886360"/>
              <a:ext cx="325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3571200" y="5778360"/>
              <a:ext cx="135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rica Latina</a:t>
              </a:r>
              <a:endParaRPr b="0" lang="en-US" sz="1600" spc="-1" strike="noStrike">
                <a:solidFill>
                  <a:srgbClr val="000000"/>
                </a:solidFill>
                <a:latin typeface="Times New Roman"/>
              </a:endParaRPr>
            </a:p>
          </p:txBody>
        </p:sp>
        <p:sp>
          <p:nvSpPr>
            <p:cNvPr id="142" name=""/>
            <p:cNvSpPr/>
            <p:nvPr/>
          </p:nvSpPr>
          <p:spPr>
            <a:xfrm>
              <a:off x="4965840" y="5886360"/>
              <a:ext cx="323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343480" y="5778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do</a:t>
              </a:r>
              <a:endParaRPr b="0" lang="en-US" sz="1600" spc="-1" strike="noStrike">
                <a:solidFill>
                  <a:srgbClr val="000000"/>
                </a:solidFill>
                <a:latin typeface="Times New Roman"/>
              </a:endParaRPr>
            </a:p>
          </p:txBody>
        </p:sp>
        <p:sp>
          <p:nvSpPr>
            <p:cNvPr id="144" name=""/>
            <p:cNvSpPr/>
            <p:nvPr/>
          </p:nvSpPr>
          <p:spPr>
            <a:xfrm>
              <a:off x="677880" y="449280"/>
              <a:ext cx="7532640" cy="5748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fontScale="85000"/>
          </a:bodyPr>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UU. Optó por la primera alternativa y la evidencia muestra una caída del PIB de 2% en 1982 y un aumento del desempleo de 10%.</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 vez, la inflación cayó desde niveles en torno a 10% a niveles en torno a 3% en sólo dos añ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e redujo la inflación de una forma más gradual.</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1990 la inflación llegó a 26% y en 1999 se ubicaba en torno a 3%.</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caso de Chile este proceso se produjo a la par (y en parte debido a) del surgimiento de un Banco Central autónomo, el cual adoptó un esquema de metas de inflación y ganó alta credibilidad en el mercado.</a:t>
            </a:r>
            <a:endParaRPr b="0" lang="en-US" sz="2400" spc="-1" strike="noStrike">
              <a:solidFill>
                <a:srgbClr val="000000"/>
              </a:solidFill>
              <a:latin typeface="Times New Roman"/>
            </a:endParaRPr>
          </a:p>
          <a:p>
            <a:pPr marL="29160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fontScale="80000"/>
          </a:bodyPr>
          <a:p>
            <a:pPr marL="27432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reducción de la inflación, es fundamental que el sector privado confíe en las autoridades que tienen a su cargo el control de la inflación.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BC crea </a:t>
            </a:r>
            <a:r>
              <a:rPr b="1" lang="es-ES" sz="2400" spc="-1" strike="noStrike">
                <a:solidFill>
                  <a:srgbClr val="000000"/>
                </a:solidFill>
                <a:latin typeface="Times New Roman"/>
              </a:rPr>
              <a:t>normas claras</a:t>
            </a:r>
            <a:r>
              <a:rPr b="0" lang="es-ES" sz="2400" spc="-1" strike="noStrike">
                <a:solidFill>
                  <a:srgbClr val="000000"/>
                </a:solidFill>
                <a:latin typeface="Times New Roman"/>
              </a:rPr>
              <a:t>, como el anuncio público de sus objetivos inflacionarios, y los asocia con sus </a:t>
            </a:r>
            <a:r>
              <a:rPr b="1" lang="es-ES" sz="2400" spc="-1" strike="noStrike">
                <a:solidFill>
                  <a:srgbClr val="000000"/>
                </a:solidFill>
                <a:latin typeface="Times New Roman"/>
              </a:rPr>
              <a:t>instrumentos de política</a:t>
            </a:r>
            <a:r>
              <a:rPr b="0" lang="es-ES" sz="2400" spc="-1" strike="noStrike">
                <a:solidFill>
                  <a:srgbClr val="000000"/>
                </a:solidFill>
                <a:latin typeface="Times New Roman"/>
              </a:rPr>
              <a:t>, aumenta la credibilidad de su política.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ricto rigor, cuando el BC ve más inflación (objetivo) en su horizonte de política sube la tasa de política (herramienta). Si el sector privado cree que el BC va a hacer todo lo necesario para manter la inflación controlada, evitará un aumento desmesurado de precios por que mayores tasas implican menor actividad y demanda por bienes y servicios. </a:t>
            </a:r>
            <a:endParaRPr b="0" lang="en-US" sz="2400" spc="-1" strike="noStrike">
              <a:solidFill>
                <a:srgbClr val="000000"/>
              </a:solidFill>
              <a:latin typeface="Times New Roman"/>
            </a:endParaRPr>
          </a:p>
          <a:p>
            <a:pPr marL="27432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fortalecer la autonomía del BC, algunos países separan su gestión del control del gobierno y le dan la autonomía suficiente para negarse a aprobar un crédito al gobierno.</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ORIGEN MONETARIO/FISCAL</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dinero, al igual que otros bienes, se transa en un mercado.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se emite dinero que no es demandado, el equilibrio se restablece con un aumento de precios.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mayoría de los casos, la inflación aumenta porque el gobierno financia su exceso de gastos imprimiendo más diner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mente la causa primaria de la inflación es un déficit fiscal alto y fuera de control. Mientras no se solucione este problema, la inflación reaparecerá.</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85000"/>
          </a:bodyPr>
          <a:p>
            <a:pPr marL="29160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 consenso respecto a que tasas de inflación altas y volátiles son costosas para la economí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imer lugar, la inflación es un </a:t>
            </a:r>
            <a:r>
              <a:rPr b="1" lang="en-US" sz="2400" spc="-1" strike="noStrike">
                <a:solidFill>
                  <a:srgbClr val="000000"/>
                </a:solidFill>
                <a:latin typeface="Times New Roman"/>
              </a:rPr>
              <a:t>impuesto a la posesión de dinero.</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casos extremos de inflación o hiperinflaciones (</a:t>
            </a:r>
            <a:r>
              <a:rPr b="0" lang="en-US" sz="2400" spc="-1" strike="noStrike">
                <a:solidFill>
                  <a:srgbClr val="000000"/>
                </a:solidFill>
                <a:latin typeface="Symbol"/>
                <a:ea typeface="Symbol"/>
              </a:rPr>
              <a:t></a:t>
            </a:r>
            <a:r>
              <a:rPr b="0" lang="en-US" sz="2400" spc="-1" strike="noStrike">
                <a:solidFill>
                  <a:srgbClr val="000000"/>
                </a:solidFill>
                <a:latin typeface="Times New Roman"/>
              </a:rPr>
              <a:t> &gt; 50% mensual) los agentes intentan cambiar de inmediato el dinero por bienes o moneda extranjer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historia económica de Latinoamérica, cinco países han tenido hiperinflación: Bolivia 1984-85, Argentina, Brasil y Perú 1989-90 y Nicaragua a partir de 1986 y por 58 me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547560"/>
            <a:ext cx="849600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flación también produce importantes </a:t>
            </a:r>
            <a:r>
              <a:rPr b="1" lang="en-US" sz="2400" spc="-1" strike="noStrike">
                <a:solidFill>
                  <a:srgbClr val="000000"/>
                </a:solidFill>
                <a:latin typeface="Times New Roman"/>
              </a:rPr>
              <a:t>redistribuciones de ingreso y riquez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ejemplo, (i) individuo que se endeuda en pesos; (ii) personas con contratos laborales que no se reajustan o cuyos reajusten subestiman el aumento de la inflación, (iii) quienes no cuentan con los instrumentos financieros para protegerse de la inflación (dólares, instrumentos indexad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mente, la inflación hace que los precios pierdan su valor como proveedores de información y normalmente induce a las personas a tomar decisiones erróneas de producción y consumo. </a:t>
            </a:r>
            <a:endParaRPr b="0" lang="en-US" sz="2400" spc="-1" strike="noStrike">
              <a:solidFill>
                <a:srgbClr val="000000"/>
              </a:solidFill>
              <a:latin typeface="Times New Roman"/>
            </a:endParaRPr>
          </a:p>
          <a:p>
            <a:pPr marL="31536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92000"/>
          </a:bodyPr>
          <a:p>
            <a:pPr marL="3153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nte algunos episodios, es posible observar una </a:t>
            </a:r>
            <a:r>
              <a:rPr b="1" lang="en-US" sz="2400" spc="-1" strike="noStrike">
                <a:solidFill>
                  <a:srgbClr val="000000"/>
                </a:solidFill>
                <a:latin typeface="Times New Roman"/>
              </a:rPr>
              <a:t>relación inversa entre inflación y desempleo</a:t>
            </a:r>
            <a:r>
              <a:rPr b="0" lang="en-US" sz="2400" spc="-1" strike="noStrike">
                <a:solidFill>
                  <a:srgbClr val="000000"/>
                </a:solidFill>
                <a:latin typeface="Times New Roman"/>
              </a:rPr>
              <a:t>: es decir, bajas tasas de inflación se producen junto con altas tasas de desempleo y viceversa (por ejemplo US en la década de 1960).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decir, el principal costo de reducir la inflación sería soportar un mayor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embargo, esta relación no se da si existe absoluta flexibilidad de precios y pleno acceso a la información económica pertinente. </a:t>
            </a: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74560" y="476280"/>
            <a:ext cx="7993080" cy="53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7772400" cy="4114800"/>
          </a:xfrm>
          <a:prstGeom prst="rect">
            <a:avLst/>
          </a:prstGeom>
          <a:noFill/>
          <a:ln w="0">
            <a:noFill/>
          </a:ln>
        </p:spPr>
        <p:txBody>
          <a:bodyPr lIns="90000" rIns="90000" tIns="46800" bIns="46800" anchor="t">
            <a:normAutofit fontScale="76000"/>
          </a:bodyPr>
          <a:p>
            <a:pPr marL="26064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este caso, la mayor demanda de bienes (producida por un aumento de M, por ej.) no se traduce necesariamente en un aumento de la oferta y reducción del desempleo porque los precios hacen el ajuste.</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sin embargo, que la </a:t>
            </a:r>
            <a:r>
              <a:rPr b="1" lang="es-ES" sz="2400" spc="-1" strike="noStrike">
                <a:solidFill>
                  <a:srgbClr val="000000"/>
                </a:solidFill>
                <a:latin typeface="Times New Roman"/>
              </a:rPr>
              <a:t>expansión monetaria</a:t>
            </a:r>
            <a:r>
              <a:rPr b="0" lang="es-ES" sz="2400" spc="-1" strike="noStrike">
                <a:solidFill>
                  <a:srgbClr val="000000"/>
                </a:solidFill>
                <a:latin typeface="Times New Roman"/>
              </a:rPr>
              <a:t> genere un aumento de actividad y menor desempleo, (i) por ejemplo si las empresas no saben si la mayor demanda por sus bienes es por mayor dinero o ingresos/preferencias (aumento genuino de la demanda). En este caso, el BC puede afectar la actividad mediante política monetaria expansiva imprevista. </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i) Por otro lado, </a:t>
            </a:r>
            <a:r>
              <a:rPr b="1" lang="es-ES" sz="2400" spc="-1" strike="noStrike">
                <a:solidFill>
                  <a:srgbClr val="000000"/>
                </a:solidFill>
                <a:latin typeface="Times New Roman"/>
              </a:rPr>
              <a:t>contratos salariales</a:t>
            </a:r>
            <a:r>
              <a:rPr b="0" lang="es-ES" sz="2400" spc="-1" strike="noStrike">
                <a:solidFill>
                  <a:srgbClr val="000000"/>
                </a:solidFill>
                <a:latin typeface="Times New Roman"/>
              </a:rPr>
              <a:t> hacen caer salarios reale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empresas emplean más personas y disminuye el desempleo en el corto plazo..</a:t>
            </a:r>
            <a:endParaRPr b="0" lang="en-US" sz="2400" spc="-1" strike="noStrike">
              <a:solidFill>
                <a:srgbClr val="000000"/>
              </a:solidFill>
              <a:latin typeface="Times New Roman"/>
            </a:endParaRPr>
          </a:p>
          <a:p>
            <a:pPr marL="26064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79000"/>
          </a:bodyPr>
          <a:p>
            <a:pPr marL="27072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V. EL COEFICIENTE DE SACRIFICIO</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CS se define como el exceso de desempleo acumulado por encima del nivel de equilibrio (o tasa natural de desempleo) dividido por la reducción de la inflación producto de un programa de estabilización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el CS mide el costo, en términos de desempleo, de cada punto de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 el caso de US durante la década de 1980, la política monetaria contractiva provocó una recesión y redujo la inflación de 13.6% en 1980 a 3.2% en 1983.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xceso de desempleo acumulado (por sobre el 6% natural) fue de 10.8% y la inflación cayó 7.2% </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 el CS fue 1.5 (10.8/7.2).</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por cada punto de reducción de la inflación, el desempleo aumentó 1.5 p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22:08:55Z</dcterms:created>
  <dc:creator>Hermann </dc:creator>
  <dc:description/>
  <dc:language>en-US</dc:language>
  <cp:lastModifiedBy>Felipe Jaque</cp:lastModifiedBy>
  <dcterms:modified xsi:type="dcterms:W3CDTF">2006-11-03T12:46:28Z</dcterms:modified>
  <cp:revision>10</cp:revision>
  <dc:subject/>
  <dc:title>Inflación: origen, costos y estabilización </dc:title>
</cp:coreProperties>
</file>