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F9B-33CC-4259-968C-09EAC4CD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3C3-6F4F-4819-9890-56FD3A36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AB9-1294-44D6-B19B-B2F18B60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E76-CDB3-4231-BEC1-F7CC69B6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C30-5ACA-4AAE-AEA8-4FDD5B65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FAA-C679-421C-A2BE-4EABEE56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254-9D7F-4F10-9E94-4AF87C4C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C2C-193A-491C-AF9E-79EC31A8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00EF-ED55-43E7-96F5-E5CE3591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987-DFBD-4DEA-AB33-985E6D89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CA42-469E-4C4A-B7C6-2206AF83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558-7F9D-4F29-B869-2BDB120F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52DF-88A3-4467-A1F9-F735516296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 efecto de las mayores tasas sobre C e I se cono ce como efecto crowding out o expulsión, porque el aumento del gasto público expulsa gasto priv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Qué pasa con el nivel de equilibrio del producto y de los preci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R. Depende de la forma de la curva de OA y en última instancia, del supuesto sobre flexibilidad de sal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efectos de un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ducción de impues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bre la DA son los mismos que causa una expansión de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embargo, menores impuestos también pueden tener efectos positivos sobre la oferta, estimulando el empleo y la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o de 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duce un exceso de oferta de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onvierten su exceso de dinero en bonos (ahorran) haciendo caer las tasas de inte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aída en i, aumenta C e I, causando un aumento de la 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evamente, los efectos sobre el producto y los precios dependen del supuesto de O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Times New Roman"/>
              </a:rPr>
              <a:t>Qué pasa en el caso clás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 medida que P sube (OA inelástica) los saldos reales disminuyen, revirtiendo el aumento inici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s decir, de acuerdo al enfoque clásico, en el equilibrio final, el nivel de producto no ha variado y los precios suben en igual proporción que el aumento de M. M/P, i, también invaria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er casos especiales y otros tópicos en L&amp;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28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FOQUE IS-LM Y LA DEMANDA AGREG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sección estudiaremos como las políticas macroeconómicas afectan la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demanda agregada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por lo tanto, el producto y el emple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abemos que Qd = C + I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el consumo es una función decreciente de la tasa de interés, creciente del ingreso disponible corriente y 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C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su parte, la inversión también es una función inversa de la tasa de interés, pero además depende positivamente de la PMg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I = I ( i, PMgK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sí, la DA se puede expresar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Qd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 + I ( i, PMgK)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 forma útil de derivar la curva de demanda agregada y visualizar los efectos de las PM es el modelo IS-LM  (193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rva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versión-ahorro) relaciona el nivel de demanda agregada con el nivel de tasa de interés, manteniendo fijas otras variabl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o sabemos, un aumento de la tasa de interés deprime la DA por sus efectos sobre el consumo y la invers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 representar gráficamente esta relación encontramos una curva con pendiente negativa conocida como 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variables que mantuvimos constante determinan la posición de la 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sí, la IS se desplaza a la derecha si aumenta G, o el ingreso disponible o la PMg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curva L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terminar la tasa de interés, debemos considerar el mercado moneta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odemos expresar el equilibrio del mercado monetario de la siguiente for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M/P = L(i, Qd); es decir, la oferta de saldos reales (M/P) es igual a la demanda por saldos reales de dinero, dada por L(i, Q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La curva LM muestra las combinaciones de demanda agregada y tasa de interés consistentes con el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 del mercado monetario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para un nivel dado de M/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urva LM tiene pendiente positiva (¿por qué?) y su posición depende del valor de M/P en la econom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 equilibrio IS-L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graficado para G, T, M y P dado) determina el único par de tasa de interés y demanda de producto, para los cuales el mercado de bienes y el mercado monetario están simultáneamente en equilib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ve es recordar que para determinar el nivel de precios y de producto de la economía, debemos combinar la curva de DA (que se deriva de IS-LM) con la curva de OA (derivada las clases previas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rivar la curva de DA a partir de este modelo, debemos preguntarnos qué sucede si cambia P (recordemos que la DA muestra la relación existente entre Qd y 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 sube P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la IS no se modifica, pero M/P disminuye, generándose un exceso de demanda por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restablecer el equilibrio en este mercado, se requiere (i) un aumento de tasas de interés, (ii) una menor demanda de bienes y servicios o una combinación de amb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Vemos gráficamente que se produce ambos efectos, obteniéndose la curva de 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aumento del gasto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a reducción de impuest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incremento de la oferta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el gobiern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a el gas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para una tasa de interés dada, aumenta la demanda de bienes desplazando la IS a la derech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la tasa de interés no cambia, el incremento de la actividad produce un exceso de demanda por saldos monetarios r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ambian sus ahorros (bonos) por dinero, es decir, reducen su ahorro haciendo subir la tasa de interé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aumento de i, permite reducir el exceso de demanda por dinero y a la vez reduce el consumo y la inversión priva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5:52Z</dcterms:modified>
  <cp:revision>15</cp:revision>
  <dc:subject/>
  <dc:title>IS-LM</dc:title>
</cp:coreProperties>
</file>