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B4E-97FB-4093-979F-1D2A0A510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A67-620C-4C19-8DFA-E30043AA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ED3-0AEC-4E02-939D-BE0F641A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6C0-90ED-4D73-B3F6-768F2D67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91A-974E-46B6-BA76-9060BB1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354E-098C-498A-92B5-2F6942AC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57C-A2B4-4036-86C4-E27EF864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C068-AC75-4C3E-8852-01E44EFC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502-D9A3-4084-A747-8F16017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6CB-A161-4DE7-9A84-3F21BA1C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2C8-4A8E-4046-A2B9-56E75E23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1E7-9EBC-4B36-9141-257325B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BEAD-9D74-45C2-978A-CBA2455D8F1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6:10Z</dcterms:modified>
  <cp:revision>26</cp:revision>
  <dc:subject/>
  <dc:title>IS-LM</dc:title>
</cp:coreProperties>
</file>