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4BA7-7044-42D9-80FB-414A2E32E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F35D-6AFD-4088-A067-6909874C7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538E-A14B-49CC-BCAF-3DDF42675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8963-C8ED-4D64-A621-77AA2ED28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7F9E-CB4F-43DD-85EB-3D050F767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2D88-DF1A-4A46-9876-295B9D275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4317-2F1D-45BE-9361-C20375F99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F527-4570-41C3-84CA-B704D8EA2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DDB2-94A4-477C-BB0B-316278E60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B903-B03E-4120-B61A-694EA2CCC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B16B-0CB2-4ECE-8B1A-352A19DBE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E2FB-0E5D-4CE9-BD95-93D5E4764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572AB-D30A-4B68-882D-004F42ED155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-L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. Economía abier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-L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. Economía abierta: TC Flex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ómo cambian los efectos de las políticas macro si a parte de existir libre movilidad de capitales, la economía tiene TC flexible?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En el caso de la PF expansiva, el desplazamiento de la IS a la derecha ante el aumento de G hace que la tasa de interés local sea mayor que i*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Esto impulsa el ingreso de capitales y, en el caso en que hay TC flexible, una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apreciación del TC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sí, el saldo comercial se reduce y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la IS retrocede hacia su posición original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Finalmente,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Times New Roman"/>
              </a:rPr>
              <a:t>la DA no cambi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porque la caída de las exportaciones netas, compensa el aumento de G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omo vemos, el efecto expulsión se produce sobre la balanza comercial y no sobre I+C, como en el caso con TC fijo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938"/>
              </a:spcBef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938"/>
              </a:spcBef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uando el BC aumenta M, se produce una incipiente reducción de i, provocando una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salida de capitale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sí,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el TC se depreci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lo que hace mejorar la balanza comercial y la IS se desplaza a la derecha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En el nuevo equilibrio, la tasa de interés no cambia y la DA aumenta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Por lo tanto, en una economía abierta, con TC flexible y libre movilidad de capitales, la PM actúa a través de su efecto sobre el tipo de cambio. (La tasa de interés está dada)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938"/>
              </a:spcBef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938"/>
              </a:spcBef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En esta clase iniciaremos el estudio de las políticas macroeconómicas para el caso de una economía abierta </a:t>
            </a: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con tipo de cambio fijo</a:t>
            </a: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Al abrir la economía sabemos que la demanda agregada debe considerar la demanda externa neta por bienes nacionales (X-M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Además, debemos considerar que existe un nivel de precios externos que llamaremos P*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Se conoce como </a:t>
            </a:r>
            <a:r>
              <a:rPr b="0" lang="es-ES" sz="2500" spc="-1" strike="noStrike" u="sng">
                <a:solidFill>
                  <a:srgbClr val="000000"/>
                </a:solidFill>
                <a:uFillTx/>
                <a:latin typeface="Times New Roman"/>
              </a:rPr>
              <a:t>tipo de cambio real</a:t>
            </a: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 al ratio de precios extranjeros, respecto al precio de los bienes doméstico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Es decir, </a:t>
            </a: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TCR = eP*/P</a:t>
            </a: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, donde </a:t>
            </a: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 corresponde al TCN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La balanza comercial (X-M) depende positivamente del TCR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spcBef>
                <a:spcPts val="938"/>
              </a:spcBef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spcBef>
                <a:spcPts val="938"/>
              </a:spcBef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938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uando el TCR sube (depreciación real), los bienes extranjeros se encarecen respecto a los nacionales, por lo tanto, aumenta el volumen de exportaciones y disminuye el de importacione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938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IS economía abierta: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el principal cambio que se introduce es que la IS se desplaza a la derecha cuando aumentan las XN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938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En particular, un aumento de la demanda externa por bienes nacionales o una depreciación del TCR desplazarán la IS a la derecha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938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LM economía abierta: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abemos que esta curva representa el equilibrio del mercado del dinero donde la tasa de interés es un factor clave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938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938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38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Cuando abrimos la economía y suponemos libre movilidad de capitales, la tasa de interés relevante es la tasa de interés internacional: i*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938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Si hay libre movilidad de capitales, debe darse que i = i*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938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Esta relación se conoce como línea de </a:t>
            </a:r>
            <a:r>
              <a:rPr b="0" lang="es-ES" sz="2500" spc="-1" strike="noStrike" u="sng">
                <a:solidFill>
                  <a:srgbClr val="000000"/>
                </a:solidFill>
                <a:uFillTx/>
                <a:latin typeface="Times New Roman"/>
              </a:rPr>
              <a:t>movilidad de capitales (MC)</a:t>
            </a: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 y debe cumplirse en equilibrio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938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Por lo tanto, bajo libre movilidad de capitales, el equilibrio de una economía abierta se encuentra donde se intersectan IS, LM y MC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938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938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6761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1. Efectos de una expansión fiscal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2. Efectos de una expansión monetaria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3. Efectos de una devaluació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1. Expansión Fisca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El aumento de G desplaza la curva IS a la derecha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En una economía cerrada el equilibrio estaría en la intersección de la nueva IS con la LM inicial, pero este punto no cumple con la condición MC 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¿?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ransitoriamente, la tasa de interés local es mayor a i*, lo que lleva a los agentes a cambiar sus activos externos por moneda local (para aprovechar las tasas más altas)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omo el BC desea mantener el TC fijo comprará los activos externos, incrementando la cantidad de dinero (M) en la economía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sí la LM se desplaza a la derecha y se cumple el equilibrio IS-LM-MC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Se observa que la PF es altamente efectiva para incrementar la D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(bajo estos supuestos)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1. Expansión Fisca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Una diferencia clave con el caso de economía cerrada es que no se da crowding out, debido a que debe cumplirse la condición MC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Un análisis gráfico similar aplica para una devaluación de la moneda local, una reducción de impuestos, un aumento de la demanda externa o un aumento del ingreso futuro esperado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Cabe destacar que en el caso de una economía grande (US, ZE, Japón), la política fiscal tiene efectos en la tasa de interés internacional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Expansión Monet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. que el BC compra bonos domésticos, aumentando M (LM a la derecha). La intersección de la nueva LM con la IS no es de equilib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 familias tratan de cambiar el exceso de dinero por activos externos y el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C tiende a depreciars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BC vende divisas para mantener el TC fijo y en este proceso, saca dinero de la economía 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M vuelve a su posición origin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decir, la expansión monetaria (con TC fijo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 tiene efectos sobre la 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 hecho, con TC fijo y libre movilidad de capitales, el BC no tiene control sobre la oferta monetaria (el dinero es endógen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 efectos de la expansión monetaria son nulos? NO. El BC ha perdido reservas y las familias ganaron activos externo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Devalu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devaluación nominal genera un aumento del TCR (dados los niveles de P y P*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jora la balanza comercial y crece la DA para cualquier nivel de i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a IS se desplaza a la derech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incipiente aumento de la tasa local genera un exceso de divisas y de demanda por moneda local (por entrada de capitales o porque las familias cambian sus activos en moneda extranjer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BC compra las divisas para evitar que el TC se aprecie, y al comprar, aumenta la oferta monetaria (M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 el nuevo equilibrio, la DA aumenta, y los efectos son similares a los de un aumento de 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4T00:41:57Z</dcterms:created>
  <dc:creator>Hermann </dc:creator>
  <dc:description/>
  <dc:language>en-US</dc:language>
  <cp:lastModifiedBy>BCCH</cp:lastModifiedBy>
  <dcterms:modified xsi:type="dcterms:W3CDTF">2007-11-08T17:56:10Z</dcterms:modified>
  <cp:revision>26</cp:revision>
  <dc:subject/>
  <dc:title>IS-LM</dc:title>
</cp:coreProperties>
</file>