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983-7B10-4FE8-9D42-F48806CA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CE23-F213-465F-8386-4E776D9E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C2E-7616-4217-A00F-30D43541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8DCB-D1E6-4D79-A54F-44E11DDD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356-006C-4077-AD00-B1C7DE26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1B89-A953-41E1-83ED-80B3AA20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EA3-54BC-429B-A488-13D27672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71A-C5C4-4219-ACF0-F59D13E4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ABB2-BD35-43FB-B8CD-BF89A31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2AE-6D6E-4167-BE73-47DB7A50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1C0-0C20-43C3-8451-BA9BBD72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5E5E-AA60-4C7C-9508-D316CD70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71D6-0185-416B-AD3B-7B1B490EC6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. Economía abierta: TC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ómo cambian los efectos de las políticas macro si a parte de existir libre movilidad de capitales, la economía tiene TC flexible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caso de la PF expansiva, el desplazamiento de la IS a la derecha ante el aumento de G hace que la tasa de interés local sea mayor que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sto impulsa el ingreso de capitales y, en el caso en que hay TC flexible,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preciación del 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el saldo comercial se reduce y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a IS retrocede hacia su posición origina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nalmente,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imes New Roman"/>
              </a:rPr>
              <a:t>la DA no camb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porque la caída de las exportaciones netas, compensa el aumento de G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-26064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vemos, el efecto expulsión se produce sobre la balanza comercial y no sobre I+C, como en el caso con TC fij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BC aumenta M, se produce una incipiente reducción de i, provocando una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alida de capita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,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l TC se depreci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lo que hace mejorar la balanza comercial y la IS se desplaza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el nuevo equilibrio, la tasa de interés no cambia y la DA aumen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r lo tanto, en una economía abierta, con TC flexible y libre movilidad de capitales, la PM actúa a través de su efecto sobre el tipo de cambio. (La tasa de interés está dada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clase iniciaremos el estudio de las políticas macroeconómicas para el caso de una economía abierta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con tipo de cambio fijo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l abrir la economía sabemos que la demanda agregada debe considerar la demanda externa neta por bienes nacionales (X-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debemos considerar que existe un nivel de precios externos que llamaremos P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e conoce como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tipo de cambio real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al ratio de precios extranjeros, respecto al precio de los bienes doméstic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TCR = eP*/P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, donde </a:t>
            </a: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corresponde al TC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938"/>
              </a:spcBef>
              <a:spcAft>
                <a:spcPts val="938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La balanza comercial (X-M) depende positivamente del TC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spcBef>
                <a:spcPts val="938"/>
              </a:spcBef>
              <a:spcAft>
                <a:spcPts val="9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uando el TCR sube (depreciación real), los bienes extranjeros se encarecen respecto a los nacionales, por lo tanto, aumenta el volumen de exportaciones y disminuye el de importacio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S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principal cambio que se introduce es que la IS se desplaza a la derecha cuando aumentan las XN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particular, un aumento de la demanda externa por bienes nacionales o una depreciación del TCR desplazarán la IS a la derech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LM economía abierta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abemos que esta curva representa el equilibrio del mercado del dinero donde la tasa de interés es un factor clav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uando abrimos la economía y suponemos libre movilidad de capitales, la tasa de interés relevante es la tasa de interés internacional: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i hay libre movilidad de capitales, debe darse que i = i*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ta relación se conoce como línea de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movilidad de capitales (MC)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debe cumplirse en equilibri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38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lo tanto, bajo libre movilidad de capitales, el equilibrio de una economía abierta se encuentra donde se intersectan IS, LM y MC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38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1. Efectos de una expansión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2. Efectos de una expansión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3. Efectos de una devaluación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l aumento de G desplaza la curva IS a la derech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n una economía cerrada el equilibrio estaría en la intersección de la nueva IS con la LM inicial, pero este punto no cumple con la condición MC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¿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itoriamente, la tasa de interés local es mayor a i*, lo que lleva a los agentes a cambiar sus activos externos por moneda local (para aprovechar las tasas más alta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mo el BC desea mantener el TC fijo comprará los activos externos, incrementando la cantidad de dinero (M) en la economía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sí la LM se desplaza a la derecha y se cumple el equilibrio IS-LM-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e observa que la PF es altamente efectiva para incrementar la 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(bajo estos supuesto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Times New Roman"/>
              </a:rPr>
              <a:t>1. Expansión Fisc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a diferencia clave con el caso de economía cerrada es que no se da crowding out, debido a que debe cumplirse la condición M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Un análisis gráfico similar aplica para una devaluación de la moneda local, una reducción de impuestos, un aumento de la demanda externa o un aumento del ingreso futuro esperado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24"/>
              </a:spcBef>
              <a:spcAft>
                <a:spcPts val="624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Cabe destacar que en el caso de una economía grande (US, ZE, Japón), la política fiscal tiene efectos en la tasa de interés internaciona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Expansión Mone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. que el BC compra bonos domésticos, aumentando M (LM a la derecha). La intersección de la nueva LM con la IS no es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familias tratan de cambiar el exceso de dinero por activos externos y el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C tiende a depreci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vende divisas para mantener el TC fijo y en este proceso, saca dinero de la economía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M vuelve a su posición origi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decir, la expansión monetaria (con TC fijo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tiene efectos sobre la 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hecho, con TC fijo y libre movilidad de capitales, el BC no tiene control sobre la oferta monetaria (el dinero es endóge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 expansión monetaria son nulos? NO. El BC ha perdido reservas y las familias ganaron activos extern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devaluación nominal genera un aumento del TCR (dados los niveles de P y P*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jora la balanza comercial y crece la DA para cualquier nivel de 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 IS se desplaza 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incipiente aumento de la tasa local genera un exceso de divisas y de demanda por moneda local (por entrada de capitales o porque las familias cambian sus activos en moneda extranje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BC compra las divisas para evitar que el TC se aprecie, y al comprar, aumenta la oferta monetaria (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el nuevo equilibrio, la DA aumenta, y los efectos son similares a los de un aumento de 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6:10Z</dcterms:modified>
  <cp:revision>26</cp:revision>
  <dc:subject/>
  <dc:title>IS-LM</dc:title>
</cp:coreProperties>
</file>