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AE8-4FCE-481A-A066-8BB3805C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11D-FCBE-43BC-B454-D28E03F8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93B-7312-4336-A301-CA99F9B1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D22-8986-40B2-BB5E-25886051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E09-C665-45DA-8AD9-A55DFCFA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79F-1F4C-4649-94F9-F77C7FBA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9C3-2027-438C-89C3-6CA5222B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C50-22E6-444F-BB23-C45F51F5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18E-3068-4791-AF9E-2CC723A4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9B6-A5AF-408F-BB6F-15D3DF1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F4B-0BF7-4809-B22D-1FD828C7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CB5-0788-44D4-A09E-719191BF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2DD-8B09-4508-B0C8-F3CAF545BA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: TC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ómo cambian los efectos de las políticas macro si a parte de existir libre movilidad de capitales, la economía tiene TC flexi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caso de la PF expansiva, el desplazamiento de la IS a la derecha ante el aumento de G hace que la tasa de interés local sea mayor que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sto impulsa el ingreso de capitales y, en el caso en que hay TC flexible,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reciación del 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el saldo comercial se reduce y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a IS retrocede hacia su posición origin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almen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la DA no camb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porque la caída de las exportaciones netas, compensa el aumento de G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vemos, el efecto expulsión se produce sobre la balanza comercial y no sobre I+C, como en el caso con TC fij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BC aumenta M, se produce una incipiente reducción de i, provocando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alida de capit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 TC se deprec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lo que hace mejorar la balanza comercial y la IS se desplaza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nuevo equilibrio, la tasa de interés no cambia y la DA aumen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 lo tanto, en una economía abierta, con TC flexible y libre movilidad de capitales, la PM actúa a través de su efecto sobre el tipo de cambio. (La tasa de interés está dada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clase iniciaremos el estudio de las políticas macroeconómicas para el caso de una economía abierta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con tipo de cambio fijo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l abrir la economía sabemos que la demanda agregada debe considerar la demanda externa neta por bienes nacionales (X-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debemos considerar que existe un nivel de precios externos que llamaremos P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e conoce como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tipo de cambio real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al ratio de precios extranjeros, respecto al precio de los bienes domést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TCR = eP*/P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, donde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corresponde al TC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La balanza comercial (X-M) depende positivamente del TC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TCR sube (depreciación real), los bienes extranjeros se encarecen respecto a los nacionales, por lo tanto, aumenta el volumen de exportaciones y disminuye el de importaci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principal cambio que se introduce es que la IS se desplaza a la derecha cuando aumentan las X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particular, un aumento de la demanda externa por bienes nacionales o una depreciación del TCR desplazarán la IS a la derech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M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abemos que esta curva representa el equilibrio del mercado del dinero donde la tasa de interés es un factor clav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uando abrimos la economía y suponemos libre movilidad de capitales, la tasa de interés relevante es la tasa de interés internacional: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i hay libre movilidad de capitales, debe darse que i =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ta relación se conoce como línea de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movilidad de capitales (MC)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debe cumplirse en equilib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lo tanto, bajo libre movilidad de capitales, el equilibrio de una economía abierta se encuentra donde se intersectan IS, LM y M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Efectos de una expansión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Efectos de una expansión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. Efectos de una devalu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aumento de G desplaza la curva IS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una economía cerrada el equilibrio estaría en la intersección de la nueva IS con la LM inicial, pero este punto no cumple con la condición MC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itoriamente, la tasa de interés local es mayor a i*, lo que lleva a los agentes a cambiar sus activos externos por moneda local (para aprovechar las tasas más alta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el BC desea mantener el TC fijo comprará los activos externos, incrementando la cantidad de dinero (M) en la economí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 la LM se desplaza a la derecha y se cumple el equilibrio IS-LM-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 observa que la PF es altamente efectiva para incrementar la 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bajo estos supuesto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a diferencia clave con el caso de economía cerrada es que no se da crowding out, debido a que debe cumplirse la condición 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 análisis gráfico similar aplica para una devaluación de la moneda local, una reducción de impuestos, un aumento de la demanda externa o un aumento del ingreso futuro esperado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abe destacar que en el caso de una economía grande (US, ZE, Japón), la política fiscal tiene efectos en la tasa de interés internaciona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xpansión Mon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. que el BC compra bonos domésticos, aumentando M (LM a la derecha). La intersección de la nueva LM con la IS no es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amilias tratan de cambiar el exceso de dinero por activos externos y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C tiende a depreci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vende divisas para mantener el TC fijo y en este proceso, saca dinero de la economí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 vuelve a su posición orig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decir, la expansión monetaria (con TC fijo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iene efectos sobre la 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hecho, con TC fijo y libre movilidad de capitales, el BC no tiene control sobre la oferta monetaria (el dinero es endóg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 expansión monetaria son nulos? NO. El BC ha perdido reservas y las familias ganaron activos extern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valuación nominal genera un aumento del TCR (dados los niveles de P y P*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 la balanza comercial y crece la DA para cualquier nivel de 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IS se desplaza 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incipiente aumento de la tasa local genera un exceso de divisas y de demanda por moneda local (por entrada de capitales o porque las familias cambian sus activos en moneda extranj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compra las divisas para evitar que el TC se aprecie, y al comprar, aumenta la oferta monetaria 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nuevo equilibrio, la DA aumenta, y los efectos son similares a los de un aumento de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6:10Z</dcterms:modified>
  <cp:revision>26</cp:revision>
  <dc:subject/>
  <dc:title>IS-LM</dc:title>
</cp:coreProperties>
</file>