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068A-B59F-4B0D-A0E1-E84967FE4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02C9-D1F8-450B-ADE7-E82B2F71C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6D18-2390-4BEB-BBC5-E32D84917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679C-35AE-4085-BB35-4FB208703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AE2F-24FE-48B3-9139-75F3672B3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58A8-9AC5-4D0A-8A68-A150AD8C1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F382-94F6-4D39-B7E0-9726A0F77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4B2E-9436-4978-A43E-BD225082F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E28C-5137-47BD-A706-80C3AD2FA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1588-7E6E-4C7C-8337-DDFCED58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C53E-3B52-42BA-9C1D-3B1BF973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658E-852A-49E5-B5E7-7E20F100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E67CD-7865-43EC-956B-291DC22B164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-L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. Economía cer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El efecto de las mayores tasas sobre C e I se cono ce como efecto crowding out o expulsión, porque el aumento del gasto público expulsa gasto privad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Times New Roman"/>
              </a:rPr>
              <a:t>Qué pasa con el nivel de equilibrio del producto y de los precio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R. Depende de la forma de la curva de OA y en última instancia, del supuesto sobre flexibilidad de salario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os efectos de una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ducción de impuesto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obre la DA son los mismos que causa una expansión de G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n embargo, menores impuestos también pueden tener efectos positivos sobre la oferta, estimulando el empleo y la inversió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n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umento de 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produce un exceso de oferta de diner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as familias convierten su exceso de dinero en bonos (ahorran) haciendo caer las tasas de interé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a caída en i, aumenta C e I, causando un aumento de la DA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uevamente, los efectos sobre el producto y los precios dependen del supuesto de OA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100" spc="-1" strike="noStrike">
                <a:solidFill>
                  <a:srgbClr val="000000"/>
                </a:solidFill>
                <a:latin typeface="Times New Roman"/>
              </a:rPr>
              <a:t>Qué pasa en el caso clásico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A medida que P sube (OA inelástica) los saldos reales disminuyen, revirtiendo el aumento inicial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Es decir, de acuerdo al enfoque clásico, en el equilibrio final, el nivel de producto no ha variado y los precios suben en igual proporción que el aumento de M. M/P, i, también invariable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Times New Roman"/>
              </a:rPr>
              <a:t>Ver casos especiales y otros tópicos en L&amp;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-L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. Economía cer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2628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NFOQUE IS-LM Y LA DEMANDA AGREGAD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En esta sección estudiaremos como las políticas macroeconómicas afectan la </a:t>
            </a:r>
            <a:r>
              <a:rPr b="0" lang="es-ES" sz="2500" spc="-1" strike="noStrike" u="sng">
                <a:solidFill>
                  <a:srgbClr val="000000"/>
                </a:solidFill>
                <a:uFillTx/>
                <a:latin typeface="Times New Roman"/>
              </a:rPr>
              <a:t>demanda agregada</a:t>
            </a: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 y por lo tanto, el producto y el empleo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Sabemos que Qd = C + I + 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Además, el consumo es una función decreciente de la tasa de interés, creciente del ingreso disponible corriente y esperado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Es decir, C = C (i, Q-T, (Q-T)</a:t>
            </a:r>
            <a:r>
              <a:rPr b="0" lang="es-ES" sz="2500" spc="-1" strike="noStrike" baseline="30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Por su parte, la inversión también es una función inversa de la tasa de interés, pero además depende positivamente de la PMgK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I = I ( i, PMgK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Así, la DA se puede expresar como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Qd = C (i, Q-T, (Q-T)</a:t>
            </a:r>
            <a:r>
              <a:rPr b="0" lang="es-ES" sz="2500" spc="-1" strike="noStrike" baseline="30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) + I ( i, PMgK) + 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na forma útil de derivar la curva de demanda agregada y visualizar los efectos de las PM es el modelo IS-LM  (1937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La curva I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inversión-ahorro) relaciona el nivel de demanda agregada con el nivel de tasa de interés, manteniendo fijas otras variable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mo sabemos, un aumento de la tasa de interés deprime la DA por sus efectos sobre el consumo y la inversión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l representar gráficamente esta relación encontramos una curva con pendiente negativa conocida como I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as variables que mantuvimos constante determinan la posición de la I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Así, la IS se desplaza a la derecha si aumenta G, o el ingreso disponible o la PMgK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La curva LM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Para determinar la tasa de interés, debemos considerar el mercado monetario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Podemos expresar el equilibrio del mercado monetario de la siguiente forma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M/P = L(i, Qd); es decir, la oferta de saldos reales (M/P) es igual a la demanda por saldos reales de dinero, dada por L(i, Qd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La curva LM muestra las combinaciones de demanda agregada y tasa de interés consistentes con el </a:t>
            </a:r>
            <a:r>
              <a:rPr b="0" lang="es-ES" sz="2600" spc="-1" strike="noStrike" u="sng">
                <a:solidFill>
                  <a:srgbClr val="000000"/>
                </a:solidFill>
                <a:uFillTx/>
                <a:latin typeface="Times New Roman"/>
              </a:rPr>
              <a:t>equilibrio del mercado monetario</a:t>
            </a: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, para un nivel dado de M/P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a curva LM tiene pendiente positiva (¿por qué?) y su posición depende del valor de M/P en la economí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 equilibrio IS-L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graficado para G, T, M y P dado) determina el único par de tasa de interés y demanda de producto, para los cuales el mercado de bienes y el mercado monetario están simultáneamente en equilibrio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ave es recordar que para determinar el nivel de precios y de producto de la economía, debemos combinar la curva de DA (que se deriva de IS-LM) con la curva de OA (derivada las clases previas)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Para derivar la curva de DA a partir de este modelo, debemos preguntarnos qué sucede si cambia P (recordemos que la DA muestra la relación existente entre Qd y P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000000"/>
                </a:solidFill>
                <a:uFillTx/>
                <a:latin typeface="Times New Roman"/>
              </a:rPr>
              <a:t>Si sube P</a:t>
            </a: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, la IS no se modifica, pero M/P disminuye, generándose un exceso de demanda por diner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Para restablecer el equilibrio en este mercado, se requiere (i) un aumento de tasas de interés, (ii) una menor demanda de bienes y servicios o una combinación de ambo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Vemos gráficamente que se produce ambos efectos, obteniéndose la curva de D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Efectos de un aumento del gasto fiscal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Efectos de una reducción de impuesto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Efectos de un incremento de la oferta monetaria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 el gobierno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umenta el gast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para una tasa de interés dada, aumenta la demanda de bienes desplazando la IS a la derech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 la tasa de interés no cambia, el incremento de la actividad produce un exceso de demanda por saldos monetarios real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as familias cambian sus ahorros (bonos) por dinero, es decir, reducen su ahorro haciendo subir la tasa de interé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l aumento de i, permite reducir el exceso de demanda por dinero y a la vez reduce el consumo y la inversión privada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4T00:41:57Z</dcterms:created>
  <dc:creator>Hermann </dc:creator>
  <dc:description/>
  <dc:language>en-US</dc:language>
  <cp:lastModifiedBy>BCCH</cp:lastModifiedBy>
  <dcterms:modified xsi:type="dcterms:W3CDTF">2007-11-08T17:55:52Z</dcterms:modified>
  <cp:revision>15</cp:revision>
  <dc:subject/>
  <dc:title>IS-LM</dc:title>
</cp:coreProperties>
</file>