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0D05-EFBC-4A51-B57C-A9085571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CD74-B8AC-46DC-94F1-E391EF27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308-AFB4-48F9-A6CA-C4BC6C2BB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700-CF83-451B-8E1A-11A13A6E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BA7-CEBD-470D-9D04-2741A47B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7C60-D9D4-43D1-B386-EDCE5F04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A791-4982-42A3-BD8B-2BA6139AF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1938-E3D5-433D-B34C-E7712CE6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7B8-15C2-46A7-B7A1-5737E964F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3717-AD30-4A7C-B55A-42B71084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ABF2-32EC-4D8B-8EF5-ECBC54BB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04A8-032C-4D51-AE10-8E546647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F632-EED8-4E8D-ADAC-2BB4AE2832DD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Economía cer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El efecto de las mayores tasas sobre C e I se cono ce como efecto crowding out o expulsión, porque el aumento del gasto público expulsa gasto privad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Qué pasa con el nivel de equilibrio del producto y de los precio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R. Depende de la forma de la curva de OA y en última instancia, del supuesto sobre flexibilidad de salario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os efectos de una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reducción de impuesto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sobre la DA son los mismos que causa una expansión de G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n embargo, menores impuestos también pueden tener efectos positivos sobre la oferta, estimulando el empleo y la inversió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umento de 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produce un exceso de oferta de din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familias convierten su exceso de dinero en bonos (ahorran) haciendo caer las tasas de interé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 caída en i, aumenta C e I, causando un aumento de la D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Nuevamente, los efectos sobre el producto y los precios dependen del supuesto de O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Times New Roman"/>
              </a:rPr>
              <a:t>Qué pasa en el caso clásico?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A medida que P sube (OA inelástica) los saldos reales disminuyen, revirtiendo el aumento inicial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Times New Roman"/>
              </a:rPr>
              <a:t>Es decir, de acuerdo al enfoque clásico, en el equilibrio final, el nivel de producto no ha variado y los precios suben en igual proporción que el aumento de M. M/P, i, también invariable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Times New Roman"/>
              </a:rPr>
              <a:t>Ver casos especiales y otros tópicos en L&amp;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-L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. Economía cer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2628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NFOQUE IS-LM Y LA DEMANDA AGREGAD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n esta sección estudiaremos como las políticas macroeconómicas afectan la </a:t>
            </a:r>
            <a:r>
              <a:rPr b="0" lang="es-ES" sz="2500" spc="-1" strike="noStrike" u="sng">
                <a:solidFill>
                  <a:srgbClr val="000000"/>
                </a:solidFill>
                <a:uFillTx/>
                <a:latin typeface="Times New Roman"/>
              </a:rPr>
              <a:t>demanda agregada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 y por lo tanto, el producto y el emple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Sabemos que Qd = C + I + 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demás, el consumo es una función decreciente de la tasa de interés, creciente del ingreso disponible corriente y esperado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Es decir, C = C (i, Q-T, (Q-T)</a:t>
            </a:r>
            <a:r>
              <a:rPr b="0" lang="es-ES" sz="25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Por su parte, la inversión también es una función inversa de la tasa de interés, pero además depende positivamente de la PMgK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I = I ( i, PMgK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Así, la DA se puede expresar como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Qd = C (i, Q-T, (Q-T)</a:t>
            </a:r>
            <a:r>
              <a:rPr b="0" lang="es-ES" sz="2500" spc="-1" strike="noStrike" baseline="30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500" spc="-1" strike="noStrike">
                <a:solidFill>
                  <a:srgbClr val="000000"/>
                </a:solidFill>
                <a:latin typeface="Times New Roman"/>
              </a:rPr>
              <a:t>) + I ( i, PMgK) + 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a forma útil de derivar la curva de demanda agregada y visualizar los efectos de las PM es el modelo IS-LM  (1937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La curva IS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inversión-ahorro) relaciona el nivel de demanda agregada con el nivel de tasa de interés, manteniendo fijas otras variable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mo sabemos, un aumento de la tasa de interés deprime la DA por sus efectos sobre el consumo y la inversión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l representar gráficamente esta relación encontramos una curva con pendiente negativa conocida como I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variables que mantuvimos constante determinan la posición de la I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Así, la IS se desplaza a la derecha si aumenta G, o el ingreso disponible o la PMgK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La curva L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determinar la tasa de interés, debemos considerar el mercado monetari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odemos expresar el equilibrio del mercado monetario de la siguiente forma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M/P = L(i, Qd); es decir, la oferta de saldos reales (M/P) es igual a la demanda por saldos reales de dinero, dada por L(i, Qd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La curva LM muestra las combinaciones de demanda agregada y tasa de interés consistentes con el </a:t>
            </a:r>
            <a:r>
              <a:rPr b="0" lang="es-ES" sz="2600" spc="-1" strike="noStrike" u="sng">
                <a:solidFill>
                  <a:srgbClr val="000000"/>
                </a:solidFill>
                <a:uFillTx/>
                <a:latin typeface="Times New Roman"/>
              </a:rPr>
              <a:t>equilibrio del mercado monetario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, para un nivel dado de M/P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 curva LM tiene pendiente positiva (¿por qué?) y su posición depende del valor de M/P en la economí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El equilibrio IS-LM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(graficado para G, T, M y P dado) determina el único par de tasa de interés y demanda de producto, para los cuales el mercado de bienes y el mercado monetario están simultáneamente en equilibrio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ave es recordar que para determinar el nivel de precios y de producto de la economía, debemos combinar la curva de DA (que se deriva de IS-LM) con la curva de OA (derivada las clases previas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derivar la curva de DA a partir de este modelo, debemos preguntarnos qué sucede si cambia P (recordemos que la DA muestra la relación existente entre Qd y P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Times New Roman"/>
              </a:rPr>
              <a:t>Si sube P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, la IS no se modifica, pero M/P disminuye, generándose un exceso de demanda por diner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Para restablecer el equilibrio en este mercado, se requiere (i) un aumento de tasas de interés, (ii) una menor demanda de bienes y servicios o una combinación de ambo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Vemos gráficamente que se produce ambos efectos, obteniéndose la curva de D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 aumento del gasto fiscal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a reducción de impuesto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2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Efectos de un incremento de la oferta monetaria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 el gobierno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umenta el gasto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, para una tasa de interés dada, aumenta la demanda de bienes desplazando la IS a la derech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 la tasa de interés no cambia, el incremento de la actividad produce un exceso de demanda por saldos monetarios rea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familias cambian sus ahorros (bonos) por dinero, es decir, reducen su ahorro haciendo subir la tasa de interé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l aumento de i, permite reducir el exceso de demanda por dinero y a la vez reduce el consumo y la inversión privad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0:41:57Z</dcterms:created>
  <dc:creator>Hermann </dc:creator>
  <dc:description/>
  <dc:language>en-US</dc:language>
  <cp:lastModifiedBy>BCCH</cp:lastModifiedBy>
  <dcterms:modified xsi:type="dcterms:W3CDTF">2007-11-08T17:55:52Z</dcterms:modified>
  <cp:revision>15</cp:revision>
  <dc:subject/>
  <dc:title>IS-LM</dc:title>
</cp:coreProperties>
</file>