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CE978-5C01-4D62-87E3-49524AF6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8173C-763A-41A9-8DD9-D0EB056A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9E510-176A-49E8-9F43-58C4A768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E6FE1-C899-4987-BBFF-FDC2F795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8B8E-FCE7-4AC3-AE7A-AB516E7A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6A3A-CD6D-4870-AFC5-59FFF494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430E-0566-43E1-9C01-37490A5F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DDC9-1DEF-4994-9942-40570FE8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131E-925D-425D-BD0F-A4D29E09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B011-C106-4901-B10E-957927F5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BC6A-4FDF-45B5-A58C-DC3BEE76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45A4A-72E3-4884-9526-C86C34E1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F93D-9E06-4E7C-97A0-FBA1074A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3667-578F-44F4-BBB5-63C3618B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BC0F-3E3B-4E15-BC9E-231F7D41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7D0C-49D1-4D9C-8DAA-37E50D2B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44B2-0956-4939-AB71-FC69DAD9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A0CCB-5286-499D-B984-60FB312B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C979A-8094-4E33-AE2F-41D02AAF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B0D66-1A96-48FB-B400-D482270A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AA3EE-E919-42A9-B580-30E960F5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CF15F-3299-4FAA-B57D-3E047BFA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DC316-8F92-48C8-A9F2-F15B9503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72C55-1D86-4A11-9CD7-1EE6CD3C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7628-7F7C-49EF-8E0D-450668A78D8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EF31-B8CC-4D70-A085-4D395733AE8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7d"/>
                </a:solidFill>
                <a:latin typeface="Arial"/>
              </a:rPr>
              <a:t>DERECHO PROCESAL IV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LOS PROCEDIMIENTOS PE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677F8-5024-4056-83CC-428BB01BAD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333360"/>
            <a:ext cx="8893080" cy="64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 clas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9:45 - 10: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nicio y término de clas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 01 de agosto – 09 de noviem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Asistencia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i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y Exa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Viernes 07 de septiembre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01 de octubre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05 de noviembre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xamen final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artes 18 de diciembre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8:30 H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Rezagados: El curso no considera tomar controles rezag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structura de los controles y ponderación. Preguntas de selección múltiple, verdadero y falso, preguntas abiertas y ca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ada tipo de pregunta tiene un puntaje determinado a indicar en cada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Preguntas de selección múltiple y de verdadero y falso, tres respuestas incorrectas, descuentan una correc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as preguntas abiertas y los casos no descuentan punt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Duración de los controles: 90-120 min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De los tres controles parciales, para la ponderación final se considerarán </a:t>
            </a:r>
            <a:r>
              <a:rPr b="1" lang="es-CL" sz="1200" spc="-1" strike="noStrike">
                <a:solidFill>
                  <a:srgbClr val="00007d"/>
                </a:solidFill>
                <a:latin typeface="Tahoma"/>
              </a:rPr>
              <a:t>sólo do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, eliminándose la calificación más baja o la que no se hubiere rendi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: 60%. Examen: 40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380360" y="907920"/>
            <a:ext cx="1612800" cy="92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95EF7-570C-4CDC-AA84-66C82979D0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480960"/>
            <a:ext cx="8893080" cy="58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7d"/>
                </a:solidFill>
                <a:latin typeface="Tahoma"/>
              </a:rPr>
              <a:t>DERECHO PROCESAL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LOS PROCEDIMIENTOS PE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INTRODUC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proceso penal como via de solución del conflict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sistemas procesales pe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principios y garantías del sistema procesal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sistema Procesal Penal chileno del Código de Procedimiento Penal y del Nuevo Código Procesal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plicación de las instituciones y disposiciones comunes del procedimiento civil en el procedimient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A AC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acción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acción civil en el proces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I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OS SUJETOS PROCES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tribunal (jueces de garantía y tribunales de juicio ora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Ministerio Pu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Polic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impu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defen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vict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querell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actor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FCF41-E30B-47AA-8E61-0A74D835E9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9280" y="549360"/>
            <a:ext cx="896472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V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 LOS PROCEDIMIENTOS EN EL NUEVO CODIGO PROCESAL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oncep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lasif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p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AS MEDIDAS CAUTELARES EN EL PROCES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5.1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s medidas cautelares personales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.- La ci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b.- La deten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.- La prisión preven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d.- Otras medidas caute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5.2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s medidas cautelares re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EL PROCEDIMIENTO ORDINARI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6.1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 etapa de investig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.-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Formas de iniciar el procedimiento. Iniciativa de fiscales, denuncia y querel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b.-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facultad de no iniciar la investigacion y el archivo provisio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principio de oportun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d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formalizacion de la investig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s diligencias de investigacion y su control por parte del juez de gara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f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mecanismos de aceleracion de la investigacion: Plazo para formalizar la investigacion; plazo para cerrar la investigacion, juicio inmediato y procedimiento abrevi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g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s salidas alternativas: suspension condicional del procedimiento y acuerdos reparato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h.-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onclusión de la investigación: cierre de la investigación, sobreseimiento y decisión del ministerio público de no perseverar en el proced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9C01D-6C27-49E6-9DE2-2AACB763B2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0920" y="620640"/>
            <a:ext cx="8893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6.2.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La etapa interme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La acus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Audiencia de preparación del juicio or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6.3.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El juicio 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Dirección y discipl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Desarrollo y registro del juicio oral. Principios formativos que lo infor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.- Los Medios de prueba en particular y el sistema de valoración de la pru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d.- Sentencia defini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ABREVI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I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SIMPLIFIC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Monit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Simplificado ordin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X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PROCEDIMIENTO ACCION PENAL PRIV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X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BREVES NOCIONES DE LOS PROCEDIMIENTOS ESPE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El procedimiento por crimen o simple delito contra personas aus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El procedimiento relativo a persona que tiene fu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.- La querella de cap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7d"/>
                </a:solidFill>
                <a:latin typeface="Tahoma"/>
              </a:rPr>
              <a:t>d.- La extradición:</a:t>
            </a:r>
            <a:r>
              <a:rPr b="0" lang="fr-FR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) Extradición act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) Extradición pas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) Aplicación de código de derecho internacional priv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X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DE CUMPLIMIENTO DE LA SENTENCIA DEFINITIVA PRONUNCIADA EN EL PROCEDIMIENT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F8419-D957-4FA1-820B-8AA079B5FA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rtectc</cp:lastModifiedBy>
  <dcterms:modified xsi:type="dcterms:W3CDTF">2007-07-31T19:52:53Z</dcterms:modified>
  <cp:revision>758</cp:revision>
  <dc:subject/>
  <dc:title>PowerPoint Presentation</dc:title>
</cp:coreProperties>
</file>