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C9F4-7EF7-4DEE-8972-751E4433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C291-B675-434B-9D9F-82BE6E0D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77DC-BC46-4AB8-AB36-F1A43B10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FA37-A60C-41CA-B43D-2C86E361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0625-8B09-4CD4-A8ED-BA4F2B53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EB3A-3C9C-445E-B197-B39919D4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25B4-6826-4CC6-AA9F-3755EE2F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EACB-1F78-460C-8564-883271DA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1E61-3D7E-44E8-8D55-F510C7BD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F694-B19E-4B5A-BF92-D1702F27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7DA8-AC8D-48FF-B00A-281247F6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E1FE-A701-430F-843A-50CD5A6C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2113-DBD6-46CC-A7A7-72C314AB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0D04-6AF8-42F6-BC19-6B246CDD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0A12-4EB7-480D-A831-4E5D5358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F8B0-FCC1-44A1-A443-FF1BECC2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72D9-DF85-49CB-82F5-F94BA68A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9ECC-37C4-48B7-818F-89D2E821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AF12-9634-4330-8323-BFC4489D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E541-F7F3-4277-AE15-AF315FCE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311B-D08C-4E20-B199-77F6C8B6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78D9-1F29-4BF8-9290-60E87155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BA4C-C9A0-401A-9369-11EC5986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4943-D847-4BAA-9D79-D9898D09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7A55-D622-4FEE-9732-4131AB77553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DD91-25B8-4EFF-8A33-A800D08FDE8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Arial"/>
              </a:rPr>
              <a:t>DERECHO PROCESAL IV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LOS PROCEDIMIENTOS PE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E840-5478-4F54-B476-07260DB84F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 01 de agosto – 09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Viernes 07 de sept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1 de octu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noviembre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artes 18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8:30 H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2D0D-C820-4ADB-B53F-695620CE6A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0960"/>
            <a:ext cx="8893080" cy="58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LOS PROCEDIMIENTO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oceso penal como via de solución del conflic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sistemas procesales pe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principios y garantías del sistema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sistema Procesal Penal chileno del Código de Procedimiento Penal y del Nuevo Có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 de las instituciones y disposiciones comunes del procedimiento civil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 A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acción civil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I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OS SUJE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tribunal (jueces de garantía y tribunales de juicio ora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Ministerio Pu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Poli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impu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def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vic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querell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actor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6FD8-11FF-43F7-B064-30CDE89440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549360"/>
            <a:ext cx="8964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V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 LOS PROCEDIMIENTOS EN EL NUEVO CODIGO PROCESAL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las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p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LAS MEDIDAS CAUTELARES EN EL PROCES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personales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 La ci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 La det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La prisión preven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Otras medida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5.2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s medidas cautelares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 </a:t>
            </a: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: EL PROCEDIMIENTO ORDINARI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d"/>
                </a:solidFill>
                <a:latin typeface="Tahoma"/>
              </a:rPr>
              <a:t>6.1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 La etapa de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ormas de iniciar el procedimiento. Iniciativa de fiscales, denuncia y quer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b.-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acultad de no iniciar la investigacion y el archivo provisio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c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l principio de oportun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d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 formalizacion de la investi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e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diligencias de investigacion y su control por parte del juez de gar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os mecanismos de aceleracion de la investigacion: Plazo para formalizar la investigacion; plazo para cerrar la investigacion, juicio inmediato y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g.- 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Las salidas alternativas: suspension condicional del procedimiento y acuerdos 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h.-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lusión de la investigación: cierre de la investigación, sobreseimiento y decisión del ministerio público de no perseverar en 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11D6-DF6A-458B-8D7A-A6B16A8803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62064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2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La etapa inter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La acus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Audiencia de preparación del juicio o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6.3.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El juicio 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Dirección y discip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Desarrollo y registro del juicio oral. Principios formativos que lo infor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os Medios de prueba en particular y el sistema de valoració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.-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ABREVI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VII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SIMPL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Monit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Simplificado ordi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I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PROCEDIMIENTO ACCION PENAL PR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BREVES NOCIONES DE LOS PROCEDIMIENTO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.- El procedimiento por crimen o simple delito contra personas aus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.- El procedimiento relativo a persona que tiene f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.- La querella de cap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d.- La extradición:</a:t>
            </a:r>
            <a:r>
              <a:rPr b="0" lang="fr-FR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) Extradición a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b) Extradición pas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) Aplicación de código de derecho internacional pr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7d"/>
                </a:solidFill>
                <a:uFillTx/>
                <a:latin typeface="Tahoma"/>
              </a:rPr>
              <a:t>CAPITULO XI </a:t>
            </a: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: EL PROCEDIMIENTO DE CUMPLIMIENTO DE LA SENTENCIA DEFINITIVA PRONUNCIADA EN EL PROCEDIMIENTO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80360" y="907920"/>
            <a:ext cx="161280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0548-8B36-457D-ACAC-9F2DF93CB7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ctc</cp:lastModifiedBy>
  <dcterms:modified xsi:type="dcterms:W3CDTF">2007-07-31T19:52:53Z</dcterms:modified>
  <cp:revision>758</cp:revision>
  <dc:subject/>
  <dc:title>PowerPoint Presentation</dc:title>
</cp:coreProperties>
</file>