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82AD-DF31-4DBA-A00A-AC0189A9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1663-6D9D-4292-BC2E-B073D6F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1B7E-E02B-45BB-BF29-0B1CD973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3862-008C-4C53-8D15-D5882131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C843-A435-4988-9275-A05F5E2B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AF4F-3E1B-4127-9213-5FE01EC8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246E-7EBF-42E9-A4B7-884262E1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97C-275A-41C7-B0A1-63B753F6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953E-1B17-416F-8D34-8B68A131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DDF8-8A3A-45FC-91F5-30C7D1CA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1915-9B5B-4D14-BC5C-B611A99B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C587-08B1-47AD-9B1B-4DC1E712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93AB-AAFC-4989-AE47-EC1568D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51E3-C55B-43C9-94C7-9F89E7BB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846D-13EF-4C33-8B13-F61C83FC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969F-07E2-4249-8C95-306E702C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5D3D-AE78-43CC-98A2-774955A2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39CA-68A6-4E7D-A942-E5F2E13C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BBCC-E3EC-4135-A038-2A156879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A4FE-44E1-4150-B9D3-4845B63A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F2D8-C792-4E3B-815E-1CA49A12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F027-43CF-4A67-9FB3-CC0F9420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C3E4-E778-448E-9569-2AA92E2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A45D-6D81-44F6-9C6E-CCF108D0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413-68A8-49A4-AF58-9C1741C4871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6E40-9243-4C97-B426-3FD72148922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LOS PROCEDIMIENTOS P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2EE2-A2C2-409E-98AA-DE364B1201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1 de agosto – 09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Viernes 07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1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nov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18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5EB2-24B0-4AA9-BA79-082600ECFF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4E86-8498-44C3-9B56-3D88FDC52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4DA4-BEB1-4F6F-BA86-B909FF6AB9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433F-4E55-449F-9C2C-73E2B92A1A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ctc</cp:lastModifiedBy>
  <dcterms:modified xsi:type="dcterms:W3CDTF">2007-07-31T19:52:53Z</dcterms:modified>
  <cp:revision>758</cp:revision>
  <dc:subject/>
  <dc:title>PowerPoint Presentation</dc:title>
</cp:coreProperties>
</file>