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DB97-A937-4648-815A-FF7CA541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045F-BFEF-4A71-B35F-A6BF5ADC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5874A-2478-4EE2-BB55-8A323F59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DE9D3-A34D-4546-9F34-B00B8A37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E658-B2C4-43B8-A92B-8127D2DF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3C9F-7A15-41FA-A944-82ABE705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D272-F0C8-4138-BFC6-A94AD664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D10F-DE71-40EC-A128-ADCC0E8E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74EC-9A33-4A18-9FE5-0F51808D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E106-492B-4575-9046-5E2E46B0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E637-DF25-43E1-9E89-E3F0FDB0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B8DC-D7CC-45B0-B427-C6EE424D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D293-5785-472E-9DF9-57117842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3335-52AE-473E-9174-4C5ED9AE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78B3-C11C-4B13-914C-452E40F1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1BB1-5490-4DC6-A837-69C24EA6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C1FD-B0AC-4011-949B-213CB926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7AF3-5EA9-4431-A1B1-1EF8122D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70481-88CA-4CE1-8B0E-C40D21BE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9D429-89F2-4E48-AB2F-254CBB0C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22A0-AE97-4640-9F62-8B930B0C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8EFE6-7979-4CC8-ABF9-2A596791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FBFF-F1D4-472E-A90A-F19AAA44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F5E0-D1CB-4D83-BAE5-61A74487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FF0F-B3DA-4E6B-97D6-A81D9E7D41A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79A2-9187-449A-B266-4A9C6C82A3E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7d"/>
                </a:solidFill>
                <a:latin typeface="Arial"/>
              </a:rPr>
              <a:t>DERECHO PROCESAL IV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LOS PROCEDIMIENTOS PE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4F859-E6BA-40CB-9AC2-F2DBB6BD48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33360"/>
            <a:ext cx="889308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 01 de agosto – 09 de novie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Viernes 07 de sept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1 de octu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5 de nov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artes 18 de dic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8:30 H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ada tipo de pregunta tiene un puntaje determinado a indicar en cada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 y de verdadero y falso, tres respuestas incorrectas, descuentan una correc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as preguntas abiertas y los casos no descuentan pun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uración de los controles: 90-120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e los tres controles parciales, para la ponderación final se considerarán </a:t>
            </a:r>
            <a:r>
              <a:rPr b="1" lang="es-CL" sz="1200" spc="-1" strike="noStrike">
                <a:solidFill>
                  <a:srgbClr val="00007d"/>
                </a:solidFill>
                <a:latin typeface="Tahoma"/>
              </a:rPr>
              <a:t>sólo do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, eliminándose la calificación más baja o la que no se hubiere rendi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60%. Examen: 4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D763-44FF-48F7-8278-FB197BDF0B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80960"/>
            <a:ext cx="8893080" cy="58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LOS PROCEDIMIENTOS PE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INTRODU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oceso penal como via de solución del conflic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sistemas procesales pe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principios y garantías del sistema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sistema Procesal Penal chileno del Código de Procedimiento Penal y del Nuevo Código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 de las instituciones y disposiciones comunes del procedimiento civil en el procedimien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 A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civil en el proces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OS SUJETOS PROCE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tribunal (jueces de garantía y tribunales de juicio or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Ministerio Pu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Poli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impu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defe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vict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querell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actor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891E-39CF-4949-B48F-4A979E1798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549360"/>
            <a:ext cx="89647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V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 LOS PROCEDIMIENTOS EN EL NUEVO CODIGO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oncep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lasif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S MEDIDAS CAUTELARES EN EL PROCES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personales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 La ci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 La deten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La prisión preven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Otras medidas caute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2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re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EL PROCEDIMIENTO ORDINARI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6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 etapa de investi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ormas de iniciar el procedimiento. Iniciativa de fiscales, denuncia y querel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acultad de no iniciar la investigacion y el archivo provisio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incipio de oport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ormalizacion de la investi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diligencias de investigacion y su control por parte del juez de gar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mecanismos de aceleracion de la investigacion: Plazo para formalizar la investigacion; plazo para cerrar la investigacion, juicio inmediato y procedimiento abrev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g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salidas alternativas: suspension condicional del procedimiento y acuerdos repara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h.-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lusión de la investigación: cierre de la investigación, sobreseimiento y decisión del ministerio público de no perseverar en el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0C75-516B-46CE-B547-4F94799B92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62064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2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La etapa inter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La acus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Audiencia de preparación del juicio o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3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El juicio 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Dirección y discip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Desarrollo y registro del juicio oral. Principios formativos que lo infor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os Medios de prueba en particular y el sistema de valoración de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.- Sentencia defi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ABREV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SIMPLIFIC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Monit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Simplificado ordi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PROCEDIMIENTO ACCION PENAL PRIV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BREVES NOCIONES DE LOS PROCEDIMIENTOS 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El procedimiento por crimen o simple delito contra personas aus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El procedimiento relativo a persona que tiene fu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a querella de cap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d.- La extradición:</a:t>
            </a: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) Extradición ac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) Extradición pas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) Aplicación de código de derecho internacional pr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DE CUMPLIMIENTO DE LA SENTENCIA DEFINITIVA PRONUNCIADA EN EL PROCEDIMIEN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ADE6-7FF4-472E-970D-01147B3ABA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rtectc</cp:lastModifiedBy>
  <dcterms:modified xsi:type="dcterms:W3CDTF">2007-07-31T19:52:53Z</dcterms:modified>
  <cp:revision>758</cp:revision>
  <dc:subject/>
  <dc:title>PowerPoint Presentation</dc:title>
</cp:coreProperties>
</file>