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93969-55A7-4267-8C43-108B43921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0300A-F590-42A2-9568-884251F3F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00694-16D6-4AF3-A9C4-96936097C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6EC10-5640-43C0-A45A-2CB75F8EC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4B177-90B0-4A8C-94DA-BA6059FB0B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A3DA1-F652-41FA-98FA-F6B5AEA6F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38ADB-D14A-4CA8-9C82-230991A49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43BD9-B67B-4547-98D8-A45426A8C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BD28E-3989-4A3A-A6A8-BBE23379D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D1E04-464D-4703-BF77-03C93BBED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4DC9D-3920-4902-828A-E44F0CCC6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476F8-B380-47E3-A02F-BB6D5BBC0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B5570-9214-4001-8E2C-6184069B2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450E1-96B7-4F84-9D7C-BAF55C247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8538E-CEC9-471A-B119-D585EF959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F7E4A4-6F1F-4BF3-8407-1AC3AF46EB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D03F4-BBA5-40F1-BA1E-8BE02D00C1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DF97D-48AE-4291-A8F7-F704EEF8E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61408-CE0E-49A1-BF0B-F7B304001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2FB27-3C27-4D53-B65A-57746FF53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75392-20CB-44BC-A651-6D99C6EAC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26B54-1B8E-4356-A4E5-16A6697B0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8BF34-8BA0-4157-84FD-2C2130299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D57B9-8AA8-4316-A8C8-177EEB927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100000"/>
                </a:gs>
                <a:gs pos="100000">
                  <a:srgbClr val="0f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0C00-FD44-4599-89B6-1139C7B7DF73}"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100000"/>
                </a:gs>
                <a:gs pos="100000">
                  <a:srgbClr val="0d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AFF8A-0A8A-46E4-B6D8-D40641A6CB4E}"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lick to edit the title text format</a:t>
            </a:r>
            <a:endParaRPr b="0" lang="en-US" sz="5400" spc="-1" strike="noStrike">
              <a:solidFill>
                <a:srgbClr val="ff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econd Outline Level</a:t>
            </a:r>
            <a:endParaRPr b="0" lang="en-US" sz="2800" spc="-1" strike="noStrike">
              <a:solidFill>
                <a:srgbClr val="ffcc00"/>
              </a:solidFill>
              <a:latin typeface="Tahoma"/>
            </a:endParaRPr>
          </a:p>
          <a:p>
            <a:pPr lvl="2" marL="914400" algn="ctr">
              <a:spcBef>
                <a:spcPts val="601"/>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Third Outline Level</a:t>
            </a:r>
            <a:endParaRPr b="0" lang="en-US" sz="2400" spc="-1" strike="noStrike">
              <a:solidFill>
                <a:srgbClr val="ffcc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urth Outline Level</a:t>
            </a:r>
            <a:endParaRPr b="0" lang="en-US" sz="2000" spc="-1" strike="noStrike">
              <a:solidFill>
                <a:srgbClr val="ffcc00"/>
              </a:solidFill>
              <a:latin typeface="Tahoma"/>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ifth Outline Level</a:t>
            </a:r>
            <a:endParaRPr b="0" lang="en-US" sz="2000" spc="-1" strike="noStrike">
              <a:solidFill>
                <a:srgbClr val="ffcc00"/>
              </a:solidFill>
              <a:latin typeface="Tahoma"/>
            </a:endParaRPr>
          </a:p>
          <a:p>
            <a:pPr lvl="5"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ixth Outline Level</a:t>
            </a:r>
            <a:endParaRPr b="0" lang="en-US" sz="2000" spc="-1" strike="noStrike">
              <a:solidFill>
                <a:srgbClr val="ffcc00"/>
              </a:solidFill>
              <a:latin typeface="Tahoma"/>
            </a:endParaRPr>
          </a:p>
          <a:p>
            <a:pPr lvl="6"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eventh Outline Level</a:t>
            </a:r>
            <a:endParaRPr b="0" lang="en-US" sz="2000" spc="-1" strike="noStrike">
              <a:solidFill>
                <a:srgbClr val="ffcc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Arial"/>
                <a:ea typeface="Times New Roman"/>
              </a:rPr>
              <a:t>Plan de prevención y erradicación del trabajo infantil y adolescente en Chile. Aplicación y eficacia.</a:t>
            </a:r>
            <a:br>
              <a:rPr sz="4800"/>
            </a:br>
            <a:r>
              <a:rPr b="0" lang="en-U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0" name=""/>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Interrogan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Objetivo General</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Hipótesis</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Título</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6" name=""/>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graphicFrame>
        <p:nvGraphicFramePr>
          <p:cNvPr id="97" name=""/>
          <p:cNvGraphicFramePr/>
          <p:nvPr/>
        </p:nvGraphicFramePr>
        <p:xfrm>
          <a:off x="684360" y="1844640"/>
          <a:ext cx="7772400" cy="481032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Pregunt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Objetivos específic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Contenid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2800" spc="-1" strike="noStrike">
                <a:solidFill>
                  <a:srgbClr val="ffffff"/>
                </a:solidFill>
                <a:latin typeface="Tahoma"/>
              </a:rPr>
              <a:t>Matriz de operacionalización de las variables</a:t>
            </a:r>
            <a:endParaRPr b="0" lang="en-US" sz="2800" spc="-1" strike="noStrike">
              <a:solidFill>
                <a:srgbClr val="ffcc00"/>
              </a:solidFill>
              <a:latin typeface="Arial"/>
            </a:endParaRPr>
          </a:p>
        </p:txBody>
      </p:sp>
      <p:graphicFrame>
        <p:nvGraphicFramePr>
          <p:cNvPr id="99" name=""/>
          <p:cNvGraphicFramePr/>
          <p:nvPr/>
        </p:nvGraphicFramePr>
        <p:xfrm>
          <a:off x="685800" y="1981080"/>
          <a:ext cx="8062920" cy="3345120"/>
        </p:xfrm>
        <a:graphic>
          <a:graphicData uri="http://schemas.openxmlformats.org/drawingml/2006/table">
            <a:tbl>
              <a:tblPr/>
              <a:tblGrid>
                <a:gridCol w="1943280"/>
                <a:gridCol w="2087280"/>
                <a:gridCol w="2232000"/>
                <a:gridCol w="1800360"/>
              </a:tblGrid>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Hipótesi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Variabl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dicador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Fuent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In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Altos índices de trabajo infantil y adolesc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neficacia del Plan </a:t>
                      </a:r>
                      <a:r>
                        <a:rPr b="0" lang="en-U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 sobre el trabajo infantil en Chile</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Reformas legales promovidas para el desarrollo del Plan </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Tex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Investigacione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Documen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Material de Internet</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n-U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Usuario</cp:lastModifiedBy>
  <dcterms:modified xsi:type="dcterms:W3CDTF">2007-08-20T16:18:52Z</dcterms:modified>
  <cp:revision>20</cp:revision>
  <dc:subject/>
  <dc:title>MATRIZ 1</dc:title>
</cp:coreProperties>
</file>