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3223F-1254-4DDD-99C7-E7BE0120E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A3532-A7DE-4315-98DA-912B51C37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F15FA-A5BE-4885-8764-57A8D4BD3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086AB-76B5-438D-97BA-0D8A2F636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8A4485-F5EE-4DD9-850C-982167732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37CAB-8C94-47F5-98AA-9A213E302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6D156-AD35-4EE9-9823-018AB8F40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E57A6-4D9E-46A7-A74C-AB38AA856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7C230-05F7-40C7-997E-7F29137DA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4C3D9-DCD3-422E-AACB-5095F1DB4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31281-227D-45B4-9054-E66E91263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D85DE-499D-477A-A630-F3CA25B21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F300B-6F2D-4FEA-841B-E741399FB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0EA13-1ACB-408E-B211-AE0B2194C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3F69F-F89C-4FA9-9902-449BC5301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2BD81-BEC0-48F4-B184-898679F42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41C42-C29D-44FB-8A44-8C42A4E2AB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1D5FC-7487-405D-A367-16050C65F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5F5DE-DF5F-4BC6-840E-D79F1B234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C1901-EB77-4ABC-96D3-CCB2433D0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46B55-D916-48A7-9A46-A7A7C6501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BDBC-6190-4EB2-AB55-A1D195E0A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8BD7-2D34-43D6-9F59-F31C6C621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0A13F-E6A1-4A48-BA8B-746CD994A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0BED-E838-4571-8200-0E1BBF6C97DD}"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9F62-982D-40FD-B8A1-A83058EAFD62}"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Usuario</cp:lastModifiedBy>
  <dcterms:modified xsi:type="dcterms:W3CDTF">2007-08-20T16:18:52Z</dcterms:modified>
  <cp:revision>20</cp:revision>
  <dc:subject/>
  <dc:title>MATRIZ 1</dc:title>
</cp:coreProperties>
</file>