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6C3-AF62-4451-8360-90A94AAE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D03-B747-46B1-B024-C28309CC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051-F506-403E-852A-5E36682E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270-1923-4392-AFC7-B6D0AD74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A9C-B376-4E54-AEE4-D97AB345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775-26A2-46EA-8FAB-E7037980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2B8-52BA-4766-AABA-9FA8CE5B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52B-A765-4936-B408-7ED8CA8E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F73-0414-4A24-A6AA-AC234514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B3F-D2E9-4A46-A6FE-2C795FAD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F68-AE0A-4188-B56C-F682DBD3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51B-31FA-4BD0-B4E4-AE46E765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BD95-7DC7-44C7-8A5C-1336DEB3C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33360"/>
            <a:ext cx="55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CUELA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566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OR : GABRIEL ALVAREZ UNDURR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263700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SO DE METODOLOGÍA DE LA INVESTIGACIÓN JURÍD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60360" y="333360"/>
            <a:ext cx="64764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1184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5373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fesor : Gabriel Alvarez Undur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32000" y="260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structura del Proyecto de Investigación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2400" y="16588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CAPÍTUL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ÍTULO TEN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04000" y="3176640"/>
            <a:ext cx="180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xposición esquemática de los elementos con los que opera el métod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75300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24172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296244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368136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440208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12280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3537000"/>
            <a:ext cx="1403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istema teórico de la 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43280" y="2457360"/>
            <a:ext cx="504720" cy="151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843280" y="3247920"/>
            <a:ext cx="504720" cy="720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4328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3968640"/>
            <a:ext cx="50472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3968640"/>
            <a:ext cx="50472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2457360"/>
            <a:ext cx="792360" cy="93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3247920"/>
            <a:ext cx="64764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940360" y="4400280"/>
            <a:ext cx="576360" cy="215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40360" y="4905000"/>
            <a:ext cx="719280" cy="431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04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484280"/>
          <a:ext cx="8532360" cy="4614840"/>
        </p:xfrm>
        <a:graphic>
          <a:graphicData uri="http://schemas.openxmlformats.org/drawingml/2006/table">
            <a:tbl>
              <a:tblPr/>
              <a:tblGrid>
                <a:gridCol w="1762560"/>
                <a:gridCol w="2219760"/>
                <a:gridCol w="974880"/>
                <a:gridCol w="1136880"/>
                <a:gridCol w="2438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o de clas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investigación u objetiv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atori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formulación de un probl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l planteamiento de hipó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 compar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 post-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investig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áfica (desarrollo de un tema específi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va: estudio de caso (LONGITUDI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a: estudios muestrales y poblacionales (cens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ANSVERS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si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o p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 de la investigación u objetivo ex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a o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solución de problemas prác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una invención o mejora de productos exist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estigación tecnológ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00000" y="1023840"/>
          <a:ext cx="777240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1392120"/>
                <a:gridCol w="1731960"/>
                <a:gridCol w="2687760"/>
              </a:tblGrid>
              <a:tr h="49716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S DE INFORMACIÓN PARA EL TRABAJO INTELE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plicación a la univers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 y Post 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EROTECA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vistas y periódic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ó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roqu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dependencias y oficinas: privadas, gubernamentales, internacional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DOCUM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clasific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misora (a otros cen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de servicio ( requerimientos de estudios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diversos tip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IA DE CARÁCTER DOC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univers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 todos los roles universi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profe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ntro de círculos profes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soci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 de vivencias capitalizables como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24000" y="260280"/>
            <a:ext cx="85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entury Gothic"/>
              </a:rPr>
              <a:t>Fuentes utilizables por el estudiante universita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977840"/>
            <a:ext cx="822960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u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or su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asificación de las fuentes de info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7604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38240" y="1778040"/>
            <a:ext cx="110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rim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ecund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erci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62584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22400" y="265284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084480"/>
            <a:ext cx="71280" cy="58752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520"/>
              <a:gd name="textAreaBottom" fmla="*/ 572400 h 5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000" y="3040200"/>
            <a:ext cx="113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694040" y="2905560"/>
            <a:ext cx="611640" cy="2196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7560" y="3201840"/>
            <a:ext cx="61668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84440" y="2765520"/>
            <a:ext cx="198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gráficas,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16360" y="3084120"/>
            <a:ext cx="576360" cy="7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03520" y="2968560"/>
            <a:ext cx="184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conográficas,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7760" y="3184560"/>
            <a:ext cx="18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nográficas,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86080" y="3633840"/>
            <a:ext cx="61632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14880" y="3516480"/>
            <a:ext cx="576360" cy="7272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7520" y="3400560"/>
            <a:ext cx="220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natura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30480" y="3616200"/>
            <a:ext cx="20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socie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70280" y="4005360"/>
            <a:ext cx="71280" cy="58716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40323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en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speci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65300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6400" y="468000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lásicas o anti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Actu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37228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0160" y="5327640"/>
            <a:ext cx="106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4120" y="5229360"/>
            <a:ext cx="399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tecas, hemerotecas, archivos, centros de documentación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nformación, museo y audiencia de carácter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4360" y="576252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edio ambiente universitario, profesional y so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6028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étodos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1555920"/>
            <a:ext cx="511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1268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s el procedimiento riguroso formulado de una  manera lógica que el investigador debe seguir en la adquisición del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22100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anál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identificación de cada una de las partes que caracterizan una realidad.  De esta forma se establece la relación causa-efecto entre los elementos que componen el objeto de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500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Método de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roceso de conocimiento que se inicia por la observación de fenómenos de carácter general con el propósito de carácter particular contenidas explícitamente en la situación gen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70828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in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observación de fenómenos particulares con el propósito de llegar a conclusiones y premisas de carácter general que pueden ser aplicadas a situaciones similares a la obser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98900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por el cual se perciben deliberadamente ciertos rasgos existentes en el objeto de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08720" y="3789360"/>
            <a:ext cx="1582920" cy="98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pectos metod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uentes y técnica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/>
          <p:nvPr/>
        </p:nvCxnSpPr>
        <p:spPr>
          <a:xfrm>
            <a:off x="6877080" y="1916280"/>
            <a:ext cx="2160" cy="3798000"/>
          </a:xfrm>
          <a:prstGeom prst="bentConnector3">
            <a:avLst>
              <a:gd name="adj1" fmla="val 1350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3203640" y="112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184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076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9308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907920"/>
            <a:ext cx="3384720" cy="276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pectos metodológic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80536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tros mé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l investigador puede proponer otros métodos como el método comparativo, método dialéctico, método empírico, método experimental, método estadístico,  método histórico, método sistemático, método exegético, método intuitiv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508464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sín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procede de lo simple a lo complejo, de la causa a los efectos, de la parte al todo, de los principios a las consecu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501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7340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66960" y="1197000"/>
            <a:ext cx="805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66960" y="2131920"/>
            <a:ext cx="171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560" y="39988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AS FI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84280" y="2408400"/>
            <a:ext cx="987480" cy="3770280"/>
          </a:xfrm>
          <a:custGeom>
            <a:avLst/>
            <a:gdLst>
              <a:gd name="textAreaLeft" fmla="*/ 631080 w 987480"/>
              <a:gd name="textAreaRight" fmla="*/ 987840 w 987480"/>
              <a:gd name="textAreaTop" fmla="*/ 98280 h 3770280"/>
              <a:gd name="textAreaBottom" fmla="*/ 3672000 h 37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263052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0560" y="52354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La ficha de trabajo o 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6760" y="3178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49800" y="2131920"/>
            <a:ext cx="447480" cy="2455920"/>
          </a:xfrm>
          <a:custGeom>
            <a:avLst/>
            <a:gdLst>
              <a:gd name="textAreaLeft" fmla="*/ 285840 w 447480"/>
              <a:gd name="textAreaRight" fmla="*/ 447840 w 447480"/>
              <a:gd name="textAreaTop" fmla="*/ 63720 h 2455920"/>
              <a:gd name="textAreaBottom" fmla="*/ 2392200 h 245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7280" y="225576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referencia a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97280" y="411624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trabajo /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0200" y="1695600"/>
            <a:ext cx="106560" cy="2008080"/>
          </a:xfrm>
          <a:custGeom>
            <a:avLst/>
            <a:gdLst>
              <a:gd name="textAreaLeft" fmla="*/ 68040 w 106560"/>
              <a:gd name="textAreaRight" fmla="*/ 106920 w 106560"/>
              <a:gd name="textAreaTop" fmla="*/ 52200 h 2008080"/>
              <a:gd name="textAreaBottom" fmla="*/ 1955880 h 20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9800" y="5000760"/>
            <a:ext cx="353880" cy="1293840"/>
          </a:xfrm>
          <a:custGeom>
            <a:avLst/>
            <a:gdLst>
              <a:gd name="textAreaLeft" fmla="*/ 226080 w 353880"/>
              <a:gd name="textAreaRight" fmla="*/ 354240 w 3538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40320" y="1571760"/>
            <a:ext cx="2659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bibl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arch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Icon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testimonio oral y escr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observación científ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200" y="3822840"/>
            <a:ext cx="139680" cy="1001520"/>
          </a:xfrm>
          <a:custGeom>
            <a:avLst/>
            <a:gdLst>
              <a:gd name="textAreaLeft" fmla="*/ 89280 w 139680"/>
              <a:gd name="textAreaRight" fmla="*/ 140040 w 139680"/>
              <a:gd name="textAreaTop" fmla="*/ 25920 h 1001520"/>
              <a:gd name="textAreaBottom" fmla="*/ 97560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1360" y="3822840"/>
            <a:ext cx="30337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Textu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u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ña o infor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n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Mixt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3680" y="3705120"/>
            <a:ext cx="69840" cy="471600"/>
          </a:xfrm>
          <a:custGeom>
            <a:avLst/>
            <a:gdLst>
              <a:gd name="textAreaLeft" fmla="*/ 44640 w 69840"/>
              <a:gd name="textAreaRight" fmla="*/ 69840 w 698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85160" y="3762360"/>
            <a:ext cx="133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Contín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iscontínu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48240" y="505944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aracterís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48240" y="55594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43440" y="5435640"/>
            <a:ext cx="223920" cy="1122480"/>
          </a:xfrm>
          <a:custGeom>
            <a:avLst/>
            <a:gdLst>
              <a:gd name="textAreaLeft" fmla="*/ 143280 w 223920"/>
              <a:gd name="textAreaRight" fmla="*/ 224280 w 223920"/>
              <a:gd name="textAreaTop" fmla="*/ 29160 h 1122480"/>
              <a:gd name="textAreaBottom" fmla="*/ 109332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1880" y="5373720"/>
            <a:ext cx="2610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ncabezado; tema y sub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dentificación de la fuente de lo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ontenido en una o varias céd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3940200"/>
            <a:ext cx="596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3360"/>
            <a:ext cx="89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50720" y="233280"/>
            <a:ext cx="9522000" cy="5587920"/>
            <a:chOff x="450720" y="233280"/>
            <a:chExt cx="9522000" cy="5587920"/>
          </a:xfrm>
        </p:grpSpPr>
        <p:sp>
          <p:nvSpPr>
            <p:cNvPr id="275" name=""/>
            <p:cNvSpPr/>
            <p:nvPr/>
          </p:nvSpPr>
          <p:spPr>
            <a:xfrm>
              <a:off x="907920" y="1071720"/>
              <a:ext cx="4470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720" y="3425760"/>
              <a:ext cx="3500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LAS CITAS EN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2400" y="1697040"/>
              <a:ext cx="831960" cy="4103640"/>
            </a:xfrm>
            <a:custGeom>
              <a:avLst/>
              <a:gdLst>
                <a:gd name="textAreaLeft" fmla="*/ 531720 w 831960"/>
                <a:gd name="textAreaRight" fmla="*/ 832320 w 831960"/>
                <a:gd name="textAreaTop" fmla="*/ 106920 h 4103640"/>
                <a:gd name="textAreaBottom" fmla="*/ 3996720 h 41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84520" y="220176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79600" y="4505400"/>
              <a:ext cx="175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lases de 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27520" y="3857760"/>
              <a:ext cx="461880" cy="1942920"/>
            </a:xfrm>
            <a:custGeom>
              <a:avLst/>
              <a:gdLst>
                <a:gd name="textAreaLeft" fmla="*/ 295200 w 461880"/>
                <a:gd name="textAreaRight" fmla="*/ 462240 w 46188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4720" y="4002120"/>
              <a:ext cx="388800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ext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u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nción o coment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ix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6520" y="23328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rincipales instrumentos de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4360" y="306360"/>
            <a:ext cx="824544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377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L USO DE LAS 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1644480"/>
            <a:ext cx="576000" cy="47898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4920 h 4789800"/>
              <a:gd name="textAreaBottom" fmla="*/ 4664880 h 478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16891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27115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4921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22543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240660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referencia a 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ampliación de tex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701880"/>
            <a:ext cx="228600" cy="2732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920 h 2732400"/>
              <a:gd name="textAreaBottom" fmla="*/ 2661480 h 273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3701880"/>
            <a:ext cx="19814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sobre su co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en cuanto a la anotación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3520" y="3235320"/>
            <a:ext cx="73080" cy="115236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921200"/>
            <a:ext cx="92160" cy="1655640"/>
          </a:xfrm>
          <a:custGeom>
            <a:avLst/>
            <a:gdLst>
              <a:gd name="textAreaLeft" fmla="*/ 59040 w 92160"/>
              <a:gd name="textAreaRight" fmla="*/ 92520 w 921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321624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 pie d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l capí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 la o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5016600"/>
            <a:ext cx="2286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contí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d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u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06360"/>
            <a:ext cx="8928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60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uadro resumen principales técnicas de investigación empírica o de ca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4360" y="1538280"/>
          <a:ext cx="8135640" cy="5203800"/>
        </p:xfrm>
        <a:graphic>
          <a:graphicData uri="http://schemas.openxmlformats.org/drawingml/2006/table">
            <a:tbl>
              <a:tblPr/>
              <a:tblGrid>
                <a:gridCol w="3747960"/>
                <a:gridCol w="4387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es técnicas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La técnica de observación cientí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La observación no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La técnica de observación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observación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 de observación no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 de observación experi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Las técnicas generales de testimonio oral y escr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Técnica de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Técnica de muestreo y elaboración de cuestio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ent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s estad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s de estudios de c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Técnicas jurídicas de captura y sistematización de infor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Técnicas de captura, sistematización  permanente de información (sistemática juríd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Técnica de captura  y sistematización  ocasional de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Técnicas  jurídicas de análisis. Presentación y divulgación de informaciones (Informática juríd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ificación y mod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s y manejo de fichas, citas y no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grayscl/>
          </a:blip>
          <a:srcRect l="0" t="0" r="4610" b="0"/>
          <a:stretch/>
        </p:blipFill>
        <p:spPr>
          <a:xfrm>
            <a:off x="43354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8560" y="4365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73720"/>
            <a:ext cx="7164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fesor : Gabriel Alvarez Undur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>
            <a:grayscl/>
            <a:lum bright="24000"/>
          </a:blip>
          <a:stretch/>
        </p:blipFill>
        <p:spPr>
          <a:xfrm>
            <a:off x="3708360" y="852480"/>
            <a:ext cx="5437080" cy="4687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3348000" y="692280"/>
            <a:ext cx="4438800" cy="4895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23479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La Investigación Juríd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9080" y="573264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89000"/>
            <a:ext cx="608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iclo metodológico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5280120"/>
            <a:ext cx="172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áted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emi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vestigación mon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1760" y="5280120"/>
            <a:ext cx="1019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2800" y="5280120"/>
            <a:ext cx="12189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280120"/>
            <a:ext cx="33055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V. Enseñanz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idáctic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251240"/>
            <a:ext cx="17287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ilóso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ist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1760" y="4251240"/>
            <a:ext cx="10191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2800" y="4251240"/>
            <a:ext cx="12189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r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4251240"/>
            <a:ext cx="33055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II. Conocimientos del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ocimiento jurídico- Especulativo del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Filósofo-histori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0920" y="3435480"/>
            <a:ext cx="17287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ermenéu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a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rincip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1760" y="3435480"/>
            <a:ext cx="10191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osi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2800" y="3435480"/>
            <a:ext cx="12189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435480"/>
            <a:ext cx="33055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I. Aplic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 Ejecutiv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0920" y="2619360"/>
            <a:ext cx="1728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tu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suetudi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1760" y="2619360"/>
            <a:ext cx="10191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2800" y="2619360"/>
            <a:ext cx="12189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Legisl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2619360"/>
            <a:ext cx="33055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. Form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Genétic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1760" y="1628640"/>
            <a:ext cx="274788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2800" y="1628640"/>
            <a:ext cx="121896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jeto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rtíf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1628640"/>
            <a:ext cx="330552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87280" y="162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7280" y="261936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7280" y="343548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425124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528012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630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9280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176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5964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0920" y="2619360"/>
            <a:ext cx="0" cy="36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1413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0680"/>
                <a:gridCol w="266400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referentes a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laboradas por un intermediario o agente y par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tadas sin la intervención de un intermediario que persig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juríd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estricto: obras  de tratadistas, comentaristas, sintetizadores, etc., privad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jurídic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stumbres juríd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gislación </a:t>
                      </a:r>
                      <a:r>
                        <a:rPr b="1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genérico: códigos, leyes, decretos-leyes, decretos con fuerza de ley, ordenanzas, reglamentos, decretos, etc., dictados en ejercicio de la Potestad Legislativa o Reglamentari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consuetudin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 judiciales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generales: auto-acordados; especiales: sentencias, autos y decret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 y aforismos, locuciones clásicas de contenid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ularios; registros , fórmulas, asientos, fichas, minutas de contenido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de actas o contratos o de testimoni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blecimientos, locales, aparatos, muebles y demás implementos, para la realización de sesiones, actos, reuniones, etc. o para impartir sanciones o premios de tip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tributos, emblemas, distintivos, etc. de instituciones o personas para fine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monedas, sellos, etc. De esa índole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55640" y="3357720"/>
            <a:ext cx="748836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26920" y="1197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1040"/>
                <a:gridCol w="266364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 IN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no referentes específica, pero si conexamente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producidas por un intermediario  para fines científicos y, aún, artísticos, no-jurídicos en sí, pero con proyección juríd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n noticia accidental o secundaria de lo jurídico o de  lo científico o social con proyección jurídica, sin la intervención finalista de un agen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sobre Ciencias Políticas, Ciencias Naturales, Sociología, Psicología, Ecología, Filosofía, Historia, Moral, Religión, Economía, Higiene, Previsión, etc., literatura social en una palab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normativas no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pre, proto, anti y meta-juríd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éticas, higiénicas , económicas, técnicas, religiosas, social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, instrucciones, órdenes, etc.,de carácter administr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política, administrativa, económico-técnico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, aforismos, locucion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de contenido soc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onim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ezas orales, escritas, grabadas, fotografías, etc de creaciones intelectuales de autoridades o particulares de contenido pre, proto, anti y meta juríd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os individualizados en I, B, b” pero de contenido pre, proto, anti o meta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numentos históricos , obras artísticas, restos etno-arqueológ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representativos de la Vida Social, la Cultura y  la Civilizació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3141720"/>
            <a:ext cx="749016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4328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72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relación  (Interrogantes, Objetivos, Hipótesis y Títulos de Investig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37360" y="3809880"/>
            <a:ext cx="181440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neda única Latinoamerican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acto sobre la estabilidad económica y social de los países de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040" y="3809880"/>
            <a:ext cx="17413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reación de una moneda única para los países latinoamericanos afectará a la estabilidad y desarrollo de los mismos en el orden económico y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75080" y="3809880"/>
            <a:ext cx="192096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zar el impacto económico y social que se pudiese generar sobre la estabilidad y desarrollo de los países latinoamericanos como consecuencia de la creación de una moneda única para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3809880"/>
            <a:ext cx="17827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mpacto económico y social tendrá la creación de una moneda única latinoamericana sobre la estabilidad y desarrollo económico de los países de esa reg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37360" y="1805040"/>
            <a:ext cx="181440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abilidad en la acción procesal civil en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96040" y="1805040"/>
            <a:ext cx="17413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 ejercicio de la acción procesal civil  por parte del Juez es condición necesaria para el cumplimiento de la obligación pública de proveer y dictar sen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75080" y="1805040"/>
            <a:ext cx="192096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r la condición necesaria para que el Juez cumpla con la obligación pública de proveer y dictar sent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1805040"/>
            <a:ext cx="17827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  es la condición necesaria para que el Juez cumpla la obligación pública de proveer y dictar sentenc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37360" y="1305000"/>
            <a:ext cx="18144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040" y="1305000"/>
            <a:ext cx="17413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PO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5080" y="1305000"/>
            <a:ext cx="19209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1305000"/>
            <a:ext cx="1782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RROG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130500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80504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80988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645336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7508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04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3736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9517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3078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9640" y="1773360"/>
          <a:ext cx="8064720" cy="4117680"/>
        </p:xfrm>
        <a:graphic>
          <a:graphicData uri="http://schemas.openxmlformats.org/drawingml/2006/table">
            <a:tbl>
              <a:tblPr/>
              <a:tblGrid>
                <a:gridCol w="1881360"/>
                <a:gridCol w="2112840"/>
                <a:gridCol w="1919520"/>
                <a:gridCol w="2151000"/>
              </a:tblGrid>
              <a:tr h="4492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Cuál es el nivel de eficacia del Plan de prevención y erradicación del trabajo infantil y adolescente en Chi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alizar el nivel de eficacia del Plan de prevención y erradicación del trabajo infantil y adolescente en 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 Plan de prevención y erradicación del trabajo infantil y adolescente en Chile es ineficaz, puesto que aún se mantienen altos índices de és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lan de prevención y erradicación del trabajo infantil y adolescente en Chile. Aplicación y efica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1890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2016360" cy="1738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755640" y="1316160"/>
          <a:ext cx="7843680" cy="5281560"/>
        </p:xfrm>
        <a:graphic>
          <a:graphicData uri="http://schemas.openxmlformats.org/drawingml/2006/table">
            <a:tbl>
              <a:tblPr/>
              <a:tblGrid>
                <a:gridCol w="2413080"/>
                <a:gridCol w="2712960"/>
                <a:gridCol w="27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en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¿Cuál es la política social estatal en materia de erradicación del trabajo infantil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Describir cuál es la política social estatal en materia de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: Política social estatal y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¿Cómo se ha aplicado el Plan de prevención y erradicación del trabajo infantil y adolescente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Analizar la forma en que se ha aplicado esta política en Chile (criterio orgánico y funcional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: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¿Cuáles han sido los resultados de esta aplicació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Precisar cuáles han sido los resultados de esta apli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I: Resultados de la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los principales elementos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39640" y="1413000"/>
          <a:ext cx="8229600" cy="4886280"/>
        </p:xfrm>
        <a:graphic>
          <a:graphicData uri="http://schemas.openxmlformats.org/drawingml/2006/table">
            <a:tbl>
              <a:tblPr/>
              <a:tblGrid>
                <a:gridCol w="2170080"/>
                <a:gridCol w="1944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¿Cuál es el nivel de influencia del dumping social en el régimen jurídico del trabajo infantil en Chile y Venezuela; qué políticas y programas sociales han establecido ambos país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alizar la influencia de dumping social en la situación sociojurídica y en la formulación de políticas y programas sociales del trabajo infantil en Chile y Venez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 , que regula el mercado internacional, determina las normas jurídicas, las políticas y programas sociales en el tratamiento del trabajo infa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Trabajo Infantil en Chile y Venezuela, su problemática Sociojurídica y su relación con el Dum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0755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 preguntas secundarias y 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95280" y="1341360"/>
          <a:ext cx="8497800" cy="5424480"/>
        </p:xfrm>
        <a:graphic>
          <a:graphicData uri="http://schemas.openxmlformats.org/drawingml/2006/table">
            <a:tbl>
              <a:tblPr/>
              <a:tblGrid>
                <a:gridCol w="4321080"/>
                <a:gridCol w="4176720"/>
              </a:tblGrid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antecedentes históricos  tiene el trabajo infantil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 son los enfoques teóricos contrapuestos respecto del problem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enfoque metodológico de la investigación sociojurídic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tipos de trabajo infantil se dan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dumping social en el trabajo infantil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 es el régimen jurídico del trabajo de menores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son las propuestas de políticas y programas sociales en la materia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ntecedentes históricos del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los enfoques teóricos exist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ir la metodología de la investigación socio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ar los tipos de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spectos característicos del dumping social en est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 comparativamente el régimen jurídico del trabajo infantil en amb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r las políticas y programas sociales de ambos países en la materi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07552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de operacionalización de la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46040" y="1628640"/>
          <a:ext cx="8373960" cy="466092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2232000"/>
                <a:gridCol w="174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, que regula el mercado internacional, determina las normas jurídicas, las políticas y programas sociales en el tratamiento del trabajo infa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in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umping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 sobre trabajo infantil en Chile y Venezuela (discriminando sus distintos tip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bores productivas que genera el trabaj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racterísticas del modelo económico en Chile y Venezuel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ores nacionales e internacionales, sus posici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internacionales (Declaración universal de los derechos humanos, convención internacional de los derechos del niño, Declaración de los derechos del Niño, Pacto internacional de derechos Civiles y políticos, Pacto internacional de derechos económicos sociales y culturales, Pacto de San José de Costa Rica, Convenio 138 y 182 de la OIT) y nacionales de ambos países (Constitución, Leyes de menores y de familia, Legislación laboral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estig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s formales y mate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c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trevistas, etc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, políticas 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gram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43280" y="260280"/>
            <a:ext cx="63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Conoc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51116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213000"/>
            <a:ext cx="51847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RÍTICO-REFLEX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508640"/>
            <a:ext cx="51116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-CIENTÍFICO O SENSO-PERCEP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77624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S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4397400"/>
            <a:ext cx="298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OG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 SENTIDO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IT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64000" y="4613040"/>
            <a:ext cx="792360" cy="36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973760"/>
            <a:ext cx="863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973760"/>
            <a:ext cx="792360" cy="50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4973760"/>
            <a:ext cx="792360" cy="936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2131920"/>
            <a:ext cx="936720" cy="14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276640"/>
            <a:ext cx="936720" cy="144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404640"/>
            <a:ext cx="576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42920" y="1628640"/>
          <a:ext cx="7705800" cy="4680000"/>
        </p:xfrm>
        <a:graphic>
          <a:graphicData uri="http://schemas.openxmlformats.org/drawingml/2006/table">
            <a:tbl>
              <a:tblPr/>
              <a:tblGrid>
                <a:gridCol w="25218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 bibliográf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l marco teó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 los instr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ueba de los instru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lección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amiento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álisis de los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da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visión y corre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del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1844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250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ructura de una tesis (monograf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2176560"/>
            <a:ext cx="12967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TÍTUL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AGRADECIMIENTO-RECONOCIMI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PRÓLOGO (resumen del contenido de la te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IGLAS ESPECIALES (si fuera necesari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ÍNDICE GEN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36720" y="2176560"/>
            <a:ext cx="165564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I. 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-(síntesis del proceso de la investigación)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lanteamiento del problema: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límites, valoración, (importancia). ¿Qué?  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roceso a seguir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¿Cóm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Objetivo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.¿Para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3440" y="2176560"/>
            <a:ext cx="165564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III.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 CONCLUSIÓN: OBJETIVO DE LA INVESTIGACIÓN: </a:t>
            </a: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Formalización de la t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sultado de la investigación: Solución del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onfirmación de la tesis: Objetivo lo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mplicaciones de la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2176560"/>
            <a:ext cx="244980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II. CUERP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ITUACIÓN DE LA INVESTIG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Status Quaestion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stificación del problema: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ntecedentes del mis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Revisión bibliográfica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situación actual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Ubicación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UNDAMENTOS DE LA INVESTIGACIÓN (PROBLEM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ORMULACIÓN DE LA HIPÓTESI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variables, Sistema de hipótesis, tesi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TERPRETACIÓN DE LOS DATO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elaboración del diseño para la demostración . Análisis de los datos, document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NTRASTACIÓN-CONFIRMACIÓN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crítica hermenéuti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69080" y="2176560"/>
            <a:ext cx="10810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POSTSCRIPTUM-EPILOGO-EXCUR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NOTAS BIBLIOGRÁFICAS-notas “ad calcem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BIBLIOGRAFÍA: General, (fundamental, especi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APÉNDICES,INDICES: de materias, onomástic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TABLAS. GRÁFICAS. ANEX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720" y="2104920"/>
            <a:ext cx="122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3080" y="620856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O DE LA TESIS – ESTRUCTURA – ESQUEM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96720" y="1816200"/>
            <a:ext cx="8425080" cy="4321080"/>
            <a:chOff x="396720" y="1816200"/>
            <a:chExt cx="8425080" cy="4321080"/>
          </a:xfrm>
        </p:grpSpPr>
        <p:sp>
          <p:nvSpPr>
            <p:cNvPr id="395" name=""/>
            <p:cNvSpPr/>
            <p:nvPr/>
          </p:nvSpPr>
          <p:spPr>
            <a:xfrm>
              <a:off x="162072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0720" y="6137280"/>
              <a:ext cx="5977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59780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7800" y="2105280"/>
              <a:ext cx="122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72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2180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421080" y="1816200"/>
              <a:ext cx="0" cy="1944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1080" y="181620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9080" y="1816200"/>
              <a:ext cx="0" cy="187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1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21080" y="592164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69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21080" y="160344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ARROLLO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24720" y="1816200"/>
            <a:ext cx="13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042920" y="4294080"/>
            <a:ext cx="7848720" cy="24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1414440"/>
            <a:ext cx="784872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2925720"/>
            <a:ext cx="7848720" cy="13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1414440"/>
            <a:ext cx="5040360" cy="5327640"/>
          </a:xfrm>
          <a:prstGeom prst="rect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2924280"/>
            <a:ext cx="3024360" cy="13698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71640" y="1701720"/>
            <a:ext cx="30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LEMENTOS INTRODUC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73680" y="1473120"/>
            <a:ext cx="31906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DEDIC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RÓ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GRADE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3255840"/>
            <a:ext cx="32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UERP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19440" y="30351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19440" y="34923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19440" y="387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12120" y="29574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580000" y="2925720"/>
            <a:ext cx="1726560" cy="457200"/>
            <a:chOff x="5580000" y="2925720"/>
            <a:chExt cx="1726560" cy="457200"/>
          </a:xfrm>
        </p:grpSpPr>
        <p:sp>
          <p:nvSpPr>
            <p:cNvPr id="422" name=""/>
            <p:cNvSpPr/>
            <p:nvPr/>
          </p:nvSpPr>
          <p:spPr>
            <a:xfrm>
              <a:off x="5580000" y="292572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84560" y="303984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80000" y="3359160"/>
            <a:ext cx="1726560" cy="457200"/>
            <a:chOff x="5580000" y="3359160"/>
            <a:chExt cx="1726560" cy="457200"/>
          </a:xfrm>
        </p:grpSpPr>
        <p:sp>
          <p:nvSpPr>
            <p:cNvPr id="425" name=""/>
            <p:cNvSpPr/>
            <p:nvPr/>
          </p:nvSpPr>
          <p:spPr>
            <a:xfrm>
              <a:off x="5580000" y="335916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4560" y="347328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80000" y="3790800"/>
            <a:ext cx="1726560" cy="457200"/>
            <a:chOff x="5580000" y="3790800"/>
            <a:chExt cx="1726560" cy="457200"/>
          </a:xfrm>
        </p:grpSpPr>
        <p:sp>
          <p:nvSpPr>
            <p:cNvPr id="428" name=""/>
            <p:cNvSpPr/>
            <p:nvPr/>
          </p:nvSpPr>
          <p:spPr>
            <a:xfrm>
              <a:off x="5580000" y="379080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4560" y="390492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332000" y="5014800"/>
            <a:ext cx="230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F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260280"/>
            <a:ext cx="6603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constitutivos de los trabajos cient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82920" y="299880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2920" y="3430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82920" y="3862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236000" y="2998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24360" y="4438800"/>
            <a:ext cx="3743280" cy="19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DE  NOMBRES, DE CUADROS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76360" y="4906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BÁSICO DE UN INFORME  DE INVESTIGACIÓ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09600" y="2400480"/>
            <a:ext cx="8750160" cy="3408120"/>
            <a:chOff x="309600" y="2400480"/>
            <a:chExt cx="8750160" cy="3408120"/>
          </a:xfrm>
        </p:grpSpPr>
        <p:sp>
          <p:nvSpPr>
            <p:cNvPr id="439" name=""/>
            <p:cNvSpPr/>
            <p:nvPr/>
          </p:nvSpPr>
          <p:spPr>
            <a:xfrm>
              <a:off x="4024440" y="3611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5364000"/>
              <a:ext cx="7938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5320" y="384012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75080" y="268776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40048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RODU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9600" y="361152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5135400"/>
              <a:ext cx="336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CLU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3400" y="2400480"/>
              <a:ext cx="47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entación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34592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álisis de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19720" y="39164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Los capítulos y subcapít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720" y="4983120"/>
              <a:ext cx="41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osición de resultados y logros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391644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68360" y="333360"/>
            <a:ext cx="8280360" cy="136692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2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merar en el margen SUPERIOR de cada página y al centro con números ÁRAB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: 1, 2, 3,4,5, 6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9800" y="304920"/>
            <a:ext cx="835020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67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ÍTU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numera de acuerdo al orden de los capítulos  (ej: Capítul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780000" y="4005360"/>
            <a:ext cx="5256000" cy="2852640"/>
            <a:chOff x="3780000" y="4005360"/>
            <a:chExt cx="5256000" cy="2852640"/>
          </a:xfrm>
        </p:grpSpPr>
        <p:sp>
          <p:nvSpPr>
            <p:cNvPr id="458" name=""/>
            <p:cNvSpPr/>
            <p:nvPr/>
          </p:nvSpPr>
          <p:spPr>
            <a:xfrm>
              <a:off x="3780000" y="4049640"/>
              <a:ext cx="208908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1416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0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4252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4000" y="4049640"/>
              <a:ext cx="223200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852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4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440" y="450864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50880" y="45813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403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ES 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ra de acuerdo al orden de las  conclus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5292720" y="1916280"/>
            <a:ext cx="34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70480" y="1916280"/>
            <a:ext cx="3881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 hoja de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os márg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ex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ab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g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otas de pie de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itas texto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19280" y="1916280"/>
            <a:ext cx="3240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62064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vestigación en sentido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1987560"/>
            <a:ext cx="2863800" cy="34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uerpo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aterial complementario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2924280"/>
            <a:ext cx="7056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Presentación general del tra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Formato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scrit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ncuadernamiento o anil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Int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Planteamiento y formulación d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Just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Hipótesis y/o pregunta direc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06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uerpo o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n y equilibrio de cada parte o capít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sentación de las ideas principales y secund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herencia y logic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rtinencia de la información recolect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álisis e interpretación de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portes pers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2565360"/>
            <a:ext cx="5616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4149720"/>
            <a:ext cx="25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429000"/>
            <a:ext cx="259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2637000"/>
            <a:ext cx="25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565360"/>
            <a:ext cx="2592360" cy="41036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125360"/>
            <a:ext cx="5616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125360"/>
            <a:ext cx="2592360" cy="13669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341360"/>
            <a:ext cx="22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concreto-s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21000"/>
            <a:ext cx="24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43200" y="1181160"/>
            <a:ext cx="301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2852640"/>
            <a:ext cx="21067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Ju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azo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Leyes y categ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e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5200" y="2637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3429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ositivo -  Neg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 -  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80280" y="4221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ductivo  In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álisis   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7640" y="260280"/>
            <a:ext cx="759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l conocimient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263700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3429000"/>
            <a:ext cx="54734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414972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4. Conclus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Síntesis integradora de las ideas esboz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Recomendaciones y/o sugerenc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5. Aparato crít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Empleo y elaboración de las ci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 de las n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6. Bibliografí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Orden y completació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7. Índi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Presentación y ubic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8. Apéndice y/o anex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9. Ortografía y red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18920" y="465120"/>
            <a:ext cx="64832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79600" y="1413000"/>
          <a:ext cx="8024760" cy="5018040"/>
        </p:xfrm>
        <a:graphic>
          <a:graphicData uri="http://schemas.openxmlformats.org/drawingml/2006/table">
            <a:tbl>
              <a:tblPr/>
              <a:tblGrid>
                <a:gridCol w="2568600"/>
                <a:gridCol w="546120"/>
                <a:gridCol w="546120"/>
                <a:gridCol w="549360"/>
                <a:gridCol w="541080"/>
                <a:gridCol w="546120"/>
                <a:gridCol w="544680"/>
                <a:gridCol w="547560"/>
                <a:gridCol w="544680"/>
                <a:gridCol w="546120"/>
                <a:gridCol w="544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mbre  del 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no de v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itmo de ex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nun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 si m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tiv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ocabul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l conte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nguaje corp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l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ursos audiovisu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zación y coh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del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clusiones y/o cier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2276640"/>
            <a:ext cx="8964720" cy="2933280"/>
            <a:chOff x="179280" y="2276640"/>
            <a:chExt cx="8964720" cy="2933280"/>
          </a:xfrm>
        </p:grpSpPr>
        <p:sp>
          <p:nvSpPr>
            <p:cNvPr id="88" name=""/>
            <p:cNvSpPr/>
            <p:nvPr/>
          </p:nvSpPr>
          <p:spPr>
            <a:xfrm>
              <a:off x="17928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sen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492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lóg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nálisis y sín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64000" y="2276640"/>
              <a:ext cx="115128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Hipó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59640" y="2276640"/>
              <a:ext cx="115236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Teo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3640" y="2276640"/>
              <a:ext cx="1260360" cy="55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Desarrollo del 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200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2728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12000" y="256392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640" y="3284640"/>
              <a:ext cx="107964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Sentid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3284640"/>
              <a:ext cx="1224000" cy="55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 juicios  conclus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964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Método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72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spectos superficiales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2720" y="4579920"/>
              <a:ext cx="1224000" cy="63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Formas de pensa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1280" y="4579920"/>
              <a:ext cx="122400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Procedimientos lógicos y técnic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2908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Esencia de la naturaleza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200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072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0360" y="4003560"/>
              <a:ext cx="0" cy="576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6551280" y="2168280"/>
              <a:ext cx="215640" cy="1584360"/>
            </a:xfrm>
            <a:custGeom>
              <a:avLst/>
              <a:gdLst>
                <a:gd name="textAreaLeft" fmla="*/ 0 w 215640"/>
                <a:gd name="textAreaRight" fmla="*/ 151200 w 215640"/>
                <a:gd name="textAreaTop" fmla="*/ 65880 h 1584360"/>
                <a:gd name="textAreaBottom" fmla="*/ 1518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02" idx="3"/>
              <a:endCxn id="115" idx="2"/>
            </p:cNvCxnSpPr>
            <p:nvPr/>
          </p:nvCxnSpPr>
          <p:spPr>
            <a:xfrm flipV="1">
              <a:off x="5954760" y="3087000"/>
              <a:ext cx="705240" cy="57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</p:grpSp>
      <p:pic>
        <p:nvPicPr>
          <p:cNvPr id="117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360" y="260280"/>
            <a:ext cx="565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197000"/>
          <a:ext cx="7992720" cy="5538600"/>
        </p:xfrm>
        <a:graphic>
          <a:graphicData uri="http://schemas.openxmlformats.org/drawingml/2006/table">
            <a:tbl>
              <a:tblPr/>
              <a:tblGrid>
                <a:gridCol w="2664000"/>
                <a:gridCol w="2664360"/>
                <a:gridCol w="2664360"/>
              </a:tblGrid>
              <a:tr h="13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orm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losof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te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ác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uím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o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tánic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) Cienci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rop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re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conom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ngü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dag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ic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ologí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700360" y="260280"/>
            <a:ext cx="644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asificación de las 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2920" y="1484280"/>
            <a:ext cx="42498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EMA O ÁREA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227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BLEMA U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997360"/>
            <a:ext cx="432144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ÉTODO CIENTÍFICO Y TÉCNICAS DE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00536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472428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OCIMIENT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51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1989000"/>
            <a:ext cx="0" cy="2876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2708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716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5157720"/>
            <a:ext cx="0" cy="3589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6" idx="1"/>
            <a:endCxn id="121" idx="1"/>
          </p:cNvCxnSpPr>
          <p:nvPr/>
        </p:nvCxnSpPr>
        <p:spPr>
          <a:xfrm flipH="1" rot="10800000">
            <a:off x="2382480" y="1710720"/>
            <a:ext cx="72000" cy="4032720"/>
          </a:xfrm>
          <a:prstGeom prst="bentConnector3">
            <a:avLst>
              <a:gd name="adj1" fmla="val -1497487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403280" y="333360"/>
            <a:ext cx="774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 la investigación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</a:blip>
          <a:srcRect l="33459" t="0" r="0" b="0"/>
          <a:stretch/>
        </p:blipFill>
        <p:spPr>
          <a:xfrm>
            <a:off x="3059280" y="374760"/>
            <a:ext cx="6084720" cy="629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645000"/>
            <a:ext cx="71643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La Investigación científ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8720" y="58770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squema del proceso de la investig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6:12:13Z</dcterms:created>
  <dc:creator>Gabriel Alvarez</dc:creator>
  <dc:description/>
  <dc:language>en-US</dc:language>
  <cp:lastModifiedBy>gau</cp:lastModifiedBy>
  <dcterms:modified xsi:type="dcterms:W3CDTF">2007-08-19T20:58:44Z</dcterms:modified>
  <cp:revision>62</cp:revision>
  <dc:subject/>
  <dc:title>Diapositiva 1</dc:title>
</cp:coreProperties>
</file>