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30B0-B465-4A32-AF99-70339502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98B-E6AE-473C-839B-A34C676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E5D-B516-480A-9385-589CCEB8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0B9-0F2D-4D83-AF2D-C2481FDB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414-5B6C-4CE7-928D-062848AC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7DD-4966-44B9-8D07-4A3F569B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B41-069F-431E-B77B-71F493C7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857-7F2B-42FB-8973-C301AB7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595-CF1A-4ADF-B889-CE123CA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C77-A553-4903-86B9-12734A3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402-3AB9-45A1-B67A-7A062EE2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0EB-CBF8-491E-82DB-E9F6DAC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E6EC-E7EA-4A83-A98F-5AC8B8EEF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19T20:58:44Z</dcterms:modified>
  <cp:revision>62</cp:revision>
  <dc:subject/>
  <dc:title>Diapositiva 1</dc:title>
</cp:coreProperties>
</file>