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2562-7773-4D90-AF19-6F9D95030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A056-BE2B-4DC2-97E1-2CDAA3DA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3FF8-6D35-4D41-9175-292536125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B9F0-4B26-4107-934F-655AC1CD9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9355-7A7A-48D9-973E-1FBE8456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D629-15A4-4D58-8EC5-3568E03E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C73B-D6F8-4809-9B3F-6BDBDB47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6E2B-20C6-413D-AFED-7F5199C8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277D-CED5-40B4-8280-84B409CC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B7D9-ADB4-4159-8C5C-D38D1CF1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0965-191A-4D99-9854-3FC9CF1C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8DD1-0817-4AAF-B632-4A2D7538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C554-FA76-41F0-B02D-FD48B5969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8000" y="333360"/>
            <a:ext cx="5545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ULTAD DE DER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CUELA DE DER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24360" y="566100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FESOR : GABRIEL ALVAREZ UNDURRAG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76360" y="2637000"/>
            <a:ext cx="705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URSO DE METODOLOGÍA DE LA INVESTIGACIÓN JURÍD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60360" y="333360"/>
            <a:ext cx="647640" cy="1152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1116000" cy="6858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81184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68360" y="5373720"/>
            <a:ext cx="68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rofesor : Gabriel Alvarez Undurra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332000" y="26028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Estructura del Proyecto de Investigación Juríd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62400" y="1011240"/>
            <a:ext cx="4484880" cy="64764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6153120"/>
            <a:ext cx="3651120" cy="5158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IBLIOGRAFÍA , ANEXOS , APÉND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62400" y="1658880"/>
            <a:ext cx="4484880" cy="11494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1) Planteamiento del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2) Formulación del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3) Sistematización del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4) Objetivos de Investig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5) Justificación del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1658880"/>
            <a:ext cx="3651120" cy="11494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APÍTULO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EL PROBL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62400" y="5106960"/>
            <a:ext cx="4484880" cy="104616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1)  Índice del contenido del traba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)  Recursos: humanos, materiales y financieros emple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3) Cronograma de activ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5106960"/>
            <a:ext cx="3651120" cy="104616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APÍTULO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SPECTOS ADMINISTRATIV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62400" y="3957480"/>
            <a:ext cx="4484880" cy="11494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1) Tipos  y niveles de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2) Métodos de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3) Población y muestra (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) Técnicas e instrumentos de recolección de da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) Tratamiento de la in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1280" y="3957480"/>
            <a:ext cx="3651120" cy="11494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Black"/>
              </a:rPr>
              <a:t>CAPÍTULO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Black"/>
              </a:rPr>
              <a:t>EL MARCO METODOLÓ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262400" y="2808360"/>
            <a:ext cx="4484880" cy="114912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1) Antecedentes de la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2) Bases teó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3) Definición de térmi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4) Hipót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5) Variables e indic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1280" y="2808360"/>
            <a:ext cx="3651120" cy="114912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APÍTULO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EL MARCO TEÓR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1011240"/>
            <a:ext cx="3651120" cy="64764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ÍTULO TENT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NTRO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2808360"/>
            <a:ext cx="813600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1280" y="3957480"/>
            <a:ext cx="813600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1280" y="5106960"/>
            <a:ext cx="813600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1658880"/>
            <a:ext cx="813600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1280" y="6153120"/>
            <a:ext cx="813600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62400" y="1011240"/>
            <a:ext cx="0" cy="565776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1280" y="1011240"/>
            <a:ext cx="8136000" cy="0"/>
          </a:xfrm>
          <a:prstGeom prst="line">
            <a:avLst/>
          </a:prstGeom>
          <a:ln cap="sq"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1280" y="1011240"/>
            <a:ext cx="0" cy="5657760"/>
          </a:xfrm>
          <a:prstGeom prst="line">
            <a:avLst/>
          </a:prstGeom>
          <a:ln cap="sq"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747280" y="1011240"/>
            <a:ext cx="0" cy="5657760"/>
          </a:xfrm>
          <a:prstGeom prst="line">
            <a:avLst/>
          </a:prstGeom>
          <a:ln cap="sq"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1280" y="6669000"/>
            <a:ext cx="8136000" cy="0"/>
          </a:xfrm>
          <a:prstGeom prst="line">
            <a:avLst/>
          </a:prstGeom>
          <a:ln cap="sq"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27640" y="6237360"/>
            <a:ext cx="4248000" cy="23112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* Esta parte se omite en los proyectos de investigación documen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6669000"/>
            <a:ext cx="81374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04000" y="3176640"/>
            <a:ext cx="1800360" cy="19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5640" y="260280"/>
            <a:ext cx="83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xposición esquemática de los elementos con los que opera el método cientí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71640" y="3753000"/>
            <a:ext cx="1871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Elemen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348000" y="2241720"/>
            <a:ext cx="259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ONCEP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348000" y="2962440"/>
            <a:ext cx="259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48000" y="3681360"/>
            <a:ext cx="259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HIPÓT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48000" y="4402080"/>
            <a:ext cx="259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48000" y="5122800"/>
            <a:ext cx="259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INDIC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20000" y="3537000"/>
            <a:ext cx="14032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istema teórico de la ci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843280" y="2457360"/>
            <a:ext cx="504720" cy="1511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843280" y="3247920"/>
            <a:ext cx="504720" cy="7207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843280" y="3897360"/>
            <a:ext cx="576360" cy="71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43280" y="3968640"/>
            <a:ext cx="504720" cy="647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3280" y="3968640"/>
            <a:ext cx="504720" cy="1368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0360" y="2457360"/>
            <a:ext cx="792360" cy="935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0360" y="3247920"/>
            <a:ext cx="647640" cy="360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940360" y="3897360"/>
            <a:ext cx="576360" cy="71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940360" y="4400280"/>
            <a:ext cx="576360" cy="215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940360" y="4905000"/>
            <a:ext cx="719280" cy="431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50920" y="1268280"/>
            <a:ext cx="8642160" cy="518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03640" y="404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ipos de Investig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24000" y="1484280"/>
          <a:ext cx="8532360" cy="4614840"/>
        </p:xfrm>
        <a:graphic>
          <a:graphicData uri="http://schemas.openxmlformats.org/drawingml/2006/table">
            <a:tbl>
              <a:tblPr/>
              <a:tblGrid>
                <a:gridCol w="1762560"/>
                <a:gridCol w="2219760"/>
                <a:gridCol w="974880"/>
                <a:gridCol w="1136880"/>
                <a:gridCol w="243828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erio de clasific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s de investig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vel de investigación u objetivos inter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oratoria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igida a la formulación de un proble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igida al planteamiento de hipóte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ión de variables independ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la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ic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al comparat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 post-fa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ño de investig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ográfica (desarrollo de un tema específic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ión de variables independientes a partir de datos secund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lacional a partir de datos secund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Ca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siva: estudio de caso (LONGITUDIN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siva: estudios muestrales y poblacionales (cens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RANSVERSAL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experimen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siexperimen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o pu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ósito de la investigación u objetivo exter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a o bás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ent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igida a la solución de problemas práct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igida a una invención o mejora de productos exist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vestigación tecnológic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900000" y="1023840"/>
          <a:ext cx="7772400" cy="6016680"/>
        </p:xfrm>
        <a:graphic>
          <a:graphicData uri="http://schemas.openxmlformats.org/drawingml/2006/table">
            <a:tbl>
              <a:tblPr/>
              <a:tblGrid>
                <a:gridCol w="1960560"/>
                <a:gridCol w="1392120"/>
                <a:gridCol w="1731960"/>
                <a:gridCol w="2687760"/>
              </a:tblGrid>
              <a:tr h="497160">
                <a:tc row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ENTES DE INFORMACIÓN PARA EL TRABAJO INTELECT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plicación a la univers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 y Post grad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BLIOTE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ializa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MEROTECAS</a:t>
                      </a:r>
                      <a:r>
                        <a:rPr b="1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vistas y periódic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H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ór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ari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roqui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dependencias y oficinas: privadas, gubernamentales, internacionales, 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O DE DOCUMEN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 recept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 clasificad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 emisora (a otros centr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 de servicio ( requerimientos de estudiosos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EOS</a:t>
                      </a:r>
                      <a:r>
                        <a:rPr b="1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diversos tip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ENCIA DE CARÁCTER DOC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áted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renc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in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o ambiente univers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tua influencia informativa de todos los roles universit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o ambiente profes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tua influencia informativa dentro de círculos profesion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o ambiente social gene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junto de vivencias capitalizables como inform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324000" y="260280"/>
            <a:ext cx="856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Century Gothic"/>
              </a:rPr>
              <a:t>Fuentes utilizables por el estudiante universitari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68360" y="1977840"/>
            <a:ext cx="8229600" cy="41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Por sus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Por su ob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Por sus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Por su ut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Por su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or su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lasificación de las fuentes de inform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71640" y="1760400"/>
            <a:ext cx="71640" cy="720720"/>
          </a:xfrm>
          <a:custGeom>
            <a:avLst/>
            <a:gdLst>
              <a:gd name="textAreaLeft" fmla="*/ 45720 w 71640"/>
              <a:gd name="textAreaRight" fmla="*/ 72000 w 7164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38240" y="1778040"/>
            <a:ext cx="1104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Prim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Secund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Terci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71640" y="2625840"/>
            <a:ext cx="71640" cy="587160"/>
          </a:xfrm>
          <a:custGeom>
            <a:avLst/>
            <a:gdLst>
              <a:gd name="textAreaLeft" fmla="*/ 45720 w 71640"/>
              <a:gd name="textAreaRight" fmla="*/ 72000 w 71640"/>
              <a:gd name="textAreaTop" fmla="*/ 15120 h 587160"/>
              <a:gd name="textAreaBottom" fmla="*/ 572040 h 58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22400" y="2652840"/>
            <a:ext cx="95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Direc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Indirec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80000" y="3084480"/>
            <a:ext cx="71280" cy="587520"/>
          </a:xfrm>
          <a:custGeom>
            <a:avLst/>
            <a:gdLst>
              <a:gd name="textAreaLeft" fmla="*/ 45720 w 71280"/>
              <a:gd name="textAreaRight" fmla="*/ 71640 w 71280"/>
              <a:gd name="textAreaTop" fmla="*/ 15120 h 587520"/>
              <a:gd name="textAreaBottom" fmla="*/ 572400 h 587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52000" y="3040200"/>
            <a:ext cx="113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ráf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Obser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4694040" y="2905560"/>
            <a:ext cx="611640" cy="219600"/>
          </a:xfrm>
          <a:prstGeom prst="line">
            <a:avLst/>
          </a:prstGeom>
          <a:ln w="93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7560" y="3201840"/>
            <a:ext cx="616680" cy="70200"/>
          </a:xfrm>
          <a:prstGeom prst="line">
            <a:avLst/>
          </a:prstGeom>
          <a:ln w="93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84440" y="2765520"/>
            <a:ext cx="198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Bibliográficas, hemer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716360" y="3084120"/>
            <a:ext cx="576360" cy="73080"/>
          </a:xfrm>
          <a:prstGeom prst="line">
            <a:avLst/>
          </a:prstGeom>
          <a:ln w="93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03520" y="2968560"/>
            <a:ext cx="184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Iconográficas, vide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97760" y="3184560"/>
            <a:ext cx="182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Fonográficas, audi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086080" y="3633840"/>
            <a:ext cx="616320" cy="70200"/>
          </a:xfrm>
          <a:prstGeom prst="line">
            <a:avLst/>
          </a:prstGeom>
          <a:ln w="93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114880" y="3516480"/>
            <a:ext cx="576360" cy="72720"/>
          </a:xfrm>
          <a:prstGeom prst="line">
            <a:avLst/>
          </a:prstGeom>
          <a:ln w="93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717520" y="3400560"/>
            <a:ext cx="220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Del conocimiento de la naturalez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730480" y="3616200"/>
            <a:ext cx="209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Del conocimiento de la socie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70280" y="4005360"/>
            <a:ext cx="71280" cy="587160"/>
          </a:xfrm>
          <a:custGeom>
            <a:avLst/>
            <a:gdLst>
              <a:gd name="textAreaLeft" fmla="*/ 45720 w 71280"/>
              <a:gd name="textAreaRight" fmla="*/ 71640 w 71280"/>
              <a:gd name="textAreaTop" fmla="*/ 15120 h 587160"/>
              <a:gd name="textAreaBottom" fmla="*/ 572040 h 58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941920" y="4032360"/>
            <a:ext cx="126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ener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Especializ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348000" y="4653000"/>
            <a:ext cx="71640" cy="587160"/>
          </a:xfrm>
          <a:custGeom>
            <a:avLst/>
            <a:gdLst>
              <a:gd name="textAreaLeft" fmla="*/ 45720 w 71640"/>
              <a:gd name="textAreaRight" fmla="*/ 72000 w 71640"/>
              <a:gd name="textAreaTop" fmla="*/ 15120 h 587160"/>
              <a:gd name="textAreaBottom" fmla="*/ 572040 h 58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16400" y="4680000"/>
            <a:ext cx="162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Clásicas o antigu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Actualiz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5372280"/>
            <a:ext cx="71640" cy="587160"/>
          </a:xfrm>
          <a:custGeom>
            <a:avLst/>
            <a:gdLst>
              <a:gd name="textAreaLeft" fmla="*/ 45720 w 71640"/>
              <a:gd name="textAreaRight" fmla="*/ 72000 w 71640"/>
              <a:gd name="textAreaTop" fmla="*/ 15120 h 587160"/>
              <a:gd name="textAreaBottom" fmla="*/ 572040 h 58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30160" y="5327640"/>
            <a:ext cx="106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Forma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Informa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14120" y="5229360"/>
            <a:ext cx="399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Bibliotecas, hemerotecas, archivos, centros de documentación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Información, museo y audiencia de carácter docen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34360" y="5762520"/>
            <a:ext cx="316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Medio ambiente universitario, profesional y soci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39640" y="260280"/>
            <a:ext cx="860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étodos de investig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03280" y="1555920"/>
            <a:ext cx="51134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9640" y="1268280"/>
            <a:ext cx="6408720" cy="66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Método de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Es el procedimiento riguroso formulado de una  manera lógica que el investigador debe seguir en la adquisición del cono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9640" y="4221000"/>
            <a:ext cx="6408720" cy="8125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Método de anál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Proceso de conocimiento que se inicia por la identificación de cada una de las partes que caracterizan una realidad.  De esta forma se establece la relación causa-efecto entre los elementos que componen el objeto de investig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9640" y="3500280"/>
            <a:ext cx="6408720" cy="66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Método deduc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Proceso de conocimiento que se inicia por la observación de fenómenos de carácter general con el propósito de carácter particular contenidas explícitamente en la situación gener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9640" y="2708280"/>
            <a:ext cx="6408720" cy="8125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Método induc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Proceso de conocimiento que se inicia por la observación de fenómenos particulares con el propósito de llegar a conclusiones y premisas de carácter general que pueden ser aplicadas a situaciones similares a la obser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9640" y="1989000"/>
            <a:ext cx="6408720" cy="66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Método de obser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Proceso de conocimiento por el cual se perciben deliberadamente ciertos rasgos existentes en el objeto de cono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308720" y="3789360"/>
            <a:ext cx="1582920" cy="98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Aspectos metodológ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Fuentes y técnicas de in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/>
          <p:nvPr/>
        </p:nvCxnSpPr>
        <p:spPr>
          <a:xfrm>
            <a:off x="6877080" y="1916280"/>
            <a:ext cx="2160" cy="3798000"/>
          </a:xfrm>
          <a:prstGeom prst="bentConnector3">
            <a:avLst>
              <a:gd name="adj1" fmla="val 13500000"/>
            </a:avLst>
          </a:prstGeom>
          <a:ln w="38160">
            <a:solidFill>
              <a:srgbClr val="000000"/>
            </a:solidFill>
            <a:miter/>
          </a:ln>
        </p:spPr>
      </p:cxnSp>
      <p:sp>
        <p:nvSpPr>
          <p:cNvPr id="240" name=""/>
          <p:cNvSpPr/>
          <p:nvPr/>
        </p:nvSpPr>
        <p:spPr>
          <a:xfrm>
            <a:off x="3203640" y="11253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76720" y="1844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2637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76720" y="335772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76720" y="407664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093080" y="4581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908000" y="907920"/>
            <a:ext cx="3384720" cy="27648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spectos metodológicos de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9640" y="5805360"/>
            <a:ext cx="6408720" cy="8125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Otros méto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El investigador puede proponer otros métodos como el método comparativo, método dialéctico, método empírico, método experimental, método estadístico,  método histórico, método sistemático, método exegético, método intuitivo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9640" y="5084640"/>
            <a:ext cx="6408720" cy="66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Método de sínt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Proceso de conocimiento que procede de lo simple a lo complejo, de la causa a los efectos, de la parte al todo, de los principios a las consecue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501336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5734080"/>
            <a:ext cx="0" cy="214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966960" y="1197000"/>
            <a:ext cx="805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66960" y="2131920"/>
            <a:ext cx="171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17560" y="3998880"/>
            <a:ext cx="23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LAS FIC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384280" y="2408400"/>
            <a:ext cx="987480" cy="3770280"/>
          </a:xfrm>
          <a:custGeom>
            <a:avLst/>
            <a:gdLst>
              <a:gd name="textAreaLeft" fmla="*/ 631080 w 987480"/>
              <a:gd name="textAreaRight" fmla="*/ 987840 w 987480"/>
              <a:gd name="textAreaTop" fmla="*/ 98280 h 3770280"/>
              <a:gd name="textAreaBottom" fmla="*/ 3672000 h 377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0560" y="2630520"/>
            <a:ext cx="13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oncep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30560" y="5235480"/>
            <a:ext cx="13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La ficha de trabajo o conten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506760" y="3178080"/>
            <a:ext cx="13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l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49800" y="2131920"/>
            <a:ext cx="447480" cy="2455920"/>
          </a:xfrm>
          <a:custGeom>
            <a:avLst/>
            <a:gdLst>
              <a:gd name="textAreaLeft" fmla="*/ 285840 w 447480"/>
              <a:gd name="textAreaRight" fmla="*/ 447840 w 447480"/>
              <a:gd name="textAreaTop" fmla="*/ 63720 h 2455920"/>
              <a:gd name="textAreaBottom" fmla="*/ 2392200 h 245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697280" y="2255760"/>
            <a:ext cx="1270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De referencia a fu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97280" y="4116240"/>
            <a:ext cx="1270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De trabajo /conten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10200" y="1695600"/>
            <a:ext cx="106560" cy="2008080"/>
          </a:xfrm>
          <a:custGeom>
            <a:avLst/>
            <a:gdLst>
              <a:gd name="textAreaLeft" fmla="*/ 68040 w 106560"/>
              <a:gd name="textAreaRight" fmla="*/ 106920 w 106560"/>
              <a:gd name="textAreaTop" fmla="*/ 52200 h 2008080"/>
              <a:gd name="textAreaBottom" fmla="*/ 1955880 h 200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49800" y="5000760"/>
            <a:ext cx="353880" cy="1293840"/>
          </a:xfrm>
          <a:custGeom>
            <a:avLst/>
            <a:gdLst>
              <a:gd name="textAreaLeft" fmla="*/ 226080 w 353880"/>
              <a:gd name="textAreaRight" fmla="*/ 354240 w 353880"/>
              <a:gd name="textAreaTop" fmla="*/ 33480 h 1293840"/>
              <a:gd name="textAreaBottom" fmla="*/ 1260360 h 1293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340320" y="1571760"/>
            <a:ext cx="2659320" cy="18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bibli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hemer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de archiv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Audi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Vide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Icon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de testimonio oral y escri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de observación científ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10200" y="3822840"/>
            <a:ext cx="139680" cy="1001520"/>
          </a:xfrm>
          <a:custGeom>
            <a:avLst/>
            <a:gdLst>
              <a:gd name="textAreaLeft" fmla="*/ 89280 w 139680"/>
              <a:gd name="textAreaRight" fmla="*/ 140040 w 139680"/>
              <a:gd name="textAreaTop" fmla="*/ 25920 h 1001520"/>
              <a:gd name="textAreaBottom" fmla="*/ 975600 h 100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291360" y="3822840"/>
            <a:ext cx="303372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Textua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De resum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De reseña o infor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De resen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Mixta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843680" y="3705120"/>
            <a:ext cx="69840" cy="471600"/>
          </a:xfrm>
          <a:custGeom>
            <a:avLst/>
            <a:gdLst>
              <a:gd name="textAreaLeft" fmla="*/ 44640 w 69840"/>
              <a:gd name="textAreaRight" fmla="*/ 69840 w 69840"/>
              <a:gd name="textAreaTop" fmla="*/ 12240 h 471600"/>
              <a:gd name="textAreaBottom" fmla="*/ 459360 h 4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985160" y="3762360"/>
            <a:ext cx="1339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Contínu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Discontínuas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48240" y="5059440"/>
            <a:ext cx="166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aracterístic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48240" y="5559480"/>
            <a:ext cx="13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Integ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743440" y="5435640"/>
            <a:ext cx="223920" cy="1122480"/>
          </a:xfrm>
          <a:custGeom>
            <a:avLst/>
            <a:gdLst>
              <a:gd name="textAreaLeft" fmla="*/ 143280 w 223920"/>
              <a:gd name="textAreaRight" fmla="*/ 224280 w 223920"/>
              <a:gd name="textAreaTop" fmla="*/ 29160 h 1122480"/>
              <a:gd name="textAreaBottom" fmla="*/ 1093320 h 112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041880" y="5373720"/>
            <a:ext cx="261000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Encabezado; tema y subt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Identificación de la fuente de local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Contenido en una o varias cédu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086600" y="3940200"/>
            <a:ext cx="59688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33360"/>
            <a:ext cx="8964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incipales instrumentos de la investigación docu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450720" y="233280"/>
            <a:ext cx="9522000" cy="5587920"/>
            <a:chOff x="450720" y="233280"/>
            <a:chExt cx="9522000" cy="5587920"/>
          </a:xfrm>
        </p:grpSpPr>
        <p:sp>
          <p:nvSpPr>
            <p:cNvPr id="275" name=""/>
            <p:cNvSpPr/>
            <p:nvPr/>
          </p:nvSpPr>
          <p:spPr>
            <a:xfrm>
              <a:off x="907920" y="1071720"/>
              <a:ext cx="4470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0720" y="3425760"/>
              <a:ext cx="3500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LAS CITAS EN LA INVESTIG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722400" y="1697040"/>
              <a:ext cx="831960" cy="4103640"/>
            </a:xfrm>
            <a:custGeom>
              <a:avLst/>
              <a:gdLst>
                <a:gd name="textAreaLeft" fmla="*/ 531720 w 831960"/>
                <a:gd name="textAreaRight" fmla="*/ 832320 w 831960"/>
                <a:gd name="textAreaTop" fmla="*/ 106920 h 4103640"/>
                <a:gd name="textAreaBottom" fmla="*/ 3996720 h 410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84520" y="2201760"/>
              <a:ext cx="175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Concep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179600" y="4505400"/>
              <a:ext cx="175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Clases de 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27520" y="3857760"/>
              <a:ext cx="461880" cy="1942920"/>
            </a:xfrm>
            <a:custGeom>
              <a:avLst/>
              <a:gdLst>
                <a:gd name="textAreaLeft" fmla="*/ 295200 w 461880"/>
                <a:gd name="textAreaRight" fmla="*/ 462240 w 461880"/>
                <a:gd name="textAreaTop" fmla="*/ 50400 h 1942920"/>
                <a:gd name="textAreaBottom" fmla="*/ 1892520 h 19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84720" y="4002120"/>
              <a:ext cx="388800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Textu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De resum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De reseñ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De resención o comentar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Mixt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36520" y="233280"/>
              <a:ext cx="845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Principales instrumentos de la investig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684360" y="306360"/>
            <a:ext cx="8245440" cy="15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incipales instrumentos de la investigación docu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04920" y="37782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L USO DE LAS NO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133720" y="1644480"/>
            <a:ext cx="576000" cy="4789800"/>
          </a:xfrm>
          <a:custGeom>
            <a:avLst/>
            <a:gdLst>
              <a:gd name="textAreaLeft" fmla="*/ 367920 w 576000"/>
              <a:gd name="textAreaRight" fmla="*/ 576000 w 576000"/>
              <a:gd name="textAreaTop" fmla="*/ 124920 h 4789800"/>
              <a:gd name="textAreaBottom" fmla="*/ 4664880 h 478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90920" y="1689120"/>
            <a:ext cx="230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oncepto y caracterís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590920" y="2711520"/>
            <a:ext cx="26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lasific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666880" y="492120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oncepto y caracterís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191120" y="2254320"/>
            <a:ext cx="152280" cy="121896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267080" y="2406600"/>
            <a:ext cx="3200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Notas de referencia a  fu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Notas de ampliación de tex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191120" y="3701880"/>
            <a:ext cx="228600" cy="2732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70920 h 2732400"/>
              <a:gd name="textAreaBottom" fmla="*/ 2661480 h 273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495680" y="3701880"/>
            <a:ext cx="198144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Modalidades sobre su colo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Modalidades en cuanto a la anotación de la fu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013520" y="3235320"/>
            <a:ext cx="73080" cy="1152360"/>
          </a:xfrm>
          <a:custGeom>
            <a:avLst/>
            <a:gdLst>
              <a:gd name="textAreaLeft" fmla="*/ 46800 w 73080"/>
              <a:gd name="textAreaRight" fmla="*/ 73440 w 730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553080" y="4921200"/>
            <a:ext cx="92160" cy="1655640"/>
          </a:xfrm>
          <a:custGeom>
            <a:avLst/>
            <a:gdLst>
              <a:gd name="textAreaLeft" fmla="*/ 59040 w 92160"/>
              <a:gd name="textAreaRight" fmla="*/ 92520 w 9216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162920" y="3216240"/>
            <a:ext cx="1981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tas a pie de pag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tas al final del capítu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tas al final de la ob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0" y="5016600"/>
            <a:ext cx="22860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tas de refer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Notas de referencia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contín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Notas de referencia d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re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Notas de referencia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ruz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306360"/>
            <a:ext cx="89280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incipales instrumentos de la investigación docu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26028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uadro resumen principales técnicas de investigación empírica o de ca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684360" y="1538280"/>
          <a:ext cx="8135640" cy="5203800"/>
        </p:xfrm>
        <a:graphic>
          <a:graphicData uri="http://schemas.openxmlformats.org/drawingml/2006/table">
            <a:tbl>
              <a:tblPr/>
              <a:tblGrid>
                <a:gridCol w="3747960"/>
                <a:gridCol w="43876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ipales técnicas de investig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ific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La técnica de observación científ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La observación no estructur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La técnica de observación estructur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 Técnica de observación participa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 Técnica de observación no participa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 Técnica de observación experim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Las técnicas generales de testimonio oral y escri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Técnica de encue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Técnica de muestreo y elaboración de cuestion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 Técnica de entre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 Técnicas estadíst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 Técnicas de estudios de ca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8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Técnicas jurídicas de captura y sistematización de inform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Técnicas de captura, sistematización  permanente de información (sistemática jurídic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Técnica de captura  y sistematización  ocasional de inform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Técnicas  jurídicas de análisis. Presentación y divulgación de informaciones (Informática jurídic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acteríst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clasificación y modal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mentos y manejo de fichas, citas y no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>
            <a:grayscl/>
          </a:blip>
          <a:srcRect l="0" t="0" r="4610" b="0"/>
          <a:stretch/>
        </p:blipFill>
        <p:spPr>
          <a:xfrm>
            <a:off x="4335480" y="0"/>
            <a:ext cx="48085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98560" y="4365720"/>
            <a:ext cx="63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El Conocimien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373720"/>
            <a:ext cx="716436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59772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56000" y="6302520"/>
            <a:ext cx="47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rofesor : Gabriel Alvarez Undurra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>
            <a:grayscl/>
            <a:lum bright="24000"/>
          </a:blip>
          <a:stretch/>
        </p:blipFill>
        <p:spPr>
          <a:xfrm>
            <a:off x="3708360" y="852480"/>
            <a:ext cx="5437080" cy="46879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>
            <a:grayscl/>
            <a:lum bright="24000"/>
          </a:blip>
          <a:stretch/>
        </p:blipFill>
        <p:spPr>
          <a:xfrm>
            <a:off x="3348000" y="692280"/>
            <a:ext cx="4438800" cy="489564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79280" y="2347920"/>
            <a:ext cx="698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entury Gothic"/>
              </a:rPr>
              <a:t>La Investigación Jurídic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529080" y="5732640"/>
            <a:ext cx="55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Profesor: Gabriel Alvarez Undurra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189000"/>
            <a:ext cx="6084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iclo metodológico del Der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730920" y="5280120"/>
            <a:ext cx="172872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áted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Semin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Investigación monográf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711760" y="5280120"/>
            <a:ext cx="101916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ientíf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492800" y="5280120"/>
            <a:ext cx="121896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El Doc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87280" y="5280120"/>
            <a:ext cx="330552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IV. Enseñanza del Der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Didáctica del Der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730920" y="4251240"/>
            <a:ext cx="172872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Filósof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ompar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Histór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711760" y="4251240"/>
            <a:ext cx="101916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rític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492800" y="4251240"/>
            <a:ext cx="121896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El Juri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187280" y="4251240"/>
            <a:ext cx="330552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III. Conocimientos del Derec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onocimiento jurídico- Especulativo del Derech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(Filósofo-historiad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730920" y="3435480"/>
            <a:ext cx="1728720" cy="81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Hermenéu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Analóg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Principi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711760" y="3435480"/>
            <a:ext cx="1019160" cy="81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Positiv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492800" y="3435480"/>
            <a:ext cx="1218960" cy="81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El Ju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87280" y="3435480"/>
            <a:ext cx="3305520" cy="81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II. Aplicación del Derech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( Ejecutiva del derech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30920" y="2619360"/>
            <a:ext cx="172872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Form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Natur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onsuetudin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11760" y="2619360"/>
            <a:ext cx="101916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Gené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92800" y="2619360"/>
            <a:ext cx="121896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El Legisl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87280" y="2619360"/>
            <a:ext cx="330552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711360" indent="-711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I. Formación del Derech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(Genética del Derech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711760" y="1628640"/>
            <a:ext cx="274788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sp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2800" y="1628640"/>
            <a:ext cx="121896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ujetos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(artífic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87280" y="1628640"/>
            <a:ext cx="330552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o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187280" y="1628640"/>
            <a:ext cx="7272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187280" y="2619360"/>
            <a:ext cx="727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87280" y="3435480"/>
            <a:ext cx="727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187280" y="4251240"/>
            <a:ext cx="727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87280" y="5280120"/>
            <a:ext cx="727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6308640"/>
            <a:ext cx="7272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187280" y="1628640"/>
            <a:ext cx="0" cy="45021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492800" y="1628640"/>
            <a:ext cx="0" cy="45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711760" y="1628640"/>
            <a:ext cx="0" cy="45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459640" y="1628640"/>
            <a:ext cx="0" cy="45021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730920" y="2619360"/>
            <a:ext cx="0" cy="368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189000"/>
            <a:ext cx="6300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uentes del conocimiento juríd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755640" y="1413000"/>
          <a:ext cx="7488360" cy="4922640"/>
        </p:xfrm>
        <a:graphic>
          <a:graphicData uri="http://schemas.openxmlformats.org/drawingml/2006/table">
            <a:tbl>
              <a:tblPr/>
              <a:tblGrid>
                <a:gridCol w="2028960"/>
                <a:gridCol w="850680"/>
                <a:gridCol w="2664000"/>
                <a:gridCol w="1944720"/>
              </a:tblGrid>
              <a:tr h="6476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A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referentes a las formas y a la vida del Derech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4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MEDIATA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elaboradas por un intermediario o agente y para fines científicos en orden al Derech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INMEDIA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estadas sin la intervención de un intermediario que persiga fines científicos en orden al derech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ch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98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teratura jurídic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en sentido estricto: obras  de tratadistas, comentaristas, sintetizadores, etc., privado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copilación , repertorios, antologías, etc. De fuentes juríd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ducta humana de tipo jurídico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stumbres jurídic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egislación </a:t>
                      </a:r>
                      <a:r>
                        <a:rPr b="1" i="1" lang="es-E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en sentido genérico: códigos, leyes, decretos-leyes, decretos con fuerza de ley, ordenanzas, reglamentos, decretos, etc., dictados en ejercicio de la Potestad Legislativa o Reglamentaria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rmas jurídicas consuetudinar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soluciones judiciales 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generales: auto-acordados; especiales: sentencias, autos y decreto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erminología juríd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franes y aforismos, locuciones clásicas de contenido juríd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ormularios; registros , fórmulas, asientos, fichas, minutas de contenido jurídic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extos de actas o contratos o de testimonios jurídic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stablecimientos, locales, aparatos, muebles y demás implementos, para la realización de sesiones, actos, reuniones, etc. o para impartir sanciones o premios de tipo juríd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tributos, emblemas, distintivos, etc. de instituciones o personas para fines jurídic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tros objetos 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monedas, sellos, etc. De esa índole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37" name=""/>
          <p:cNvSpPr/>
          <p:nvPr/>
        </p:nvSpPr>
        <p:spPr>
          <a:xfrm>
            <a:off x="755640" y="3357720"/>
            <a:ext cx="7488360" cy="302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771640" y="3357720"/>
            <a:ext cx="0" cy="30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635280" y="3357720"/>
            <a:ext cx="0" cy="30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300720" y="3357720"/>
            <a:ext cx="0" cy="30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826920" y="1197000"/>
          <a:ext cx="7488360" cy="4922640"/>
        </p:xfrm>
        <a:graphic>
          <a:graphicData uri="http://schemas.openxmlformats.org/drawingml/2006/table">
            <a:tbl>
              <a:tblPr/>
              <a:tblGrid>
                <a:gridCol w="2028960"/>
                <a:gridCol w="851040"/>
                <a:gridCol w="2663640"/>
                <a:gridCol w="1944720"/>
              </a:tblGrid>
              <a:tr h="6476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 INDIRECTA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no referentes específica, pero si conexamente las formas y a la vida del Derech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4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MEDIATA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producidas por un intermediario  para fines científicos y, aún, artísticos, no-jurídicos en sí, pero con proyección jurídic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INMEDIA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an noticia accidental o secundaria de lo jurídico o de  lo científico o social con proyección jurídica, sin la intervención finalista de un agent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ch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98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teratura sobre Ciencias Políticas, Ciencias Naturales, Sociología, Psicología, Ecología, Filosofía, Historia, Moral, Religión, Economía, Higiene, Previsión, etc., literatura social en una palab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copilación , repertorios, antologías, etc. De fuentes normativas no juríd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ducta humana de tipo pre, proto, anti y meta-juríd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sus testimonios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rmas éticas, higiénicas , económicas, técnicas, religiosas, sociales, etc, </a:t>
                      </a:r>
                      <a:r>
                        <a:rPr b="0" i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sus testimonio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soluciones, instrucciones, órdenes, etc.,de carácter administrativ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erminología política, administrativa, económico-técnico, et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franes, aforismos, locuciones, etc, </a:t>
                      </a:r>
                      <a:r>
                        <a:rPr b="0" i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de contenido soci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ponim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iezas orales, escritas, grabadas, fotografías, etc de creaciones intelectuales de autoridades o particulares de contenido pre, proto, anti y meta jurídico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bjetos individualizados en I, B, b” pero de contenido pre, proto, anti o meta jurídic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numentos históricos , obras artísticas, restos etno-arqueológico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tros objetos representativos de la Vida Social, la Cultura y  la Civilizació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42" name=""/>
          <p:cNvSpPr/>
          <p:nvPr/>
        </p:nvSpPr>
        <p:spPr>
          <a:xfrm>
            <a:off x="0" y="189000"/>
            <a:ext cx="6300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uentes del conocimiento juríd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26920" y="3141720"/>
            <a:ext cx="7490160" cy="295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843280" y="3141720"/>
            <a:ext cx="0" cy="295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372360" y="3141720"/>
            <a:ext cx="0" cy="295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708360" y="3141720"/>
            <a:ext cx="0" cy="295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24000" y="189000"/>
            <a:ext cx="85690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atriz relación  (Interrogantes, Objetivos, Hipótesis y Títulos de Investig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137360" y="3809880"/>
            <a:ext cx="1814400" cy="26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oneda única Latinoamericana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mpacto sobre la estabilidad económica y social de los países de esa reg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96040" y="3809880"/>
            <a:ext cx="1741320" cy="26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creación de una moneda única para los países latinoamericanos afectará a la estabilidad y desarrollo de los mismos en el orden económico y soci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475080" y="3809880"/>
            <a:ext cx="1920960" cy="26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izar el impacto económico y social que se pudiese generar sobre la estabilidad y desarrollo de los países latinoamericanos como consecuencia de la creación de una moneda única para esa reg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692360" y="3809880"/>
            <a:ext cx="1782720" cy="26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impacto económico y social tendrá la creación de una moneda única latinoamericana sobre la estabilidad y desarrollo económico de los países de esa regió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137360" y="1805040"/>
            <a:ext cx="1814400" cy="20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sponsabilidad en la acción procesal civil en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396040" y="1805040"/>
            <a:ext cx="1741320" cy="20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 ejercicio de la acción procesal civil  por parte del Juez es condición necesaria para el cumplimiento de la obligación pública de proveer y dictar sent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475080" y="1805040"/>
            <a:ext cx="1920960" cy="20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ar la condición necesaria para que el Juez cumpla con la obligación pública de proveer y dictar sentenc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692360" y="1805040"/>
            <a:ext cx="1782720" cy="20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Cuál  es la condición necesaria para que el Juez cumpla la obligación pública de proveer y dictar sentenci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137360" y="1305000"/>
            <a:ext cx="181440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ITU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396040" y="1305000"/>
            <a:ext cx="174132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IPOT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475080" y="1305000"/>
            <a:ext cx="192096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BJE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92360" y="1305000"/>
            <a:ext cx="178272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NTERROG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1305000"/>
            <a:ext cx="72594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805040"/>
            <a:ext cx="72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809880"/>
            <a:ext cx="72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6453360"/>
            <a:ext cx="72594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1305000"/>
            <a:ext cx="0" cy="5148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475080" y="1305000"/>
            <a:ext cx="0" cy="514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396040" y="1305000"/>
            <a:ext cx="0" cy="514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137360" y="1305000"/>
            <a:ext cx="0" cy="514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951760" y="1305000"/>
            <a:ext cx="0" cy="5148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307800"/>
            <a:ext cx="802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atriz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539640" y="1773360"/>
          <a:ext cx="8064720" cy="4117680"/>
        </p:xfrm>
        <a:graphic>
          <a:graphicData uri="http://schemas.openxmlformats.org/drawingml/2006/table">
            <a:tbl>
              <a:tblPr/>
              <a:tblGrid>
                <a:gridCol w="1881360"/>
                <a:gridCol w="2112840"/>
                <a:gridCol w="1919520"/>
                <a:gridCol w="2151000"/>
              </a:tblGrid>
              <a:tr h="44928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Interrog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Objetivo 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Hipóte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Títu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840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¿Cuál es el nivel de eficacia del Plan de prevención y erradicación del trabajo infantil y adolescente en Chil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nalizar el nivel de eficacia del Plan de prevención y erradicación del trabajo infantil y adolescente en Ch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    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l Plan de prevención y erradicación del trabajo infantil y adolescente en Chile es ineficaz, puesto que aún se mantienen altos índices de és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Plan de prevención y erradicación del trabajo infantil y adolescente en Chile. Aplicación y eficac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1" name=""/>
          <p:cNvSpPr/>
          <p:nvPr/>
        </p:nvSpPr>
        <p:spPr>
          <a:xfrm>
            <a:off x="0" y="479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0" y="189000"/>
            <a:ext cx="802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atriz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5219640" y="4508640"/>
            <a:ext cx="2016360" cy="173808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0" y="2241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470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755640" y="1316160"/>
          <a:ext cx="7843680" cy="5281560"/>
        </p:xfrm>
        <a:graphic>
          <a:graphicData uri="http://schemas.openxmlformats.org/drawingml/2006/table">
            <a:tbl>
              <a:tblPr/>
              <a:tblGrid>
                <a:gridCol w="2413080"/>
                <a:gridCol w="2712960"/>
                <a:gridCol w="2717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Pregun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Objetivos específ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nteni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6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.- ¿Cuál es la política social estatal en materia de erradicación del trabajo infantil en Chil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.- Describir cuál es la política social estatal en materia de erradicación del trabajo infantil en Chi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apítulo I: Política social estatal y erradicación del trabajo infantil en Chi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.- ¿Cómo se ha aplicado el Plan de prevención y erradicación del trabajo infantil y adolescente en Chil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.- Analizar la forma en que se ha aplicado esta política en Chile (criterio orgánico y funcional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apítulo II: Aplicación del Plan de prevención y erradicación del trabajo infantil y adolescente en Ch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5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.- ¿Cuáles han sido los resultados de esta aplicación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.- Precisar cuáles han sido los resultados de esta aplicaci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apítulo III: Resultados de la aplicación del Plan de prevención y erradicación del trabajo infantil y adolescente en Ch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7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atriz que establece la relación entre los principales elementos d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539640" y="1413000"/>
          <a:ext cx="8229600" cy="4886280"/>
        </p:xfrm>
        <a:graphic>
          <a:graphicData uri="http://schemas.openxmlformats.org/drawingml/2006/table">
            <a:tbl>
              <a:tblPr/>
              <a:tblGrid>
                <a:gridCol w="2170080"/>
                <a:gridCol w="194472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terrog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bjetivo 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ipóte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ítu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4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¿Cuál es el nivel de influencia del dumping social en el régimen jurídico del trabajo infantil en Chile y Venezuela; qué políticas y programas sociales han establecido ambos paíse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nalizar la influencia de dumping social en la situación sociojurídica y en la formulación de políticas y programas sociales del trabajo infantil en Chile y Venezu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 dumping social, como fenómeno propio de la globalización y del modelo económico exógeno a Chile y Venezuela , que regula el mercado internacional, determina las normas jurídicas, las políticas y programas sociales en el tratamiento del trabajo infant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 Trabajo Infantil en Chile y Venezuela, su problemática Sociojurídica y su relación con el Dumping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075520" cy="66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atriz que establece la relación entre  preguntas secundarias y objetivos específ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395280" y="1341360"/>
          <a:ext cx="8497800" cy="5424480"/>
        </p:xfrm>
        <a:graphic>
          <a:graphicData uri="http://schemas.openxmlformats.org/drawingml/2006/table">
            <a:tbl>
              <a:tblPr/>
              <a:tblGrid>
                <a:gridCol w="4321080"/>
                <a:gridCol w="4176720"/>
              </a:tblGrid>
              <a:tr h="393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gun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 específ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0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Qué antecedentes históricos  tiene el trabajo infantil en ambos países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Cuáles  son los enfoques teóricos contrapuestos respecto del problema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En qué consiste el enfoque metodológico de la investigación sociojurídica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Qué tipos de trabajo infantil se dan en ambos países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En qué consiste el dumping social en el trabajo infantil en Chile y Venezuela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Cuál es el régimen jurídico del trabajo de menores en Chile y Venezuela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Cuáles son las propuestas de políticas y programas sociales en la materia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ficar los antecedentes históricos del trabajo infantil en Chile y Venezuel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nocer los enfoques teóricos existent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bir la metodología de la investigación sociojuríd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rminar los tipos de trabajo infantil en Chile y Venezuel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ficar los aspectos característicos del dumping social en estos país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izar comparativamente el régimen jurídico del trabajo infantil en ambos país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blecer las políticas y programas sociales de ambos países en la materi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075520" cy="4366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atriz de operacionalización de las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446040" y="1628640"/>
          <a:ext cx="8373960" cy="4660920"/>
        </p:xfrm>
        <a:graphic>
          <a:graphicData uri="http://schemas.openxmlformats.org/drawingml/2006/table">
            <a:tbl>
              <a:tblPr/>
              <a:tblGrid>
                <a:gridCol w="2016000"/>
                <a:gridCol w="2376360"/>
                <a:gridCol w="2232000"/>
                <a:gridCol w="17496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ipóte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ariab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dicado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u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 dumping social, como fenómeno propio de la globalización y del modelo económico exógeno a Chile y Venezuela, que regula el mercado internacional, determina las normas jurídicas, las políticas y programas sociales en el tratamiento del trabajo infan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V. independient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umping soc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stadística sobre trabajo infantil en Chile y Venezuela (discriminando sus distintos tipo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abores productivas que genera el trabajo infant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aracterísticas del modelo económico en Chile y Venezuel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ctores nacionales e internacionales, sus posicion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rmas jurídicas internacionales (Declaración universal de los derechos humanos, convención internacional de los derechos del niño, Declaración de los derechos del Niño, Pacto internacional de derechos Civiles y políticos, Pacto internacional de derechos económicos sociales y culturales, Pacto de San José de Costa Rica, Convenio 138 y 182 de la OIT) y nacionales de ambos países (Constitución, Leyes de menores y de familia, Legislación laboral, etc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ex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vestig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uentes formales y materi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ocumen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ntrevistas, etc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12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V. Dependient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rmas jurídicas, políticas y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ograma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soc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grayscl/>
          </a:blip>
          <a:srcRect l="0" t="79405" r="20735" b="7362"/>
          <a:stretch/>
        </p:blipFill>
        <p:spPr>
          <a:xfrm>
            <a:off x="0" y="73080"/>
            <a:ext cx="3995640" cy="907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843280" y="260280"/>
            <a:ext cx="6300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06906" dir="9332361" blurRad="0" rotWithShape="0">
              <a:srgbClr val="99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ipos de Conoci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989000"/>
            <a:ext cx="511164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IENTÍF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3213000"/>
            <a:ext cx="518472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RÍTICO-REFLEX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4508640"/>
            <a:ext cx="5111640" cy="106884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RE-CIENTÍFICO O SENSO-PERCEP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56360" y="1776240"/>
            <a:ext cx="244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GENÉ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ISTEM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56360" y="4397400"/>
            <a:ext cx="29876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ESTÉ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DOGMÁ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DE SENTIDO COMÚ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ITOLÓ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364000" y="4613040"/>
            <a:ext cx="792360" cy="36036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64000" y="4973760"/>
            <a:ext cx="86364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64000" y="4973760"/>
            <a:ext cx="792360" cy="50472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4000" y="4973760"/>
            <a:ext cx="792360" cy="93636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219640" y="2131920"/>
            <a:ext cx="936720" cy="14472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19640" y="2276640"/>
            <a:ext cx="936720" cy="14436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404640"/>
            <a:ext cx="5761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ronograma de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042920" y="1628640"/>
          <a:ext cx="7705800" cy="4680000"/>
        </p:xfrm>
        <a:graphic>
          <a:graphicData uri="http://schemas.openxmlformats.org/drawingml/2006/table">
            <a:tbl>
              <a:tblPr/>
              <a:tblGrid>
                <a:gridCol w="25218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41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ctivida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ARZ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BR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AY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JUN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JUL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GO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rqueo bibliográf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aboración del marco teór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aboración de los instrumen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ueba de los instrumen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colección de da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ocesamiento de da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nálisis de los da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dacción del borr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visión y corrección del borr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esentación del infor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50920" y="184464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LIMIN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476360" y="25092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structura de una tesis (monografí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4000" y="2176560"/>
            <a:ext cx="129672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TÍTULO DE LA TE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AGRADECIMIENTO-RECONOCIMI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PRÓLOGO (resumen del contenido de la tesi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SIGLAS ESPECIALES (si fuera necesario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ÍNDICE GENER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836720" y="2176560"/>
            <a:ext cx="1655640" cy="22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I. INTRODU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-(síntesis del proceso de la investigación)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Planteamiento del problema:</a:t>
            </a: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 límites, valoración, (importancia). ¿Qué?  ¿Por qué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Proceso a seguir</a:t>
            </a: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 ¿Cómo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Objetivo</a:t>
            </a: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.¿Para qué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013440" y="2176560"/>
            <a:ext cx="1655640" cy="26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III.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 CONCLUSIÓN: OBJETIVO DE LA INVESTIGACIÓN: </a:t>
            </a: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Formalización de la te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Resultado de la investigación: Solución del proble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Confirmación de la tesis: Objetivo logr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Implicaciones de la investig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RECOMENDA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492360" y="2176560"/>
            <a:ext cx="2449800" cy="37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entury Gothic"/>
              </a:rPr>
              <a:t>II. CUERPO DE LA TE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SITUACIÓN DE LA INVESTIG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Status Quaestionis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Justificación del problema: 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antecedentes del mism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Revisión bibliográfica: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situación actual del proble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Ubicación del proble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FUNDAMENTOS DE LA INVESTIGACIÓN (PROBLEM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FORMULACIÓN DE LA HIPÓTESIS: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variables, Sistema de hipótesis, tesi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INTERPRETACIÓN DE LOS DATOS: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elaboración del diseño para la demostración . Análisis de los datos, documento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CONTRASTACIÓN-CONFIRMACIÓN: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crítica hermenéutic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669080" y="2176560"/>
            <a:ext cx="1081080" cy="39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entury Gothic"/>
              </a:rPr>
              <a:t>POSTSCRIPTUM-EPILOGO-EXCURS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entury Gothic"/>
              </a:rPr>
              <a:t>NOTAS BIBLIOGRÁFICAS-notas “ad calcem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entury Gothic"/>
              </a:rPr>
              <a:t>BIBLIOGRAFÍA: General, (fundamental, especia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entury Gothic"/>
              </a:rPr>
              <a:t>APÉNDICES,INDICES: de materias, onomástic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entury Gothic"/>
              </a:rPr>
              <a:t>TABLAS. GRÁFICAS. ANEX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96720" y="2104920"/>
            <a:ext cx="122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413080" y="6208560"/>
            <a:ext cx="46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O DE LA TESIS – ESTRUCTURA – ESQUEMA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96720" y="1816200"/>
            <a:ext cx="8425080" cy="4321080"/>
            <a:chOff x="396720" y="1816200"/>
            <a:chExt cx="8425080" cy="4321080"/>
          </a:xfrm>
        </p:grpSpPr>
        <p:sp>
          <p:nvSpPr>
            <p:cNvPr id="395" name=""/>
            <p:cNvSpPr/>
            <p:nvPr/>
          </p:nvSpPr>
          <p:spPr>
            <a:xfrm>
              <a:off x="1620720" y="2105280"/>
              <a:ext cx="0" cy="40320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20720" y="6137280"/>
              <a:ext cx="59770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7597800" y="2105280"/>
              <a:ext cx="0" cy="40320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597800" y="2105280"/>
              <a:ext cx="1224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720" y="2105280"/>
              <a:ext cx="0" cy="2447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821800" y="2105280"/>
              <a:ext cx="0" cy="2447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3421080" y="1816200"/>
              <a:ext cx="0" cy="1944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421080" y="1816200"/>
              <a:ext cx="2448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869080" y="1816200"/>
              <a:ext cx="0" cy="1873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421080" y="4410360"/>
              <a:ext cx="0" cy="15112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421080" y="5921640"/>
              <a:ext cx="2448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869080" y="4410360"/>
              <a:ext cx="0" cy="15112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3421080" y="1603440"/>
            <a:ext cx="252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ARROLLO DE LA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524720" y="1816200"/>
            <a:ext cx="13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1042920" y="4294080"/>
            <a:ext cx="7848720" cy="2448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042920" y="1414440"/>
            <a:ext cx="7848720" cy="1511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042920" y="2925720"/>
            <a:ext cx="7848720" cy="1368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51280" y="1414440"/>
            <a:ext cx="5040360" cy="5327640"/>
          </a:xfrm>
          <a:prstGeom prst="rect">
            <a:avLst/>
          </a:prstGeom>
          <a:solidFill>
            <a:srgbClr val="ffffff">
              <a:alpha val="3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867280" y="2924280"/>
            <a:ext cx="3024360" cy="1369800"/>
          </a:xfrm>
          <a:prstGeom prst="rect">
            <a:avLst/>
          </a:prstGeom>
          <a:solidFill>
            <a:srgbClr val="ffffff">
              <a:alpha val="3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971640" y="1701720"/>
            <a:ext cx="301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ELEMENTOS INTRODUCTO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973680" y="1473120"/>
            <a:ext cx="319068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ORT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DEDICA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RÓ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AGRADEC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971640" y="3255840"/>
            <a:ext cx="324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CUERP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519440" y="30351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ARTE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519440" y="349236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AR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519440" y="3873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AR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12120" y="2957400"/>
            <a:ext cx="1523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</a:rPr>
              <a:t>SECCIÓN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</a:rPr>
              <a:t>SECCIÓN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5580000" y="2925720"/>
            <a:ext cx="1726560" cy="457200"/>
            <a:chOff x="5580000" y="2925720"/>
            <a:chExt cx="1726560" cy="457200"/>
          </a:xfrm>
        </p:grpSpPr>
        <p:sp>
          <p:nvSpPr>
            <p:cNvPr id="422" name=""/>
            <p:cNvSpPr/>
            <p:nvPr/>
          </p:nvSpPr>
          <p:spPr>
            <a:xfrm>
              <a:off x="5580000" y="2925720"/>
              <a:ext cx="101160" cy="457200"/>
            </a:xfrm>
            <a:custGeom>
              <a:avLst/>
              <a:gdLst>
                <a:gd name="textAreaLeft" fmla="*/ 64800 w 101160"/>
                <a:gd name="textAreaRight" fmla="*/ 101520 w 1011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884560" y="3039840"/>
              <a:ext cx="14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Century Gothic"/>
                </a:rPr>
                <a:t>CAPÍTU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5580000" y="3359160"/>
            <a:ext cx="1726560" cy="457200"/>
            <a:chOff x="5580000" y="3359160"/>
            <a:chExt cx="1726560" cy="457200"/>
          </a:xfrm>
        </p:grpSpPr>
        <p:sp>
          <p:nvSpPr>
            <p:cNvPr id="425" name=""/>
            <p:cNvSpPr/>
            <p:nvPr/>
          </p:nvSpPr>
          <p:spPr>
            <a:xfrm>
              <a:off x="5580000" y="3359160"/>
              <a:ext cx="101160" cy="457200"/>
            </a:xfrm>
            <a:custGeom>
              <a:avLst/>
              <a:gdLst>
                <a:gd name="textAreaLeft" fmla="*/ 64800 w 101160"/>
                <a:gd name="textAreaRight" fmla="*/ 101520 w 1011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84560" y="3473280"/>
              <a:ext cx="14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Century Gothic"/>
                </a:rPr>
                <a:t>CAPÍTU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580000" y="3790800"/>
            <a:ext cx="1726560" cy="457200"/>
            <a:chOff x="5580000" y="3790800"/>
            <a:chExt cx="1726560" cy="457200"/>
          </a:xfrm>
        </p:grpSpPr>
        <p:sp>
          <p:nvSpPr>
            <p:cNvPr id="428" name=""/>
            <p:cNvSpPr/>
            <p:nvPr/>
          </p:nvSpPr>
          <p:spPr>
            <a:xfrm>
              <a:off x="5580000" y="3790800"/>
              <a:ext cx="101160" cy="457200"/>
            </a:xfrm>
            <a:custGeom>
              <a:avLst/>
              <a:gdLst>
                <a:gd name="textAreaLeft" fmla="*/ 64800 w 101160"/>
                <a:gd name="textAreaRight" fmla="*/ 101520 w 1011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884560" y="3904920"/>
              <a:ext cx="14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Century Gothic"/>
                </a:rPr>
                <a:t>CAPÍTU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1332000" y="5014800"/>
            <a:ext cx="230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entury Gothic"/>
              </a:rPr>
              <a:t>ELEMENTOS FI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116000" y="260280"/>
            <a:ext cx="66038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entury Gothic"/>
              </a:rPr>
              <a:t>Elementos constitutivos de los trabajos cient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282920" y="299880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282920" y="3430440"/>
            <a:ext cx="2953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282920" y="3862440"/>
            <a:ext cx="2953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7236000" y="29984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924360" y="4438800"/>
            <a:ext cx="3743280" cy="19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CONCLUS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RECOMEND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APÉND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ANEX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BIBLIOGRAF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ÍNDICE  DE  NOMBRES, DE CUADROS, ETC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ÍNDICE  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476360" y="490680"/>
            <a:ext cx="62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QUEMA BÁSICO DE UN INFORME  DE INVESTIGACIÓ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309600" y="2400480"/>
            <a:ext cx="8750160" cy="3408120"/>
            <a:chOff x="309600" y="2400480"/>
            <a:chExt cx="8750160" cy="3408120"/>
          </a:xfrm>
        </p:grpSpPr>
        <p:sp>
          <p:nvSpPr>
            <p:cNvPr id="439" name=""/>
            <p:cNvSpPr/>
            <p:nvPr/>
          </p:nvSpPr>
          <p:spPr>
            <a:xfrm>
              <a:off x="4024440" y="36115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29000" y="5364000"/>
              <a:ext cx="7938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505320" y="3840120"/>
              <a:ext cx="792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475080" y="2687760"/>
              <a:ext cx="792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24000" y="2400480"/>
              <a:ext cx="332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NTRODUC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09600" y="3611520"/>
              <a:ext cx="332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ESARROL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95280" y="5135400"/>
              <a:ext cx="336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NCLU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343400" y="2400480"/>
              <a:ext cx="47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esentación de la investig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19720" y="3459240"/>
              <a:ext cx="41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álisis de la inform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419720" y="3916440"/>
              <a:ext cx="41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</a:rPr>
                <a:t>Los capítulos y subcapítu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19720" y="4983120"/>
              <a:ext cx="417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posición de resultados y logros de la investig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29000" y="3916440"/>
              <a:ext cx="792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68360" y="333360"/>
            <a:ext cx="8280360" cy="1366920"/>
          </a:xfrm>
          <a:prstGeom prst="rect">
            <a:avLst/>
          </a:prstGeom>
          <a:noFill/>
          <a:ln w="572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1042560" y="1699920"/>
            <a:ext cx="7201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RODUCCIÓN ( NO ES CAPÍTU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merar en el margen SUPERIOR de cada página y al centro con números ÁRAB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j: 1, 2, 3,4,5, 6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69800" y="304920"/>
            <a:ext cx="8350200" cy="89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30040" y="40464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PAGIN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IN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67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PÍTUL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numera de acuerdo al orden de los capítulos  (ej: Capítulo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3780000" y="4005360"/>
            <a:ext cx="5256000" cy="2852640"/>
            <a:chOff x="3780000" y="4005360"/>
            <a:chExt cx="5256000" cy="2852640"/>
          </a:xfrm>
        </p:grpSpPr>
        <p:sp>
          <p:nvSpPr>
            <p:cNvPr id="458" name=""/>
            <p:cNvSpPr/>
            <p:nvPr/>
          </p:nvSpPr>
          <p:spPr>
            <a:xfrm>
              <a:off x="3780000" y="4049640"/>
              <a:ext cx="2089080" cy="280836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.1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.2.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.3.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.4.1.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.4. 2.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214160" y="4292640"/>
              <a:ext cx="122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Capítulo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502880" y="40053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742520" y="4149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804000" y="4049640"/>
              <a:ext cx="2232000" cy="280836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.1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.2.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.3.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.4.1.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.4. 2.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238520" y="4292640"/>
              <a:ext cx="122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Capítulo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742880" y="40053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853440" y="4508640"/>
              <a:ext cx="204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Arial"/>
                </a:rPr>
                <a:t>Título del capítul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950880" y="4581360"/>
              <a:ext cx="204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Arial"/>
                </a:rPr>
                <a:t>Título del capítul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14032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ES  ( NO ES CAPÍTU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numera de acuerdo al orden de las  conclus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30040" y="40464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PAGIN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5292720" y="1916280"/>
            <a:ext cx="3456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370480" y="1916280"/>
            <a:ext cx="3881520" cy="45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La hoja de 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Los márge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ex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ab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Figu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Notas de pie de pá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itas textos espe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ag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619280" y="1916280"/>
            <a:ext cx="3240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057400" y="620640"/>
            <a:ext cx="67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Investigación en sentido f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763640" y="1987560"/>
            <a:ext cx="2863800" cy="347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Organización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Prelimi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uerpo de trabaj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aterial complementario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692360" y="2924280"/>
            <a:ext cx="705636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460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Gothic"/>
              </a:rPr>
              <a:t>Guía de evaluación del trabajo monográfico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1. Presentación general del trabaj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Formato gene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Escritu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Encuadernamiento o anill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2. Introduc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Planteamiento y formulación del probl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Obje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Justif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Hipótesis y/o pregunta directri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Metodolog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8064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Cuerpo o desarrol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Orden y equilibrio de cada parte o capítu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resentación de las ideas principales y secundar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oherencia y logic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ertinencia de la información recolect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nálisis e interpretación de los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portes person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460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Gothic"/>
              </a:rPr>
              <a:t>Guía de evaluación del trabajo monográfico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76720" y="2565360"/>
            <a:ext cx="5616360" cy="41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00720" y="4149720"/>
            <a:ext cx="259236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00720" y="3429000"/>
            <a:ext cx="2592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00720" y="2637000"/>
            <a:ext cx="2592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2565360"/>
            <a:ext cx="2592360" cy="410364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1125360"/>
            <a:ext cx="5616360" cy="13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1125360"/>
            <a:ext cx="2592360" cy="136692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6920" y="1341360"/>
            <a:ext cx="221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nocimiento concreto-sen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71640" y="4221000"/>
            <a:ext cx="24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nocimiento r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43200" y="1181160"/>
            <a:ext cx="3016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ens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Percep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Repres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35280" y="2852640"/>
            <a:ext cx="2106720" cy="36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oncep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Ju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Razon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Leyes y categorí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Hipót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i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Teorí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15200" y="2637000"/>
            <a:ext cx="2439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Generaliz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Abstra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2360" y="3429000"/>
            <a:ext cx="2439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Positivo -  Neg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General -   Sing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80280" y="4221000"/>
            <a:ext cx="2439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Deductivo  Induc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Análisis   Sínt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>
            <a:grayscl/>
          </a:blip>
          <a:srcRect l="0" t="79405" r="20735" b="7362"/>
          <a:stretch/>
        </p:blipFill>
        <p:spPr>
          <a:xfrm>
            <a:off x="0" y="73080"/>
            <a:ext cx="3995640" cy="907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47640" y="260280"/>
            <a:ext cx="7596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06906" dir="9332361" blurRad="0" rotWithShape="0">
              <a:srgbClr val="99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roceso del conocimiento hum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19640" y="2637000"/>
            <a:ext cx="5473440" cy="72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19640" y="3429000"/>
            <a:ext cx="5473440" cy="647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19640" y="4149720"/>
            <a:ext cx="5473440" cy="72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91440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4. Conclusion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Síntesis integradora de las ideas esbozad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Recomendaciones y/o sugerenci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5. Aparato crític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Empleo y elaboración de las cit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Funcionalidad y presentación de las not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6. Bibliografía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Orden y completación de los da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7. Índic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Presentación y ubic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8. Apéndice y/o anex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Funcionalidad y present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9. Ortografía y redac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60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Gothic"/>
              </a:rPr>
              <a:t>Guía de evaluación del trabajo monográfico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618920" y="465120"/>
            <a:ext cx="648324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ormato para la evaluación de exposiciones o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579600" y="1413000"/>
          <a:ext cx="8024760" cy="5018040"/>
        </p:xfrm>
        <a:graphic>
          <a:graphicData uri="http://schemas.openxmlformats.org/drawingml/2006/table">
            <a:tbl>
              <a:tblPr/>
              <a:tblGrid>
                <a:gridCol w="2568600"/>
                <a:gridCol w="546120"/>
                <a:gridCol w="546120"/>
                <a:gridCol w="549360"/>
                <a:gridCol w="541080"/>
                <a:gridCol w="546120"/>
                <a:gridCol w="544680"/>
                <a:gridCol w="547560"/>
                <a:gridCol w="544680"/>
                <a:gridCol w="546120"/>
                <a:gridCol w="544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mbre  del 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esentación pers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no de vo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itmo de exposi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onunci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ominio de si mis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tiv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ocabula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ominio del conten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enguaje corpo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xplica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cursos audiovisu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rganización y coher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trol del tie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clusiones y/o cier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627280" y="2565360"/>
            <a:ext cx="0" cy="4320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24360" y="2565360"/>
            <a:ext cx="0" cy="4320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79280" y="2276640"/>
            <a:ext cx="8964720" cy="2933280"/>
            <a:chOff x="179280" y="2276640"/>
            <a:chExt cx="8964720" cy="2933280"/>
          </a:xfrm>
        </p:grpSpPr>
        <p:sp>
          <p:nvSpPr>
            <p:cNvPr id="88" name=""/>
            <p:cNvSpPr/>
            <p:nvPr/>
          </p:nvSpPr>
          <p:spPr>
            <a:xfrm>
              <a:off x="179280" y="2276640"/>
              <a:ext cx="1152720" cy="398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Conocimiento sensitiv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74920" y="2276640"/>
              <a:ext cx="1152360" cy="398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Conocimiento lóg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771640" y="2276640"/>
              <a:ext cx="1152720" cy="398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Análisis y sínte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67280" y="2276640"/>
              <a:ext cx="1152360" cy="398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Conocimiento científ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364000" y="2276640"/>
              <a:ext cx="1151280" cy="477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Hipóte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59640" y="2276640"/>
              <a:ext cx="1152360" cy="477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Teorí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883640" y="2276640"/>
              <a:ext cx="1260360" cy="550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Desarrollo del conocimiento científ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32000" y="2563920"/>
              <a:ext cx="144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24360" y="2563920"/>
              <a:ext cx="144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627280" y="2563920"/>
              <a:ext cx="144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16720" y="2563920"/>
              <a:ext cx="144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19640" y="2563920"/>
              <a:ext cx="144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12000" y="2563920"/>
              <a:ext cx="144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5640" y="3284640"/>
              <a:ext cx="1079640" cy="246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Sentido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16360" y="3284640"/>
              <a:ext cx="1224000" cy="550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Conceptos  juicios  conclusione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19640" y="3284640"/>
              <a:ext cx="1079280" cy="246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Métodos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52720" y="3284640"/>
              <a:ext cx="1079280" cy="246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Concepto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32000" y="4579920"/>
              <a:ext cx="1079280" cy="550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Aspectos superficiales de las cos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292720" y="4579920"/>
              <a:ext cx="1224000" cy="630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Formas de pensamien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51280" y="4579920"/>
              <a:ext cx="1224000" cy="550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Procedimientos lógicos y técnico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29080" y="4579920"/>
              <a:ext cx="1079280" cy="550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Esencia de la naturaleza de las cos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32000" y="2852640"/>
              <a:ext cx="0" cy="431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19640" y="2852640"/>
              <a:ext cx="0" cy="431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35280" y="3571920"/>
              <a:ext cx="0" cy="1007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32000" y="3571920"/>
              <a:ext cx="0" cy="1007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00720" y="3571920"/>
              <a:ext cx="0" cy="1007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40360" y="4003560"/>
              <a:ext cx="0" cy="5760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5400000">
              <a:off x="6551280" y="2168280"/>
              <a:ext cx="215640" cy="1584360"/>
            </a:xfrm>
            <a:custGeom>
              <a:avLst/>
              <a:gdLst>
                <a:gd name="textAreaLeft" fmla="*/ 0 w 215640"/>
                <a:gd name="textAreaRight" fmla="*/ 151200 w 215640"/>
                <a:gd name="textAreaTop" fmla="*/ 65880 h 1584360"/>
                <a:gd name="textAreaBottom" fmla="*/ 151848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6" name=""/>
            <p:cNvCxnSpPr>
              <a:stCxn id="102" idx="3"/>
              <a:endCxn id="115" idx="2"/>
            </p:cNvCxnSpPr>
            <p:nvPr/>
          </p:nvCxnSpPr>
          <p:spPr>
            <a:xfrm flipV="1">
              <a:off x="5954760" y="3087000"/>
              <a:ext cx="705240" cy="57636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</p:cxnSp>
      </p:grpSp>
      <p:pic>
        <p:nvPicPr>
          <p:cNvPr id="117" name="" descr=""/>
          <p:cNvPicPr/>
          <p:nvPr/>
        </p:nvPicPr>
        <p:blipFill>
          <a:blip r:embed="rId1">
            <a:grayscl/>
          </a:blip>
          <a:srcRect l="0" t="79405" r="20735" b="7362"/>
          <a:stretch/>
        </p:blipFill>
        <p:spPr>
          <a:xfrm>
            <a:off x="0" y="73080"/>
            <a:ext cx="3995640" cy="907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492360" y="260280"/>
            <a:ext cx="5651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06906" dir="9332361" blurRad="0" rotWithShape="0">
              <a:srgbClr val="99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El Conoc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755640" y="1197000"/>
          <a:ext cx="7992720" cy="5538600"/>
        </p:xfrm>
        <a:graphic>
          <a:graphicData uri="http://schemas.openxmlformats.org/drawingml/2006/table">
            <a:tbl>
              <a:tblPr/>
              <a:tblGrid>
                <a:gridCol w="2664000"/>
                <a:gridCol w="2664360"/>
                <a:gridCol w="2664360"/>
              </a:tblGrid>
              <a:tr h="132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iencias Form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entury Gothic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ilosof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entury Gothic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óg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entury Gothic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atemá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4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iencias Fáctic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entury Gothic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iencias Natur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i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Químic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ís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Zo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dic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otánica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2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) Ciencias Soc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ntrop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rque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rech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conom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stadís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ngüís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edag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sic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olí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ociología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2700360" y="260280"/>
            <a:ext cx="6443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06906" dir="9332361" blurRad="0" rotWithShape="0">
              <a:srgbClr val="99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asificación de las Ci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482920" y="1484280"/>
            <a:ext cx="424980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TEMA O ÁREA DE EST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11280" y="2276640"/>
            <a:ext cx="43214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PROBLEMA U OBJ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11280" y="2997360"/>
            <a:ext cx="4321440" cy="70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ÉTODO CIENTÍFICO Y TÉCNICAS DE INVESTI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11280" y="4005360"/>
            <a:ext cx="43214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HIPÓT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11280" y="4724280"/>
            <a:ext cx="43214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ONOCIMIENTO CIENTÍ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11280" y="5516640"/>
            <a:ext cx="43214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I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00720" y="1989000"/>
            <a:ext cx="0" cy="28764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00720" y="2708280"/>
            <a:ext cx="0" cy="28908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00720" y="3716280"/>
            <a:ext cx="0" cy="28908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00720" y="4437000"/>
            <a:ext cx="0" cy="28728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00720" y="5157720"/>
            <a:ext cx="0" cy="35892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>
            <a:stCxn id="126" idx="1"/>
            <a:endCxn id="121" idx="1"/>
          </p:cNvCxnSpPr>
          <p:nvPr/>
        </p:nvCxnSpPr>
        <p:spPr>
          <a:xfrm flipH="1" rot="10800000">
            <a:off x="2382480" y="1710720"/>
            <a:ext cx="72000" cy="4032720"/>
          </a:xfrm>
          <a:prstGeom prst="bentConnector3">
            <a:avLst>
              <a:gd name="adj1" fmla="val -1497487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1403280" y="333360"/>
            <a:ext cx="7740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06906" dir="9332361" blurRad="0" rotWithShape="0">
              <a:srgbClr val="99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roceso de la investigación cientí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>
            <a:grayscl/>
          </a:blip>
          <a:srcRect l="33459" t="0" r="0" b="0"/>
          <a:stretch/>
        </p:blipFill>
        <p:spPr>
          <a:xfrm>
            <a:off x="3059280" y="374760"/>
            <a:ext cx="6084720" cy="6294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3645000"/>
            <a:ext cx="7164360" cy="192276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La Investigación científic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68720" y="5877000"/>
            <a:ext cx="59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rofesor: Gabriel Alvarez Undurra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50920" y="33336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Esquema del proceso de la investigación cientí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84880" y="120636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84880" y="2573280"/>
            <a:ext cx="609480" cy="399960"/>
          </a:xfrm>
          <a:prstGeom prst="rightArrow">
            <a:avLst>
              <a:gd name="adj1" fmla="val 50000"/>
              <a:gd name="adj2" fmla="val 38096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16360" y="1206360"/>
            <a:ext cx="2735280" cy="25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SELECCIÓN DEL T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84720" y="1120680"/>
            <a:ext cx="3059280" cy="12171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REVISIÓN BIBLIOGRÁF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CONSULTA A EXPERTOS Y/O ESPECIAL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OBSERVACIÓN DIRECTA DE 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RE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16360" y="2214720"/>
            <a:ext cx="2735280" cy="129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FORMULACIÓN DEL ANTEPROY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ELABORACIÓN DEL PROY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84720" y="2489040"/>
            <a:ext cx="3059280" cy="4448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LANTEAMIENTO, FORMULACIÓN Y SISTEMATIZACIÓN  DEL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OBJETIVOS DE LA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JUSTIFICACIÓN DE LA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ANTECEDENTES DE LA INVESTIG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TEORÍ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SISTEMA CONCEPT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HIPÓTESIS, VARIABLES E INDIC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TIPOS Y NIVELES DE INVESTIG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MÉTODOS Y TÉCNICAS DE INVESTIG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ÍNDICE DEL CONTENIDO DE LA INVESTIG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RECURSOS HUMANOS Y MATERI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CRONOGRAMA DE ACTIV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BIBLIOGRAFÍA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3040" y="4081320"/>
            <a:ext cx="243864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EJEC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46240" y="3870360"/>
            <a:ext cx="2641680" cy="156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AMPLIACIÓN DEL MARCO TEÓRIC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PRUEBA DE INSTRUMENTOS (ESTUDIO PILOT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RECOLECCIÓN DE DATOS (APLICACIÓN DE INSTRUMENTO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PROCESAMIENTO Y ANÁLISIS DE LOS DA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INTERPRETACIÓN DE LOS RESULTAD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VERIFICACIÓN O FALSEAMIENTO DE LA HIPÓTE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ELABORACIÓN DE CONCLUSIO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71640" y="13492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71640" y="170964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16360" y="1596960"/>
            <a:ext cx="273528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IDENTIFICACIÓN DE UN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54360" y="286236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41680" y="444672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41680" y="610236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03040" y="5681520"/>
            <a:ext cx="243864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DIVULG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46240" y="5526000"/>
            <a:ext cx="2641680" cy="113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REDACCIÓN DEL BORRAD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REVISIÓN Y CORREC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PRESENTACIÓN DEL INFORME DE INVESTIGACIÓN (MONOGRAFÍA, TRABAJO DE GRADO, TESIS U OTR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EVALUACIÓN DEL TRABAJO ESCRITO Y SU PRESENTACIÓN OR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71640" y="1349280"/>
            <a:ext cx="0" cy="151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484360" y="1709640"/>
            <a:ext cx="28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1206360"/>
            <a:ext cx="240840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PLAN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9T16:12:13Z</dcterms:created>
  <dc:creator>Gabriel Alvarez</dc:creator>
  <dc:description/>
  <dc:language>en-US</dc:language>
  <cp:lastModifiedBy>gau</cp:lastModifiedBy>
  <dcterms:modified xsi:type="dcterms:W3CDTF">2007-08-19T20:58:44Z</dcterms:modified>
  <cp:revision>62</cp:revision>
  <dc:subject/>
  <dc:title>Diapositiva 1</dc:title>
</cp:coreProperties>
</file>