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9DF9-FE39-4383-B24B-C23494C9E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EA5A-4FFB-4378-8E42-F54CD7EA3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893D-71C0-4B94-8894-4CFE2B973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7194-CCD5-4F84-99A8-97B74B3F7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0A24-CD58-461F-ABA8-0744405A3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7C37-2609-476F-9EA9-B4A92A113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E315-9F1B-45F6-A202-8834897B6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8506-4E98-4470-A282-1E53C4803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7BE6-8AA5-432B-ADBD-48A8744F2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4852-7685-4F82-BACF-CD5339FDE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6AD6-3554-47FA-8D2C-588ADE357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147A-F0E8-40BD-B621-B8D7DA48B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6B67C-8C7D-4F95-82C2-67E148E2EF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08000" y="333360"/>
            <a:ext cx="55454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NIVERSIDAD DE CH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ACULTAD DE DEREC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CUELA DE DEREC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24360" y="5661000"/>
            <a:ext cx="504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OFESOR : GABRIEL ALVAREZ UNDURRAG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76360" y="2637000"/>
            <a:ext cx="7056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URSO DE METODOLOGÍA DE LA INVESTIGACIÓN JURÍD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260360" y="333360"/>
            <a:ext cx="647640" cy="11527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0"/>
            <a:ext cx="1116000" cy="6858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5811840"/>
            <a:ext cx="914400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68360" y="5373720"/>
            <a:ext cx="687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Profesor : Gabriel Alvarez Undurrag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332000" y="260280"/>
            <a:ext cx="756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Estructura del Proyecto de Investigación Juríd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262400" y="1011240"/>
            <a:ext cx="4484880" cy="647640"/>
          </a:xfrm>
          <a:prstGeom prst="rect">
            <a:avLst/>
          </a:prstGeom>
          <a:solidFill>
            <a:srgbClr val="ffffff"/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11280" y="6153120"/>
            <a:ext cx="3651120" cy="515880"/>
          </a:xfrm>
          <a:prstGeom prst="rect">
            <a:avLst/>
          </a:prstGeom>
          <a:solidFill>
            <a:srgbClr val="ffffff"/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BIBLIOGRAFÍA , ANEXOS , APÉND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262400" y="1658880"/>
            <a:ext cx="4484880" cy="1149480"/>
          </a:xfrm>
          <a:prstGeom prst="rect">
            <a:avLst/>
          </a:prstGeom>
          <a:solidFill>
            <a:srgbClr val="ffffff"/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.1) Planteamiento del proble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.2) Formulación del proble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.3) Sistematización del proble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.4) Objetivos de Investigació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.5) Justificación del proble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11280" y="1658880"/>
            <a:ext cx="3651120" cy="1149480"/>
          </a:xfrm>
          <a:prstGeom prst="rect">
            <a:avLst/>
          </a:prstGeom>
          <a:solidFill>
            <a:srgbClr val="ffffff"/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CAPÍTULO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EL PROBLE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262400" y="5106960"/>
            <a:ext cx="4484880" cy="1046160"/>
          </a:xfrm>
          <a:prstGeom prst="rect">
            <a:avLst/>
          </a:prstGeom>
          <a:solidFill>
            <a:srgbClr val="ffffff"/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1)  Índice del contenido del trabaj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2)  Recursos: humanos, materiales y financieros emplea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3) Cronograma de activida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11280" y="5106960"/>
            <a:ext cx="3651120" cy="1046160"/>
          </a:xfrm>
          <a:prstGeom prst="rect">
            <a:avLst/>
          </a:prstGeom>
          <a:solidFill>
            <a:srgbClr val="ffffff"/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CAPÍTULO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ASPECTOS ADMINISTRATIV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262400" y="3957480"/>
            <a:ext cx="4484880" cy="1149480"/>
          </a:xfrm>
          <a:prstGeom prst="rect">
            <a:avLst/>
          </a:prstGeom>
          <a:solidFill>
            <a:srgbClr val="ffffff"/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1) Tipos  y niveles de investig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2) Métodos de investig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3) Población y muestra (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) Técnicas e instrumentos de recolección de da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) Tratamiento de la inform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11280" y="3957480"/>
            <a:ext cx="3651120" cy="1149480"/>
          </a:xfrm>
          <a:prstGeom prst="rect">
            <a:avLst/>
          </a:prstGeom>
          <a:solidFill>
            <a:srgbClr val="ffffff"/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Black"/>
              </a:rPr>
              <a:t>CAPÍTULO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Black"/>
              </a:rPr>
              <a:t>EL MARCO METODOLÓG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262400" y="2808360"/>
            <a:ext cx="4484880" cy="1149120"/>
          </a:xfrm>
          <a:prstGeom prst="rect">
            <a:avLst/>
          </a:prstGeom>
          <a:solidFill>
            <a:srgbClr val="ffffff"/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.1) Antecedentes de la investig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.2) Bases teóric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.3) Definición de términ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.4) Hipót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.5) Variables e indicad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11280" y="2808360"/>
            <a:ext cx="3651120" cy="1149120"/>
          </a:xfrm>
          <a:prstGeom prst="rect">
            <a:avLst/>
          </a:prstGeom>
          <a:solidFill>
            <a:srgbClr val="ffffff"/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CAPÍTULO 2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EL MARCO TEÓR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11280" y="1011240"/>
            <a:ext cx="3651120" cy="647640"/>
          </a:xfrm>
          <a:prstGeom prst="rect">
            <a:avLst/>
          </a:prstGeom>
          <a:solidFill>
            <a:srgbClr val="ffffff"/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TÍTULO TENTATIV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INTRODUC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11280" y="2808360"/>
            <a:ext cx="8136000" cy="0"/>
          </a:xfrm>
          <a:prstGeom prst="line">
            <a:avLst/>
          </a:prstGeom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11280" y="3957480"/>
            <a:ext cx="8136000" cy="0"/>
          </a:xfrm>
          <a:prstGeom prst="line">
            <a:avLst/>
          </a:prstGeom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11280" y="5106960"/>
            <a:ext cx="8136000" cy="0"/>
          </a:xfrm>
          <a:prstGeom prst="line">
            <a:avLst/>
          </a:prstGeom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1280" y="1658880"/>
            <a:ext cx="8136000" cy="0"/>
          </a:xfrm>
          <a:prstGeom prst="line">
            <a:avLst/>
          </a:prstGeom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11280" y="6153120"/>
            <a:ext cx="8136000" cy="0"/>
          </a:xfrm>
          <a:prstGeom prst="line">
            <a:avLst/>
          </a:prstGeom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262400" y="1011240"/>
            <a:ext cx="0" cy="5657760"/>
          </a:xfrm>
          <a:prstGeom prst="line">
            <a:avLst/>
          </a:prstGeom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11280" y="1011240"/>
            <a:ext cx="8136000" cy="0"/>
          </a:xfrm>
          <a:prstGeom prst="line">
            <a:avLst/>
          </a:prstGeom>
          <a:ln cap="sq"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1280" y="1011240"/>
            <a:ext cx="0" cy="5657760"/>
          </a:xfrm>
          <a:prstGeom prst="line">
            <a:avLst/>
          </a:prstGeom>
          <a:ln cap="sq"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8747280" y="1011240"/>
            <a:ext cx="0" cy="5657760"/>
          </a:xfrm>
          <a:prstGeom prst="line">
            <a:avLst/>
          </a:prstGeom>
          <a:ln cap="sq"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11280" y="6669000"/>
            <a:ext cx="8136000" cy="0"/>
          </a:xfrm>
          <a:prstGeom prst="line">
            <a:avLst/>
          </a:prstGeom>
          <a:ln cap="sq"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427640" y="6237360"/>
            <a:ext cx="4248000" cy="231120"/>
          </a:xfrm>
          <a:prstGeom prst="rect">
            <a:avLst/>
          </a:prstGeom>
          <a:solidFill>
            <a:srgbClr val="ffffff"/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* Esta parte se omite en los proyectos de investigación document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11280" y="6669000"/>
            <a:ext cx="813744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6804000" y="3176640"/>
            <a:ext cx="1800360" cy="1944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5640" y="260280"/>
            <a:ext cx="838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Exposición esquemática de los elementos con los que opera el método científ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971640" y="3753000"/>
            <a:ext cx="18716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Element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348000" y="2241720"/>
            <a:ext cx="25923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CONCEP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348000" y="2962440"/>
            <a:ext cx="25923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DEFINI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348000" y="3681360"/>
            <a:ext cx="25923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HIPÓTE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348000" y="4402080"/>
            <a:ext cx="25923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48000" y="5122800"/>
            <a:ext cx="25923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INDICA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020000" y="3537000"/>
            <a:ext cx="140328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Sistema teórico de la ci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2843280" y="2457360"/>
            <a:ext cx="504720" cy="151128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843280" y="3247920"/>
            <a:ext cx="504720" cy="72072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2843280" y="3897360"/>
            <a:ext cx="576360" cy="7128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843280" y="3968640"/>
            <a:ext cx="504720" cy="64764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3280" y="3968640"/>
            <a:ext cx="504720" cy="136836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940360" y="2457360"/>
            <a:ext cx="792360" cy="93528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940360" y="3247920"/>
            <a:ext cx="647640" cy="36036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940360" y="3897360"/>
            <a:ext cx="576360" cy="7128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5940360" y="4400280"/>
            <a:ext cx="576360" cy="21564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5940360" y="4905000"/>
            <a:ext cx="719280" cy="43164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250920" y="1268280"/>
            <a:ext cx="8642160" cy="518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203640" y="404640"/>
            <a:ext cx="57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Tipos de Investig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324000" y="1484280"/>
          <a:ext cx="8532360" cy="4614840"/>
        </p:xfrm>
        <a:graphic>
          <a:graphicData uri="http://schemas.openxmlformats.org/drawingml/2006/table">
            <a:tbl>
              <a:tblPr/>
              <a:tblGrid>
                <a:gridCol w="1762560"/>
                <a:gridCol w="2219760"/>
                <a:gridCol w="974880"/>
                <a:gridCol w="1136880"/>
                <a:gridCol w="2438280"/>
              </a:tblGrid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iterio de clasific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pos de investig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43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vel de investigación u objetivos intern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loratoria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igida a la formulación de un proble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igida al planteamiento de hipótes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ptiv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ción de variables independient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rrelacion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licativ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usal comparativ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 post-fac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erimenta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2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eño de investig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cumenta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ográfica (desarrollo de un tema específico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ción de variables independientes a partir de datos secundari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rrelacional a partir de datos secundari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 Camp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nsiva: estudio de caso (LONGITUDIN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tensiva: estudios muestrales y poblacionales (censo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TRANSVERSAL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erimen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experimenta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asiexperimenta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erimento pu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81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ósito de la investigación u objetivo exter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ra o bás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br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ient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lica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igida a la solución de problemas práctic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igida a una invención o mejora de productos existent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investigación tecnológic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3" name=""/>
          <p:cNvGraphicFramePr/>
          <p:nvPr/>
        </p:nvGraphicFramePr>
        <p:xfrm>
          <a:off x="900000" y="1023840"/>
          <a:ext cx="7772400" cy="6016680"/>
        </p:xfrm>
        <a:graphic>
          <a:graphicData uri="http://schemas.openxmlformats.org/drawingml/2006/table">
            <a:tbl>
              <a:tblPr/>
              <a:tblGrid>
                <a:gridCol w="1960560"/>
                <a:gridCol w="1392120"/>
                <a:gridCol w="1731960"/>
                <a:gridCol w="2687760"/>
              </a:tblGrid>
              <a:tr h="497160">
                <a:tc rowSpan="9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ENTES DE INFORMACIÓN PARA EL TRABAJO INTELECTU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plicación a la universid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 y Post grado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A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BLIOTEC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rale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pecializad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MEROTECAS</a:t>
                      </a:r>
                      <a:r>
                        <a:rPr b="1" i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0" i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Revistas y periódico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03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CHIV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stóric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aria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roquia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 dependencias y oficinas: privadas, gubernamentales, internacionales, etc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21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NTRO DE DOCUMENT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dad recepto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dad clasificado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dad emisora (a otros centro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dad de servicio ( requerimientos de estudiosos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SEOS</a:t>
                      </a:r>
                      <a:r>
                        <a:rPr b="1" i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</a:t>
                      </a:r>
                      <a:r>
                        <a:rPr b="0" i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 diversos tipo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DIENCIA DE CARÁCTER DOC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átedr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ferenci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minari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RMA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o ambiente universitar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tua influencia informativa de todos los roles universitari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o ambiente profesion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tua influencia informativa dentro de círculos profesiona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89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o ambiente social gener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junto de vivencias capitalizables como inform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04" name=""/>
          <p:cNvSpPr/>
          <p:nvPr/>
        </p:nvSpPr>
        <p:spPr>
          <a:xfrm>
            <a:off x="324000" y="260280"/>
            <a:ext cx="8567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Century Gothic"/>
              </a:rPr>
              <a:t>Fuentes utilizables por el estudiante universitari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468360" y="1977840"/>
            <a:ext cx="8229600" cy="41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entury Gothi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entury Gothic"/>
              </a:rPr>
              <a:t>Por sus da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entury Gothi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entury Gothic"/>
              </a:rPr>
              <a:t>Por su obje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entury Gothi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entury Gothic"/>
              </a:rPr>
              <a:t>Por sus característ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entury Gothi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entury Gothic"/>
              </a:rPr>
              <a:t>Por su uti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entury Gothi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entury Gothic"/>
              </a:rPr>
              <a:t>Por su inform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entury Gothi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Por su organiz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6836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Clasificación de las fuentes de informació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71640" y="1760400"/>
            <a:ext cx="71640" cy="720720"/>
          </a:xfrm>
          <a:custGeom>
            <a:avLst/>
            <a:gdLst>
              <a:gd name="textAreaLeft" fmla="*/ 45720 w 71640"/>
              <a:gd name="textAreaRight" fmla="*/ 72000 w 7164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838240" y="1778040"/>
            <a:ext cx="1104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Primar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Secundar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Terciar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771640" y="2625840"/>
            <a:ext cx="71640" cy="587160"/>
          </a:xfrm>
          <a:custGeom>
            <a:avLst/>
            <a:gdLst>
              <a:gd name="textAreaLeft" fmla="*/ 45720 w 71640"/>
              <a:gd name="textAreaRight" fmla="*/ 72000 w 71640"/>
              <a:gd name="textAreaTop" fmla="*/ 15120 h 587160"/>
              <a:gd name="textAreaBottom" fmla="*/ 572040 h 587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822400" y="2652840"/>
            <a:ext cx="953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Direct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Indirect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80000" y="3084480"/>
            <a:ext cx="71280" cy="587520"/>
          </a:xfrm>
          <a:custGeom>
            <a:avLst/>
            <a:gdLst>
              <a:gd name="textAreaLeft" fmla="*/ 45720 w 71280"/>
              <a:gd name="textAreaRight" fmla="*/ 71640 w 71280"/>
              <a:gd name="textAreaTop" fmla="*/ 15120 h 587520"/>
              <a:gd name="textAreaBottom" fmla="*/ 572400 h 587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852000" y="3040200"/>
            <a:ext cx="1131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Gráfic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Observ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4694040" y="2905560"/>
            <a:ext cx="611640" cy="219600"/>
          </a:xfrm>
          <a:prstGeom prst="line">
            <a:avLst/>
          </a:prstGeom>
          <a:ln w="9360">
            <a:solidFill>
              <a:srgbClr val="80808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687560" y="3201840"/>
            <a:ext cx="616680" cy="70200"/>
          </a:xfrm>
          <a:prstGeom prst="line">
            <a:avLst/>
          </a:prstGeom>
          <a:ln w="9360">
            <a:solidFill>
              <a:srgbClr val="80808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84440" y="2765520"/>
            <a:ext cx="198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Bibliográficas, hemerográfi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716360" y="3084120"/>
            <a:ext cx="576360" cy="73080"/>
          </a:xfrm>
          <a:prstGeom prst="line">
            <a:avLst/>
          </a:prstGeom>
          <a:ln w="9360">
            <a:solidFill>
              <a:srgbClr val="80808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303520" y="2968560"/>
            <a:ext cx="184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Iconográficas, videográfi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297760" y="3184560"/>
            <a:ext cx="1820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Fonográficas, audiográfi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086080" y="3633840"/>
            <a:ext cx="616320" cy="70200"/>
          </a:xfrm>
          <a:prstGeom prst="line">
            <a:avLst/>
          </a:prstGeom>
          <a:ln w="9360">
            <a:solidFill>
              <a:srgbClr val="80808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5114880" y="3516480"/>
            <a:ext cx="576360" cy="72720"/>
          </a:xfrm>
          <a:prstGeom prst="line">
            <a:avLst/>
          </a:prstGeom>
          <a:ln w="9360">
            <a:solidFill>
              <a:srgbClr val="80808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717520" y="3400560"/>
            <a:ext cx="2201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Del conocimiento de la naturalez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730480" y="3616200"/>
            <a:ext cx="209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Del conocimiento de la socied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870280" y="4005360"/>
            <a:ext cx="71280" cy="587160"/>
          </a:xfrm>
          <a:custGeom>
            <a:avLst/>
            <a:gdLst>
              <a:gd name="textAreaLeft" fmla="*/ 45720 w 71280"/>
              <a:gd name="textAreaRight" fmla="*/ 71640 w 71280"/>
              <a:gd name="textAreaTop" fmla="*/ 15120 h 587160"/>
              <a:gd name="textAreaBottom" fmla="*/ 572040 h 587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941920" y="4032360"/>
            <a:ext cx="1269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Gener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Especializad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348000" y="4653000"/>
            <a:ext cx="71640" cy="587160"/>
          </a:xfrm>
          <a:custGeom>
            <a:avLst/>
            <a:gdLst>
              <a:gd name="textAreaLeft" fmla="*/ 45720 w 71640"/>
              <a:gd name="textAreaRight" fmla="*/ 72000 w 71640"/>
              <a:gd name="textAreaTop" fmla="*/ 15120 h 587160"/>
              <a:gd name="textAreaBottom" fmla="*/ 572040 h 587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416400" y="4680000"/>
            <a:ext cx="1628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Clásicas o antigu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Actualizad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492360" y="5372280"/>
            <a:ext cx="71640" cy="587160"/>
          </a:xfrm>
          <a:custGeom>
            <a:avLst/>
            <a:gdLst>
              <a:gd name="textAreaLeft" fmla="*/ 45720 w 71640"/>
              <a:gd name="textAreaRight" fmla="*/ 72000 w 71640"/>
              <a:gd name="textAreaTop" fmla="*/ 15120 h 587160"/>
              <a:gd name="textAreaBottom" fmla="*/ 572040 h 587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530160" y="5327640"/>
            <a:ext cx="106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Formal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Informal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614120" y="5229360"/>
            <a:ext cx="3990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Bibliotecas, hemerotecas, archivos, centros de documentación 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Información, museo y audiencia de carácter docent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734360" y="5762520"/>
            <a:ext cx="316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Medio ambiente universitario, profesional y socia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539640" y="260280"/>
            <a:ext cx="86043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Métodos de investig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03280" y="1555920"/>
            <a:ext cx="511344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39640" y="1268280"/>
            <a:ext cx="6408720" cy="660240"/>
          </a:xfrm>
          <a:prstGeom prst="rect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Método de investig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Es el procedimiento riguroso formulado de una  manera lógica que el investigador debe seguir en la adquisición del conocimien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39640" y="4221000"/>
            <a:ext cx="6408720" cy="812520"/>
          </a:xfrm>
          <a:prstGeom prst="rect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Método de análi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Proceso de conocimiento que se inicia por la identificación de cada una de las partes que caracterizan una realidad.  De esta forma se establece la relación causa-efecto entre los elementos que componen el objeto de investiga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39640" y="3500280"/>
            <a:ext cx="6408720" cy="660240"/>
          </a:xfrm>
          <a:prstGeom prst="rect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man Old Style"/>
              </a:rPr>
              <a:t>Método deductiv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ookman Old Style"/>
              </a:rPr>
              <a:t>Proceso de conocimiento que se inicia por la observación de fenómenos de carácter general con el propósito de carácter particular contenidas explícitamente en la situación genera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39640" y="2708280"/>
            <a:ext cx="6408720" cy="812520"/>
          </a:xfrm>
          <a:prstGeom prst="rect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Método inductiv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Proceso de conocimiento que se inicia por la observación de fenómenos particulares con el propósito de llegar a conclusiones y premisas de carácter general que pueden ser aplicadas a situaciones similares a la observa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39640" y="1989000"/>
            <a:ext cx="6408720" cy="660240"/>
          </a:xfrm>
          <a:prstGeom prst="rect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Método de observ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Proceso de conocimiento por el cual se perciben deliberadamente ciertos rasgos existentes en el objeto de conocimien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308720" y="3789360"/>
            <a:ext cx="1582920" cy="98064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Aspectos metodológic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Fuentes y técnicas de inform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/>
          <p:nvPr/>
        </p:nvCxnSpPr>
        <p:spPr>
          <a:xfrm>
            <a:off x="6877080" y="1916280"/>
            <a:ext cx="2160" cy="3798000"/>
          </a:xfrm>
          <a:prstGeom prst="bentConnector3">
            <a:avLst>
              <a:gd name="adj1" fmla="val 13500000"/>
            </a:avLst>
          </a:prstGeom>
          <a:ln w="38160">
            <a:solidFill>
              <a:srgbClr val="000000"/>
            </a:solidFill>
            <a:miter/>
          </a:ln>
        </p:spPr>
      </p:cxnSp>
      <p:sp>
        <p:nvSpPr>
          <p:cNvPr id="240" name=""/>
          <p:cNvSpPr/>
          <p:nvPr/>
        </p:nvSpPr>
        <p:spPr>
          <a:xfrm>
            <a:off x="3203640" y="112536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276720" y="184464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276720" y="2637000"/>
            <a:ext cx="0" cy="14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276720" y="3357720"/>
            <a:ext cx="0" cy="215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76720" y="4076640"/>
            <a:ext cx="0" cy="14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093080" y="4581360"/>
            <a:ext cx="28728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908000" y="907920"/>
            <a:ext cx="3384720" cy="276480"/>
          </a:xfrm>
          <a:prstGeom prst="rect">
            <a:avLst/>
          </a:prstGeom>
          <a:noFill/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Aspectos metodológicos de investig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39640" y="5805360"/>
            <a:ext cx="6408720" cy="812520"/>
          </a:xfrm>
          <a:prstGeom prst="rect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Otros méto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El investigador puede proponer otros métodos como el método comparativo, método dialéctico, método empírico, método experimental, método estadístico,  método histórico, método sistemático, método exegético, método intuitivo, et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39640" y="5084640"/>
            <a:ext cx="6408720" cy="660240"/>
          </a:xfrm>
          <a:prstGeom prst="rect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Método de sínt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Proceso de conocimiento que procede de lo simple a lo complejo, de la causa a los efectos, de la parte al todo, de los principios a las consecuenci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276720" y="5013360"/>
            <a:ext cx="0" cy="142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276720" y="5734080"/>
            <a:ext cx="0" cy="214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966960" y="1197000"/>
            <a:ext cx="8059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966960" y="2131920"/>
            <a:ext cx="1715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817560" y="3998880"/>
            <a:ext cx="23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LAS FICH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384280" y="2408400"/>
            <a:ext cx="987480" cy="3770280"/>
          </a:xfrm>
          <a:custGeom>
            <a:avLst/>
            <a:gdLst>
              <a:gd name="textAreaLeft" fmla="*/ 631080 w 987480"/>
              <a:gd name="textAreaRight" fmla="*/ 987840 w 987480"/>
              <a:gd name="textAreaTop" fmla="*/ 98280 h 3770280"/>
              <a:gd name="textAreaBottom" fmla="*/ 3672000 h 3770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0560" y="2630520"/>
            <a:ext cx="133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Concep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130560" y="5235480"/>
            <a:ext cx="1339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La ficha de trabajo o conteni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506760" y="3178080"/>
            <a:ext cx="133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Cla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49800" y="2131920"/>
            <a:ext cx="447480" cy="2455920"/>
          </a:xfrm>
          <a:custGeom>
            <a:avLst/>
            <a:gdLst>
              <a:gd name="textAreaLeft" fmla="*/ 285840 w 447480"/>
              <a:gd name="textAreaRight" fmla="*/ 447840 w 447480"/>
              <a:gd name="textAreaTop" fmla="*/ 63720 h 2455920"/>
              <a:gd name="textAreaBottom" fmla="*/ 2392200 h 245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697280" y="2255760"/>
            <a:ext cx="1270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De referencia a fuen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697280" y="4116240"/>
            <a:ext cx="1270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De trabajo /conteni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010200" y="1695600"/>
            <a:ext cx="106560" cy="2008080"/>
          </a:xfrm>
          <a:custGeom>
            <a:avLst/>
            <a:gdLst>
              <a:gd name="textAreaLeft" fmla="*/ 68040 w 106560"/>
              <a:gd name="textAreaRight" fmla="*/ 106920 w 106560"/>
              <a:gd name="textAreaTop" fmla="*/ 52200 h 2008080"/>
              <a:gd name="textAreaBottom" fmla="*/ 1955880 h 200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249800" y="5000760"/>
            <a:ext cx="353880" cy="1293840"/>
          </a:xfrm>
          <a:custGeom>
            <a:avLst/>
            <a:gdLst>
              <a:gd name="textAreaLeft" fmla="*/ 226080 w 353880"/>
              <a:gd name="textAreaRight" fmla="*/ 354240 w 353880"/>
              <a:gd name="textAreaTop" fmla="*/ 33480 h 1293840"/>
              <a:gd name="textAreaBottom" fmla="*/ 1260360 h 1293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340320" y="1571760"/>
            <a:ext cx="2659320" cy="18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Fichas bibliográfi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Fichas hemerográfi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Fichas de archiv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Fichas Audiográfi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Fichas Videográfi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Fichas Iconográfi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Fichas de testimonio oral y escri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Fichas de observación científic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010200" y="3822840"/>
            <a:ext cx="139680" cy="1001520"/>
          </a:xfrm>
          <a:custGeom>
            <a:avLst/>
            <a:gdLst>
              <a:gd name="textAreaLeft" fmla="*/ 89280 w 139680"/>
              <a:gd name="textAreaRight" fmla="*/ 140040 w 139680"/>
              <a:gd name="textAreaTop" fmla="*/ 25920 h 1001520"/>
              <a:gd name="textAreaBottom" fmla="*/ 975600 h 100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291360" y="3822840"/>
            <a:ext cx="3033720" cy="10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entury Gothic"/>
              </a:rPr>
              <a:t>Textual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entury Gothic"/>
              </a:rPr>
              <a:t>De resum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entury Gothic"/>
              </a:rPr>
              <a:t>De reseña o inform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entury Gothic"/>
              </a:rPr>
              <a:t>De resen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entury Gothic"/>
              </a:rPr>
              <a:t>Mixta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843680" y="3705120"/>
            <a:ext cx="69840" cy="471600"/>
          </a:xfrm>
          <a:custGeom>
            <a:avLst/>
            <a:gdLst>
              <a:gd name="textAreaLeft" fmla="*/ 44640 w 69840"/>
              <a:gd name="textAreaRight" fmla="*/ 69840 w 69840"/>
              <a:gd name="textAreaTop" fmla="*/ 12240 h 471600"/>
              <a:gd name="textAreaBottom" fmla="*/ 459360 h 4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fff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985160" y="3762360"/>
            <a:ext cx="13399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Contínua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Discontínuas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548240" y="5059440"/>
            <a:ext cx="166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Característica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548240" y="5559480"/>
            <a:ext cx="133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Integr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743440" y="5435640"/>
            <a:ext cx="223920" cy="1122480"/>
          </a:xfrm>
          <a:custGeom>
            <a:avLst/>
            <a:gdLst>
              <a:gd name="textAreaLeft" fmla="*/ 143280 w 223920"/>
              <a:gd name="textAreaRight" fmla="*/ 224280 w 223920"/>
              <a:gd name="textAreaTop" fmla="*/ 29160 h 1122480"/>
              <a:gd name="textAreaBottom" fmla="*/ 1093320 h 112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041880" y="5373720"/>
            <a:ext cx="2610000" cy="11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Encabezado; tema y subte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Identificación de la fuente de localiz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Contenido en una o varias cédul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086600" y="3940200"/>
            <a:ext cx="596880" cy="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0" y="333360"/>
            <a:ext cx="89647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Principales instrumentos de la investigación docume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4" name=""/>
          <p:cNvGrpSpPr/>
          <p:nvPr/>
        </p:nvGrpSpPr>
        <p:grpSpPr>
          <a:xfrm>
            <a:off x="450720" y="233280"/>
            <a:ext cx="9522000" cy="5587920"/>
            <a:chOff x="450720" y="233280"/>
            <a:chExt cx="9522000" cy="5587920"/>
          </a:xfrm>
        </p:grpSpPr>
        <p:sp>
          <p:nvSpPr>
            <p:cNvPr id="275" name=""/>
            <p:cNvSpPr/>
            <p:nvPr/>
          </p:nvSpPr>
          <p:spPr>
            <a:xfrm>
              <a:off x="907920" y="1071720"/>
              <a:ext cx="44704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50720" y="3425760"/>
              <a:ext cx="35002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entury Gothic"/>
                </a:rPr>
                <a:t>LAS CITAS EN LA INVESTIGAC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722400" y="1697040"/>
              <a:ext cx="831960" cy="4103640"/>
            </a:xfrm>
            <a:custGeom>
              <a:avLst/>
              <a:gdLst>
                <a:gd name="textAreaLeft" fmla="*/ 531720 w 831960"/>
                <a:gd name="textAreaRight" fmla="*/ 832320 w 831960"/>
                <a:gd name="textAreaTop" fmla="*/ 106920 h 4103640"/>
                <a:gd name="textAreaBottom" fmla="*/ 3996720 h 410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484520" y="2201760"/>
              <a:ext cx="1755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entury Gothic"/>
                </a:rPr>
                <a:t>Concep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179600" y="4505400"/>
              <a:ext cx="175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entury Gothic"/>
                </a:rPr>
                <a:t>Clases de ci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627520" y="3857760"/>
              <a:ext cx="461880" cy="1942920"/>
            </a:xfrm>
            <a:custGeom>
              <a:avLst/>
              <a:gdLst>
                <a:gd name="textAreaLeft" fmla="*/ 295200 w 461880"/>
                <a:gd name="textAreaRight" fmla="*/ 462240 w 461880"/>
                <a:gd name="textAreaTop" fmla="*/ 50400 h 1942920"/>
                <a:gd name="textAreaBottom" fmla="*/ 1892520 h 1942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084720" y="4002120"/>
              <a:ext cx="3888000" cy="181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entury Gothic"/>
                </a:rPr>
                <a:t>Textual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entury Gothic"/>
                </a:rPr>
                <a:t>De resume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entury Gothic"/>
                </a:rPr>
                <a:t>De reseñ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entury Gothic"/>
                </a:rPr>
                <a:t>De resención o comentari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entury Gothic"/>
                </a:rPr>
                <a:t>Mixt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136520" y="233280"/>
              <a:ext cx="8458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Narrow"/>
                </a:rPr>
                <a:t>Principales instrumentos de la investigac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"/>
          <p:cNvSpPr/>
          <p:nvPr/>
        </p:nvSpPr>
        <p:spPr>
          <a:xfrm>
            <a:off x="684360" y="306360"/>
            <a:ext cx="8245440" cy="159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Principales instrumentos de la investigación docume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304920" y="377820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EL USO DE LAS NO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133720" y="1644480"/>
            <a:ext cx="576000" cy="4789800"/>
          </a:xfrm>
          <a:custGeom>
            <a:avLst/>
            <a:gdLst>
              <a:gd name="textAreaLeft" fmla="*/ 367920 w 576000"/>
              <a:gd name="textAreaRight" fmla="*/ 576000 w 576000"/>
              <a:gd name="textAreaTop" fmla="*/ 124920 h 4789800"/>
              <a:gd name="textAreaBottom" fmla="*/ 4664880 h 4789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590920" y="1689120"/>
            <a:ext cx="230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Concepto y característic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590920" y="2711520"/>
            <a:ext cx="26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Clasificació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666880" y="4921200"/>
            <a:ext cx="1752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Concepto y característic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191120" y="2254320"/>
            <a:ext cx="152280" cy="1218960"/>
          </a:xfrm>
          <a:custGeom>
            <a:avLst/>
            <a:gdLst>
              <a:gd name="textAreaLeft" fmla="*/ 97200 w 152280"/>
              <a:gd name="textAreaRight" fmla="*/ 152640 w 152280"/>
              <a:gd name="textAreaTop" fmla="*/ 31680 h 1218960"/>
              <a:gd name="textAreaBottom" fmla="*/ 1187280 h 1218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267080" y="2406600"/>
            <a:ext cx="32004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Notas de referencia a  fuen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Notas de ampliación de tex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191120" y="3701880"/>
            <a:ext cx="228600" cy="2732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70920 h 2732400"/>
              <a:gd name="textAreaBottom" fmla="*/ 2661480 h 2732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495680" y="3701880"/>
            <a:ext cx="1981440" cy="24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Modalidades sobre su coloc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Modalidades en cuanto a la anotación de la fu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013520" y="3235320"/>
            <a:ext cx="73080" cy="1152360"/>
          </a:xfrm>
          <a:custGeom>
            <a:avLst/>
            <a:gdLst>
              <a:gd name="textAreaLeft" fmla="*/ 46800 w 73080"/>
              <a:gd name="textAreaRight" fmla="*/ 73440 w 7308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553080" y="4921200"/>
            <a:ext cx="92160" cy="1655640"/>
          </a:xfrm>
          <a:custGeom>
            <a:avLst/>
            <a:gdLst>
              <a:gd name="textAreaLeft" fmla="*/ 59040 w 92160"/>
              <a:gd name="textAreaRight" fmla="*/ 92520 w 92160"/>
              <a:gd name="textAreaTop" fmla="*/ 42840 h 1655640"/>
              <a:gd name="textAreaBottom" fmla="*/ 1612800 h 165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162920" y="3216240"/>
            <a:ext cx="19810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Notas a pie de pagi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Notas al final del capítu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Notas al final de la ob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858000" y="5016600"/>
            <a:ext cx="2286000" cy="16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Notas de referen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Notas de referencia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contínu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Notas de referencia d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rec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Notas de referencia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ruza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0" y="306360"/>
            <a:ext cx="892800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Principales instrumentos de la investigación docume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0" y="260280"/>
            <a:ext cx="88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Cuadro resumen principales técnicas de investigación empírica o de camp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9" name=""/>
          <p:cNvGraphicFramePr/>
          <p:nvPr/>
        </p:nvGraphicFramePr>
        <p:xfrm>
          <a:off x="684360" y="1538280"/>
          <a:ext cx="8135640" cy="5203800"/>
        </p:xfrm>
        <a:graphic>
          <a:graphicData uri="http://schemas.openxmlformats.org/drawingml/2006/table">
            <a:tbl>
              <a:tblPr/>
              <a:tblGrid>
                <a:gridCol w="3747960"/>
                <a:gridCol w="438768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ncipales técnicas de investiga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ifica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59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. La técnica de observación científ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) La observación no estructur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) La técnica de observación estructur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) Técnica de observación participa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) Técnica de observación no participa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) Técnica de observación experimen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59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. Las técnicas generales de testimonio oral y escri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) Técnica de encues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) Técnica de muestreo y elaboración de cuestionari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) Técnica de entrevis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) Técnicas estadístic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) Técnicas de estudios de cas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8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. Técnicas jurídicas de captura y sistematización de informacio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) Técnicas de captura, sistematización  permanente de información (sistemática jurídic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) Técnica de captura  y sistematización  ocasional de inform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 Técnicas  jurídicas de análisis. Presentación y divulgación de informaciones (Informática jurídic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acterístic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clasificación y modalidad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lic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rumentos y manejo de fichas, citas y not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>
            <a:grayscl/>
          </a:blip>
          <a:srcRect l="0" t="0" r="4610" b="0"/>
          <a:stretch/>
        </p:blipFill>
        <p:spPr>
          <a:xfrm>
            <a:off x="4335480" y="0"/>
            <a:ext cx="480852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898560" y="4365720"/>
            <a:ext cx="6337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entury Gothic"/>
              </a:rPr>
              <a:t>El Conocimient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5373720"/>
            <a:ext cx="716436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6597720"/>
            <a:ext cx="914400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356000" y="6302520"/>
            <a:ext cx="47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Profesor : Gabriel Alvarez Undurra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" descr=""/>
          <p:cNvPicPr/>
          <p:nvPr/>
        </p:nvPicPr>
        <p:blipFill>
          <a:blip r:embed="rId1">
            <a:grayscl/>
            <a:lum bright="24000"/>
          </a:blip>
          <a:stretch/>
        </p:blipFill>
        <p:spPr>
          <a:xfrm>
            <a:off x="3708360" y="852480"/>
            <a:ext cx="5437080" cy="468792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2">
            <a:grayscl/>
            <a:lum bright="24000"/>
          </a:blip>
          <a:stretch/>
        </p:blipFill>
        <p:spPr>
          <a:xfrm>
            <a:off x="3348000" y="692280"/>
            <a:ext cx="4438800" cy="489564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179280" y="2347920"/>
            <a:ext cx="6985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entury Gothic"/>
              </a:rPr>
              <a:t>La Investigación Jurídica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529080" y="5732640"/>
            <a:ext cx="558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Profesor: Gabriel Alvarez Undurra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0" y="189000"/>
            <a:ext cx="60847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Ciclo metodológico del Derec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730920" y="5280120"/>
            <a:ext cx="1728720" cy="102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99000"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Cátedr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Seminar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Investigación monográf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711760" y="5280120"/>
            <a:ext cx="1019160" cy="102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Científ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492800" y="5280120"/>
            <a:ext cx="1218960" cy="102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El Doc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87280" y="5280120"/>
            <a:ext cx="3305520" cy="102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IV. Enseñanza del Derech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Didáctica del Derech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730920" y="4251240"/>
            <a:ext cx="1728720" cy="102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Filósof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Comparativ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Histór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711760" y="4251240"/>
            <a:ext cx="1019160" cy="102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Crític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492800" y="4251240"/>
            <a:ext cx="1218960" cy="102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El Juris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187280" y="4251240"/>
            <a:ext cx="3305520" cy="102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99000"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III. Conocimientos del Derech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Conocimiento jurídico- Especulativo del Derech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(Filósofo-historiado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730920" y="3435480"/>
            <a:ext cx="1728720" cy="81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99000"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Hermenéut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Analóg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Principio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711760" y="3435480"/>
            <a:ext cx="1019160" cy="81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Positiv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492800" y="3435480"/>
            <a:ext cx="1218960" cy="81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El Jue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187280" y="3435480"/>
            <a:ext cx="3305520" cy="81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II. Aplicación del Derech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( Ejecutiva del derech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730920" y="2619360"/>
            <a:ext cx="1728720" cy="816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99000"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Form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Natur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Consuetudinar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711760" y="2619360"/>
            <a:ext cx="1019160" cy="816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Genét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492800" y="2619360"/>
            <a:ext cx="1218960" cy="816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99000"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El Legislad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187280" y="2619360"/>
            <a:ext cx="3305520" cy="816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marL="711360" indent="-7113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I. Formación del Derech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(Genética del Derech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711760" y="1628640"/>
            <a:ext cx="2747880" cy="812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Aspec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492800" y="1628640"/>
            <a:ext cx="1218960" cy="812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ujetos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 (artífic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187280" y="1628640"/>
            <a:ext cx="3305520" cy="812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Momen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187280" y="1628640"/>
            <a:ext cx="727236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187280" y="2619360"/>
            <a:ext cx="7272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187280" y="3435480"/>
            <a:ext cx="7272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187280" y="4251240"/>
            <a:ext cx="7272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187280" y="5280120"/>
            <a:ext cx="7272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187280" y="6308640"/>
            <a:ext cx="727236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187280" y="1628640"/>
            <a:ext cx="0" cy="450216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492800" y="1628640"/>
            <a:ext cx="0" cy="450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711760" y="1628640"/>
            <a:ext cx="0" cy="450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8459640" y="1628640"/>
            <a:ext cx="0" cy="450216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6730920" y="2619360"/>
            <a:ext cx="0" cy="3689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0" y="189000"/>
            <a:ext cx="63007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Fuentes del conocimiento juríd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6" name=""/>
          <p:cNvGraphicFramePr/>
          <p:nvPr/>
        </p:nvGraphicFramePr>
        <p:xfrm>
          <a:off x="755640" y="1413000"/>
          <a:ext cx="7488360" cy="4922640"/>
        </p:xfrm>
        <a:graphic>
          <a:graphicData uri="http://schemas.openxmlformats.org/drawingml/2006/table">
            <a:tbl>
              <a:tblPr/>
              <a:tblGrid>
                <a:gridCol w="2028960"/>
                <a:gridCol w="850680"/>
                <a:gridCol w="2664000"/>
                <a:gridCol w="1944720"/>
              </a:tblGrid>
              <a:tr h="64764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 algn="ctr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ECTA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 referentes a las formas y a la vida del Derecho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841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) MEDIATA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 elaboradas por un intermediario o agente y para fines científicos en orden al Derecho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) INMEDIAT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gestadas sin la intervención de un intermediario que persiga fines científicos en orden al derecho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3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cho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a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jeto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98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Literatura jurídic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en sentido estricto: obras  de tratadistas, comentaristas, sintetizadores, etc., privado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Recopilación , repertorios, antologías, etc. De fuentes jurídic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Conducta humana de tipo jurídico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Costumbres jurídic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Legislación </a:t>
                      </a:r>
                      <a:r>
                        <a:rPr b="1" i="1" lang="es-ES" sz="9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en sentido genérico: códigos, leyes, decretos-leyes, decretos con fuerza de ley, ordenanzas, reglamentos, decretos, etc., dictados en ejercicio de la Potestad Legislativa o Reglamentaria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Normas jurídicas consuetudinari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Resoluciones judiciales </a:t>
                      </a: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generales: auto-acordados; especiales: sentencias, autos y decretos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Terminología juríd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Refranes y aforismos, locuciones clásicas de contenido jurídic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Formularios; registros , fórmulas, asientos, fichas, minutas de contenido jurídico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Textos de actas o contratos o de testimonios jurídic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Establecimientos, locales, aparatos, muebles y demás implementos, para la realización de sesiones, actos, reuniones, etc. o para impartir sanciones o premios de tipo jurídic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Atributos, emblemas, distintivos, etc. de instituciones o personas para fines jurídic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Otros objetos </a:t>
                      </a:r>
                      <a:r>
                        <a:rPr b="1" i="1" lang="en-US" sz="9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monedas, sellos, etc. De esa índole)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37" name=""/>
          <p:cNvSpPr/>
          <p:nvPr/>
        </p:nvSpPr>
        <p:spPr>
          <a:xfrm>
            <a:off x="755640" y="3357720"/>
            <a:ext cx="7488360" cy="3024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771640" y="3357720"/>
            <a:ext cx="0" cy="3024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635280" y="3357720"/>
            <a:ext cx="0" cy="3024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300720" y="3357720"/>
            <a:ext cx="0" cy="3024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1" name=""/>
          <p:cNvGraphicFramePr/>
          <p:nvPr/>
        </p:nvGraphicFramePr>
        <p:xfrm>
          <a:off x="826920" y="1197000"/>
          <a:ext cx="7488360" cy="4922640"/>
        </p:xfrm>
        <a:graphic>
          <a:graphicData uri="http://schemas.openxmlformats.org/drawingml/2006/table">
            <a:tbl>
              <a:tblPr/>
              <a:tblGrid>
                <a:gridCol w="2028960"/>
                <a:gridCol w="851040"/>
                <a:gridCol w="2663640"/>
                <a:gridCol w="1944720"/>
              </a:tblGrid>
              <a:tr h="64764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)  INDIRECTA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 no referentes específica, pero si conexamente las formas y a la vida del Derecho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841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) MEDIATA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 producidas por un intermediario  para fines científicos y, aún, artísticos, no-jurídicos en sí, pero con proyección jurídica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) INMEDIAT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dan noticia accidental o secundaria de lo jurídico o de  lo científico o social con proyección jurídica, sin la intervención finalista de un agente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3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cho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a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jeto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98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Literatura sobre Ciencias Políticas, Ciencias Naturales, Sociología, Psicología, Ecología, Filosofía, Historia, Moral, Religión, Economía, Higiene, Previsión, etc., literatura social en una palabr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Recopilación , repertorios, antologías, etc. De fuentes normativas no jurídic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Conducta humana de tipo pre, proto, anti y meta-jurídic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9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sus testimonios)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Normas éticas, higiénicas , económicas, técnicas, religiosas, sociales, etc, </a:t>
                      </a:r>
                      <a:r>
                        <a:rPr b="0" i="1" lang="es-E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sus testimonio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Resoluciones, instrucciones, órdenes, etc.,de carácter administrativ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Terminología política, administrativa, económico-técnico, etc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Refranes, aforismos, locuciones, etc, </a:t>
                      </a:r>
                      <a:r>
                        <a:rPr b="0" i="1" lang="es-E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de contenido socia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Toponimi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Piezas orales, escritas, grabadas, fotografías, etc de creaciones intelectuales de autoridades o particulares de contenido pre, proto, anti y meta jurídico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Objetos individualizados en I, B, b” pero de contenido pre, proto, anti o meta jurídico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Monumentos históricos , obras artísticas, restos etno-arqueológico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Otros objetos representativos de la Vida Social, la Cultura y  la Civilización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42" name=""/>
          <p:cNvSpPr/>
          <p:nvPr/>
        </p:nvSpPr>
        <p:spPr>
          <a:xfrm>
            <a:off x="0" y="189000"/>
            <a:ext cx="63007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Fuentes del conocimiento juríd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826920" y="3141720"/>
            <a:ext cx="7490160" cy="2951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843280" y="3141720"/>
            <a:ext cx="0" cy="295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372360" y="3141720"/>
            <a:ext cx="0" cy="295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708360" y="3141720"/>
            <a:ext cx="0" cy="295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324000" y="189000"/>
            <a:ext cx="856908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Matriz relación  (Interrogantes, Objetivos, Hipótesis y Títulos de Investigació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137360" y="3809880"/>
            <a:ext cx="1814400" cy="264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Moneda única Latinoamericana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Impacto sobre la estabilidad económica y social de los países de esa reg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396040" y="3809880"/>
            <a:ext cx="1741320" cy="264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 creación de una moneda única para los países latinoamericanos afectará a la estabilidad y desarrollo de los mismos en el orden económico y socia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475080" y="3809880"/>
            <a:ext cx="1920960" cy="264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alizar el impacto económico y social que se pudiese generar sobre la estabilidad y desarrollo de los países latinoamericanos como consecuencia de la creación de una moneda única para esa reg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692360" y="3809880"/>
            <a:ext cx="1782720" cy="264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¿Qué impacto económico y social tendrá la creación de una moneda única latinoamericana sobre la estabilidad y desarrollo económico de los países de esa región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7137360" y="1805040"/>
            <a:ext cx="1814400" cy="200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Responsabilidad en la acción procesal civil en Ch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396040" y="1805040"/>
            <a:ext cx="1741320" cy="200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 ejercicio de la acción procesal civil  por parte del Juez es condición necesaria para el cumplimiento de la obligación pública de proveer y dictar senten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475080" y="1805040"/>
            <a:ext cx="1920960" cy="200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ar la condición necesaria para que el Juez cumpla con la obligación pública de proveer y dictar sentenci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692360" y="1805040"/>
            <a:ext cx="1782720" cy="200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¿Cuál  es la condición necesaria para que el Juez cumpla la obligación pública de proveer y dictar sentencia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7137360" y="1305000"/>
            <a:ext cx="1814400" cy="50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TITU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396040" y="1305000"/>
            <a:ext cx="1741320" cy="50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HIPOTE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475080" y="1305000"/>
            <a:ext cx="1920960" cy="50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OBJETIV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692360" y="1305000"/>
            <a:ext cx="1782720" cy="50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INTERROGA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692360" y="1305000"/>
            <a:ext cx="725940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692360" y="1805040"/>
            <a:ext cx="72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692360" y="3809880"/>
            <a:ext cx="72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692360" y="6453360"/>
            <a:ext cx="725940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692360" y="1305000"/>
            <a:ext cx="0" cy="514836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3475080" y="1305000"/>
            <a:ext cx="0" cy="514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396040" y="1305000"/>
            <a:ext cx="0" cy="514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137360" y="1305000"/>
            <a:ext cx="0" cy="514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8951760" y="1305000"/>
            <a:ext cx="0" cy="514836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307800"/>
            <a:ext cx="80280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Matriz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539640" y="1773360"/>
          <a:ext cx="8064720" cy="4117680"/>
        </p:xfrm>
        <a:graphic>
          <a:graphicData uri="http://schemas.openxmlformats.org/drawingml/2006/table">
            <a:tbl>
              <a:tblPr/>
              <a:tblGrid>
                <a:gridCol w="1881360"/>
                <a:gridCol w="2112840"/>
                <a:gridCol w="1919520"/>
                <a:gridCol w="2151000"/>
              </a:tblGrid>
              <a:tr h="449280"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Interrogan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Objetivo Gene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Hipótes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Títul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68400"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   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¿Cuál es el nivel de eficacia del Plan de prevención y erradicación del trabajo infantil y adolescente en Chile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   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Analizar el nivel de eficacia del Plan de prevención y erradicación del trabajo infantil y adolescente en Chi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      </a:t>
                      </a: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El Plan de prevención y erradicación del trabajo infantil y adolescente en Chile es ineficaz, puesto que aún se mantienen altos índices de ést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   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Plan de prevención y erradicación del trabajo infantil y adolescente en Chile. Aplicación y eficaci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71" name=""/>
          <p:cNvSpPr/>
          <p:nvPr/>
        </p:nvSpPr>
        <p:spPr>
          <a:xfrm>
            <a:off x="0" y="4799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0" y="189000"/>
            <a:ext cx="80280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Matriz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5219640" y="4508640"/>
            <a:ext cx="2016360" cy="173808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/>
          <p:nvPr/>
        </p:nvSpPr>
        <p:spPr>
          <a:xfrm>
            <a:off x="0" y="22417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0" y="470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6" name=""/>
          <p:cNvGraphicFramePr/>
          <p:nvPr/>
        </p:nvGraphicFramePr>
        <p:xfrm>
          <a:off x="755640" y="1316160"/>
          <a:ext cx="7843680" cy="5281560"/>
        </p:xfrm>
        <a:graphic>
          <a:graphicData uri="http://schemas.openxmlformats.org/drawingml/2006/table">
            <a:tbl>
              <a:tblPr/>
              <a:tblGrid>
                <a:gridCol w="2413080"/>
                <a:gridCol w="2712960"/>
                <a:gridCol w="27176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Pregunt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Objetivos específic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Contenid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56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1.- ¿Cuál es la política social estatal en materia de erradicación del trabajo infantil en Chile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1.- Describir cuál es la política social estatal en materia de erradicación del trabajo infantil en Chil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Capítulo I: Política social estatal y erradicación del trabajo infantil en Chil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00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2.- ¿Cómo se ha aplicado el Plan de prevención y erradicación del trabajo infantil y adolescente en Chile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2.- Analizar la forma en que se ha aplicado esta política en Chile (criterio orgánico y funcional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Capítulo II: Aplicación del Plan de prevención y erradicación del trabajo infantil y adolescente en Chi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55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3.- ¿Cuáles han sido los resultados de esta aplicación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3.- Precisar cuáles han sido los resultados de esta aplicación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Capítulo III: Resultados de la aplicación del Plan de prevención y erradicación del trabajo infantil y adolescente en Chi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229600" cy="70668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Matriz que establece la relación entre los principales elementos del proye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539640" y="1413000"/>
          <a:ext cx="8229600" cy="4886280"/>
        </p:xfrm>
        <a:graphic>
          <a:graphicData uri="http://schemas.openxmlformats.org/drawingml/2006/table">
            <a:tbl>
              <a:tblPr/>
              <a:tblGrid>
                <a:gridCol w="2170080"/>
                <a:gridCol w="194472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Interrogan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Objetivo Gene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Hipótes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Títul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43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¿Cuál es el nivel de influencia del dumping social en el régimen jurídico del trabajo infantil en Chile y Venezuela; qué políticas y programas sociales han establecido ambos países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Analizar la influencia de dumping social en la situación sociojurídica y en la formulación de políticas y programas sociales del trabajo infantil en Chile y Venezue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El dumping social, como fenómeno propio de la globalización y del modelo económico exógeno a Chile y Venezuela , que regula el mercado internacional, determina las normas jurídicas, las políticas y programas sociales en el tratamiento del trabajo infant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“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El Trabajo Infantil en Chile y Venezuela, su problemática Sociojurídica y su relación con el Dumping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075520" cy="66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Matriz que establece la relación entre  preguntas secundarias y objetivos específ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0" name=""/>
          <p:cNvGraphicFramePr/>
          <p:nvPr/>
        </p:nvGraphicFramePr>
        <p:xfrm>
          <a:off x="395280" y="1341360"/>
          <a:ext cx="8497800" cy="5424480"/>
        </p:xfrm>
        <a:graphic>
          <a:graphicData uri="http://schemas.openxmlformats.org/drawingml/2006/table">
            <a:tbl>
              <a:tblPr/>
              <a:tblGrid>
                <a:gridCol w="4321080"/>
                <a:gridCol w="4176720"/>
              </a:tblGrid>
              <a:tr h="393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gunt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jetivos específic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30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¿Qué antecedentes históricos  tiene el trabajo infantil en ambos países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¿Cuáles  son los enfoques teóricos contrapuestos respecto del problema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¿En qué consiste el enfoque metodológico de la investigación sociojurídica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¿Qué tipos de trabajo infantil se dan en ambos países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¿En qué consiste el dumping social en el trabajo infantil en Chile y Venezuela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¿Cuál es el régimen jurídico del trabajo de menores en Chile y Venezuela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¿Cuáles son las propuestas de políticas y programas sociales en la materia 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entificar los antecedentes históricos del trabajo infantil en Chile y Venezuela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onocer los enfoques teóricos existente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bir la metodología de la investigación sociojuríd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terminar los tipos de trabajo infantil en Chile y Venezuela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entificar los aspectos característicos del dumping social en estos paíse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lizar comparativamente el régimen jurídico del trabajo infantil en ambos paíse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ablecer las políticas y programas sociales de ambos países en la materia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8075520" cy="43668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Matriz de operacionalización de las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2" name=""/>
          <p:cNvGraphicFramePr/>
          <p:nvPr/>
        </p:nvGraphicFramePr>
        <p:xfrm>
          <a:off x="446040" y="1628640"/>
          <a:ext cx="8373960" cy="4660920"/>
        </p:xfrm>
        <a:graphic>
          <a:graphicData uri="http://schemas.openxmlformats.org/drawingml/2006/table">
            <a:tbl>
              <a:tblPr/>
              <a:tblGrid>
                <a:gridCol w="2016000"/>
                <a:gridCol w="2376360"/>
                <a:gridCol w="2232000"/>
                <a:gridCol w="174960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Hipótes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Variab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Indicado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Fuen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108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El dumping social, como fenómeno propio de la globalización y del modelo económico exógeno a Chile y Venezuela, que regula el mercado internacional, determina las normas jurídicas, las políticas y programas sociales en el tratamiento del trabajo infant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66760" indent="-26676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V. independiente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66760" indent="-26676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Dumping soci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66760" indent="-26676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Estadística sobre trabajo infantil en Chile y Venezuela (discriminando sus distintos tipo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Labores productivas que genera el trabajo infant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Características del modelo económico en Chile y Venezuela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Actores nacionales e internacionales, sus posicione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Normas jurídicas internacionales (Declaración universal de los derechos humanos, convención internacional de los derechos del niño, Declaración de los derechos del Niño, Pacto internacional de derechos Civiles y políticos, Pacto internacional de derechos económicos sociales y culturales, Pacto de San José de Costa Rica, Convenio 138 y 182 de la OIT) y nacionales de ambos países (Constitución, Leyes de menores y de familia, Legislación laboral, etc.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Texto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Investigacion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Fuentes formales y materia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Document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Entrevistas, etc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12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66760" indent="-26676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V. Dependiente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66760" indent="-26676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   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Normas jurídicas, políticas y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programas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socia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>
            <a:grayscl/>
          </a:blip>
          <a:srcRect l="0" t="79405" r="20735" b="7362"/>
          <a:stretch/>
        </p:blipFill>
        <p:spPr>
          <a:xfrm>
            <a:off x="0" y="73080"/>
            <a:ext cx="3995640" cy="9079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843280" y="260280"/>
            <a:ext cx="63007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06906" dir="9332361" blurRad="0" rotWithShape="0">
              <a:srgbClr val="99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Tipos de Conocimien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68360" y="1989000"/>
            <a:ext cx="5111640" cy="581400"/>
          </a:xfrm>
          <a:prstGeom prst="rect">
            <a:avLst/>
          </a:prstGeom>
          <a:solidFill>
            <a:srgbClr val="ffffff"/>
          </a:solidFill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CIENTÍF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3213000"/>
            <a:ext cx="5184720" cy="581400"/>
          </a:xfrm>
          <a:prstGeom prst="rect">
            <a:avLst/>
          </a:prstGeom>
          <a:solidFill>
            <a:srgbClr val="ffffff"/>
          </a:solidFill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CRÍTICO-REFLEX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68360" y="4508640"/>
            <a:ext cx="5111640" cy="1068840"/>
          </a:xfrm>
          <a:prstGeom prst="rect">
            <a:avLst/>
          </a:prstGeom>
          <a:solidFill>
            <a:srgbClr val="ffffff"/>
          </a:solidFill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PRE-CIENTÍFICO O SENSO-PERCEPT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56360" y="1776240"/>
            <a:ext cx="2448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GENÉ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SISTEMÁ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156360" y="4397400"/>
            <a:ext cx="298764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ESTÉT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DOGMÁT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DE SENTIDO COMÚ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MITOLÓG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5364000" y="4613040"/>
            <a:ext cx="792360" cy="360360"/>
          </a:xfrm>
          <a:prstGeom prst="line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364000" y="4973760"/>
            <a:ext cx="863640" cy="0"/>
          </a:xfrm>
          <a:prstGeom prst="line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64000" y="4973760"/>
            <a:ext cx="792360" cy="504720"/>
          </a:xfrm>
          <a:prstGeom prst="line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64000" y="4973760"/>
            <a:ext cx="792360" cy="936360"/>
          </a:xfrm>
          <a:prstGeom prst="line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219640" y="2131920"/>
            <a:ext cx="936720" cy="144720"/>
          </a:xfrm>
          <a:prstGeom prst="line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219640" y="2276640"/>
            <a:ext cx="936720" cy="144360"/>
          </a:xfrm>
          <a:prstGeom prst="line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0" y="404640"/>
            <a:ext cx="57610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Cronograma de activid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1042920" y="1628640"/>
          <a:ext cx="7705800" cy="4680000"/>
        </p:xfrm>
        <a:graphic>
          <a:graphicData uri="http://schemas.openxmlformats.org/drawingml/2006/table">
            <a:tbl>
              <a:tblPr/>
              <a:tblGrid>
                <a:gridCol w="25218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</a:tblGrid>
              <a:tr h="417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Actividad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MARZ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ABR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MAY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JUN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JUL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AGOS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Arqueo bibliográfi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Elaboración del marco teóri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Elaboración de los instrument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Prueba de los instrumento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Recolección de dat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Procesamiento de dat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Análisis de los dat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Redacción del borrad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Revisión y corrección del borrad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Presentación del infor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50920" y="1844640"/>
            <a:ext cx="15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ELIMIN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476360" y="250920"/>
            <a:ext cx="576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Estructura de una tesis (monografí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24000" y="2176560"/>
            <a:ext cx="1296720" cy="27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TÍTULO DE LA TES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AGRADECIMIENTO-RECONOCIMIEN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PRÓLOGO (resumen del contenido de la tesis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SIGLAS ESPECIALES (si fuera necesario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ÍNDICE GENER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836720" y="2176560"/>
            <a:ext cx="1655640" cy="22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I. INTRODUC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entury Gothic"/>
              </a:rPr>
              <a:t>-(síntesis del proceso de la investigación)-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entury Gothic"/>
              </a:rPr>
              <a:t>Planteamiento del problema:</a:t>
            </a: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 límites, valoración, (importancia). ¿Qué?  ¿Por qué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entury Gothic"/>
              </a:rPr>
              <a:t>Proceso a seguir</a:t>
            </a: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 ¿Cómo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entury Gothic"/>
              </a:rPr>
              <a:t>Objetivo</a:t>
            </a: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.¿Para qué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013440" y="2176560"/>
            <a:ext cx="1655640" cy="265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entury Gothic"/>
              </a:rPr>
              <a:t>III.</a:t>
            </a: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 CONCLUSIÓN: OBJETIVO DE LA INVESTIGACIÓN: </a:t>
            </a:r>
            <a:r>
              <a:rPr b="1" lang="en-US" sz="900" spc="-1" strike="noStrike">
                <a:solidFill>
                  <a:srgbClr val="000000"/>
                </a:solidFill>
                <a:latin typeface="Century Gothic"/>
              </a:rPr>
              <a:t>Formalización de la tesi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Resultado de la investigación: Solución del problem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Confirmación de la tesis: Objetivo logra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Implicaciones de la investiga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RECOMENDACION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492360" y="2176560"/>
            <a:ext cx="2449800" cy="37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Century Gothic"/>
              </a:rPr>
              <a:t>II. CUERPO DE LA TES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SITUACIÓN DE LA INVESTIG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-Status Quaestionis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Justificación del problema: 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antecedentes del mism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Revisión bibliográfica: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 situación actual del problem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Ubicación del problem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FUNDAMENTOS DE LA INVESTIGACIÓN (PROBLEMA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FORMULACIÓN DE LA HIPÓTESIS: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 variables, Sistema de hipótesis, tesi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INTERPRETACIÓN DE LOS DATOS: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 elaboración del diseño para la demostración . Análisis de los datos, documento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CONTRASTACIÓN-CONFIRMACIÓN: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 crítica hermenéutica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669080" y="2176560"/>
            <a:ext cx="1081080" cy="39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Century Gothic"/>
              </a:rPr>
              <a:t>POSTSCRIPTUM-EPILOGO-EXCURS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Century Gothic"/>
              </a:rPr>
              <a:t>NOTAS BIBLIOGRÁFICAS-notas “ad calcem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Century Gothic"/>
              </a:rPr>
              <a:t>BIBLIOGRAFÍA: General, (fundamental, especial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Century Gothic"/>
              </a:rPr>
              <a:t>APÉNDICES,INDICES: de materias, onomástico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Century Gothic"/>
              </a:rPr>
              <a:t>TABLAS. GRÁFICAS. ANEX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96720" y="2104920"/>
            <a:ext cx="122400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413080" y="6208560"/>
            <a:ext cx="46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XTO DE LA TESIS – ESTRUCTURA – ESQUEMA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4" name=""/>
          <p:cNvGrpSpPr/>
          <p:nvPr/>
        </p:nvGrpSpPr>
        <p:grpSpPr>
          <a:xfrm>
            <a:off x="396720" y="1816200"/>
            <a:ext cx="8425080" cy="4321080"/>
            <a:chOff x="396720" y="1816200"/>
            <a:chExt cx="8425080" cy="4321080"/>
          </a:xfrm>
        </p:grpSpPr>
        <p:sp>
          <p:nvSpPr>
            <p:cNvPr id="395" name=""/>
            <p:cNvSpPr/>
            <p:nvPr/>
          </p:nvSpPr>
          <p:spPr>
            <a:xfrm>
              <a:off x="1620720" y="2105280"/>
              <a:ext cx="0" cy="40320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620720" y="6137280"/>
              <a:ext cx="597708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 flipV="1">
              <a:off x="7597800" y="2105280"/>
              <a:ext cx="0" cy="40320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597800" y="2105280"/>
              <a:ext cx="12240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720" y="2105280"/>
              <a:ext cx="0" cy="24476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8821800" y="2105280"/>
              <a:ext cx="0" cy="24476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 flipV="1">
              <a:off x="3421080" y="1816200"/>
              <a:ext cx="0" cy="19447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421080" y="1816200"/>
              <a:ext cx="24480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869080" y="1816200"/>
              <a:ext cx="0" cy="18734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421080" y="4410360"/>
              <a:ext cx="0" cy="15112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421080" y="5921640"/>
              <a:ext cx="24480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869080" y="4410360"/>
              <a:ext cx="0" cy="15112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7" name=""/>
          <p:cNvSpPr/>
          <p:nvPr/>
        </p:nvSpPr>
        <p:spPr>
          <a:xfrm>
            <a:off x="3421080" y="1603440"/>
            <a:ext cx="252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SARROLLO DE LA INVESTIG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524720" y="1816200"/>
            <a:ext cx="137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C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/>
          <p:nvPr/>
        </p:nvSpPr>
        <p:spPr>
          <a:xfrm>
            <a:off x="1042920" y="4294080"/>
            <a:ext cx="7848720" cy="2448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042920" y="1414440"/>
            <a:ext cx="7848720" cy="1511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042920" y="2925720"/>
            <a:ext cx="7848720" cy="1368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851280" y="1414440"/>
            <a:ext cx="5040360" cy="5327640"/>
          </a:xfrm>
          <a:prstGeom prst="rect">
            <a:avLst/>
          </a:prstGeom>
          <a:solidFill>
            <a:srgbClr val="ffffff">
              <a:alpha val="30000"/>
            </a:srgbClr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5867280" y="2924280"/>
            <a:ext cx="3024360" cy="1369800"/>
          </a:xfrm>
          <a:prstGeom prst="rect">
            <a:avLst/>
          </a:prstGeom>
          <a:solidFill>
            <a:srgbClr val="ffffff">
              <a:alpha val="30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971640" y="1701720"/>
            <a:ext cx="301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entury Gothic"/>
              </a:rPr>
              <a:t>ELEMENTOS INTRODUCTO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973680" y="1473120"/>
            <a:ext cx="3190680" cy="13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PORT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DEDICATO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PRÓ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AGRADECIMIEN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INTRODUC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971640" y="3255840"/>
            <a:ext cx="324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entury Gothic"/>
              </a:rPr>
              <a:t>CUERPO DEL TRABAJ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4519440" y="303516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PARTE 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4519440" y="349236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PARTE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4519440" y="3873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PARTE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12120" y="2957400"/>
            <a:ext cx="1523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Century Gothic"/>
              </a:rPr>
              <a:t>SECCIÓN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Century Gothic"/>
              </a:rPr>
              <a:t>SECCIÓN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5580000" y="2925720"/>
            <a:ext cx="1726560" cy="457200"/>
            <a:chOff x="5580000" y="2925720"/>
            <a:chExt cx="1726560" cy="457200"/>
          </a:xfrm>
        </p:grpSpPr>
        <p:sp>
          <p:nvSpPr>
            <p:cNvPr id="422" name=""/>
            <p:cNvSpPr/>
            <p:nvPr/>
          </p:nvSpPr>
          <p:spPr>
            <a:xfrm>
              <a:off x="5580000" y="2925720"/>
              <a:ext cx="101160" cy="457200"/>
            </a:xfrm>
            <a:custGeom>
              <a:avLst/>
              <a:gdLst>
                <a:gd name="textAreaLeft" fmla="*/ 64800 w 101160"/>
                <a:gd name="textAreaRight" fmla="*/ 101520 w 101160"/>
                <a:gd name="textAreaTop" fmla="*/ 11880 h 457200"/>
                <a:gd name="textAreaBottom" fmla="*/ 4453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884560" y="3039840"/>
              <a:ext cx="142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Century Gothic"/>
                </a:rPr>
                <a:t>CAPÍTU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4" name=""/>
          <p:cNvGrpSpPr/>
          <p:nvPr/>
        </p:nvGrpSpPr>
        <p:grpSpPr>
          <a:xfrm>
            <a:off x="5580000" y="3359160"/>
            <a:ext cx="1726560" cy="457200"/>
            <a:chOff x="5580000" y="3359160"/>
            <a:chExt cx="1726560" cy="457200"/>
          </a:xfrm>
        </p:grpSpPr>
        <p:sp>
          <p:nvSpPr>
            <p:cNvPr id="425" name=""/>
            <p:cNvSpPr/>
            <p:nvPr/>
          </p:nvSpPr>
          <p:spPr>
            <a:xfrm>
              <a:off x="5580000" y="3359160"/>
              <a:ext cx="101160" cy="457200"/>
            </a:xfrm>
            <a:custGeom>
              <a:avLst/>
              <a:gdLst>
                <a:gd name="textAreaLeft" fmla="*/ 64800 w 101160"/>
                <a:gd name="textAreaRight" fmla="*/ 101520 w 101160"/>
                <a:gd name="textAreaTop" fmla="*/ 11880 h 457200"/>
                <a:gd name="textAreaBottom" fmla="*/ 4453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884560" y="3473280"/>
              <a:ext cx="142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Century Gothic"/>
                </a:rPr>
                <a:t>CAPÍTU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7" name=""/>
          <p:cNvGrpSpPr/>
          <p:nvPr/>
        </p:nvGrpSpPr>
        <p:grpSpPr>
          <a:xfrm>
            <a:off x="5580000" y="3790800"/>
            <a:ext cx="1726560" cy="457200"/>
            <a:chOff x="5580000" y="3790800"/>
            <a:chExt cx="1726560" cy="457200"/>
          </a:xfrm>
        </p:grpSpPr>
        <p:sp>
          <p:nvSpPr>
            <p:cNvPr id="428" name=""/>
            <p:cNvSpPr/>
            <p:nvPr/>
          </p:nvSpPr>
          <p:spPr>
            <a:xfrm>
              <a:off x="5580000" y="3790800"/>
              <a:ext cx="101160" cy="457200"/>
            </a:xfrm>
            <a:custGeom>
              <a:avLst/>
              <a:gdLst>
                <a:gd name="textAreaLeft" fmla="*/ 64800 w 101160"/>
                <a:gd name="textAreaRight" fmla="*/ 101520 w 101160"/>
                <a:gd name="textAreaTop" fmla="*/ 11880 h 457200"/>
                <a:gd name="textAreaBottom" fmla="*/ 4453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884560" y="3904920"/>
              <a:ext cx="142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Century Gothic"/>
                </a:rPr>
                <a:t>CAPÍTU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0" name=""/>
          <p:cNvSpPr/>
          <p:nvPr/>
        </p:nvSpPr>
        <p:spPr>
          <a:xfrm>
            <a:off x="1332000" y="5014800"/>
            <a:ext cx="2301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Century Gothic"/>
              </a:rPr>
              <a:t>ELEMENTOS FIN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1116000" y="260280"/>
            <a:ext cx="660384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Century Gothic"/>
              </a:rPr>
              <a:t>Elementos constitutivos de los trabajos científ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282920" y="299880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4282920" y="3430440"/>
            <a:ext cx="2953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4282920" y="3862440"/>
            <a:ext cx="2953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 flipV="1">
            <a:off x="7236000" y="29984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3924360" y="4438800"/>
            <a:ext cx="3743280" cy="19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CONCLUS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RECOMENDAC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APÉND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ANEX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BIBLIOGRAF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ÍNDICE  DE  NOMBRES, DE CUADROS, ETC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ÍNDICE  GEN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/>
          <p:nvPr/>
        </p:nvSpPr>
        <p:spPr>
          <a:xfrm>
            <a:off x="1476360" y="490680"/>
            <a:ext cx="626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SQUEMA BÁSICO DE UN INFORME  DE INVESTIGACIÓN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309600" y="2400480"/>
            <a:ext cx="8750160" cy="3408120"/>
            <a:chOff x="309600" y="2400480"/>
            <a:chExt cx="8750160" cy="3408120"/>
          </a:xfrm>
        </p:grpSpPr>
        <p:sp>
          <p:nvSpPr>
            <p:cNvPr id="439" name=""/>
            <p:cNvSpPr/>
            <p:nvPr/>
          </p:nvSpPr>
          <p:spPr>
            <a:xfrm>
              <a:off x="4024440" y="361152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Times New Roman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429000" y="5364000"/>
              <a:ext cx="79380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505320" y="3840120"/>
              <a:ext cx="792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475080" y="2687760"/>
              <a:ext cx="79200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24000" y="2400480"/>
              <a:ext cx="3321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NTRODUCC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09600" y="3611520"/>
              <a:ext cx="3321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DESARROLL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95280" y="5135400"/>
              <a:ext cx="336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ONCLUS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343400" y="2400480"/>
              <a:ext cx="471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resentación de la investigació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419720" y="3459240"/>
              <a:ext cx="417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nálisis de la informació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419720" y="3916440"/>
              <a:ext cx="417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Times New Roman"/>
                </a:rPr>
                <a:t>Los capítulos y subcapítu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419720" y="4983120"/>
              <a:ext cx="4176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xposición de resultados y logros de la investigació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429000" y="3916440"/>
              <a:ext cx="79200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1" name=""/>
          <p:cNvSpPr/>
          <p:nvPr/>
        </p:nvSpPr>
        <p:spPr>
          <a:xfrm>
            <a:off x="468360" y="333360"/>
            <a:ext cx="8280360" cy="1366920"/>
          </a:xfrm>
          <a:prstGeom prst="rect">
            <a:avLst/>
          </a:prstGeom>
          <a:noFill/>
          <a:ln w="5724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/>
          </p:nvPr>
        </p:nvSpPr>
        <p:spPr>
          <a:xfrm>
            <a:off x="1042560" y="1699920"/>
            <a:ext cx="7201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INTRODUCCIÓN ( NO ES CAPÍTUL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merar en el margen SUPERIOR de cada página y al centro con números ÁRAB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j: 1, 2, 3,4,5, 6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469800" y="304920"/>
            <a:ext cx="8350200" cy="892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30040" y="404640"/>
            <a:ext cx="8229600" cy="11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PAGIN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GIN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476000" y="1600200"/>
            <a:ext cx="6753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APÍTUL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e numera de acuerdo al orden de los capítulos  (ej: Capítulo 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"/>
          <p:cNvGrpSpPr/>
          <p:nvPr/>
        </p:nvGrpSpPr>
        <p:grpSpPr>
          <a:xfrm>
            <a:off x="3780000" y="4005360"/>
            <a:ext cx="5256000" cy="2852640"/>
            <a:chOff x="3780000" y="4005360"/>
            <a:chExt cx="5256000" cy="2852640"/>
          </a:xfrm>
        </p:grpSpPr>
        <p:sp>
          <p:nvSpPr>
            <p:cNvPr id="458" name=""/>
            <p:cNvSpPr/>
            <p:nvPr/>
          </p:nvSpPr>
          <p:spPr>
            <a:xfrm>
              <a:off x="3780000" y="4049640"/>
              <a:ext cx="2089080" cy="2808360"/>
            </a:xfrm>
            <a:prstGeom prst="foldedCorner">
              <a:avLst>
                <a:gd name="adj" fmla="val 125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1.1      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1.2.     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1.3.     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1.4.1.  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1.4. 2. 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214160" y="4292640"/>
              <a:ext cx="122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Capítulo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502880" y="400536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742520" y="41497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804000" y="4049640"/>
              <a:ext cx="2232000" cy="2808360"/>
            </a:xfrm>
            <a:prstGeom prst="foldedCorner">
              <a:avLst>
                <a:gd name="adj" fmla="val 125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2.1      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2.2.     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2.3.     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2.4.1.  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2.4. 2. 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7238520" y="4292640"/>
              <a:ext cx="122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Capítulo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7742880" y="400536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3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853440" y="4508640"/>
              <a:ext cx="204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0000"/>
                  </a:solidFill>
                  <a:latin typeface="Arial"/>
                </a:rPr>
                <a:t>Título del capítulo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950880" y="4581360"/>
              <a:ext cx="204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0000"/>
                  </a:solidFill>
                  <a:latin typeface="Arial"/>
                </a:rPr>
                <a:t>Título del capítulo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/>
          </p:nvPr>
        </p:nvSpPr>
        <p:spPr>
          <a:xfrm>
            <a:off x="140328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ES  ( NO ES CAPÍTUL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 numera de acuerdo al orden de las  conclusion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30040" y="404640"/>
            <a:ext cx="8229600" cy="11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PAGIN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5292720" y="1916280"/>
            <a:ext cx="345600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5370480" y="1916280"/>
            <a:ext cx="3881520" cy="450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La hoja de pap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Los márge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Tex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Tabl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Figu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Notas de pie de pág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Citas textos especi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Pagin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1619280" y="1916280"/>
            <a:ext cx="324000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057400" y="620640"/>
            <a:ext cx="676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Investigación en sentido for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1763640" y="1987560"/>
            <a:ext cx="2863800" cy="347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Organización Gene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Prelimin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Cuerpo de trabaj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Material complementario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1692360" y="2924280"/>
            <a:ext cx="705636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4604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entury Gothic"/>
              </a:rPr>
              <a:t>Guía de evaluación del trabajo monográfico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826560" y="1557000"/>
            <a:ext cx="7993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1. Presentación general del trabaj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-Formato gener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-Escritur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-Encuadernamiento o anill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2. Introducció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-Planteamiento y formulación del proble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-Objetiv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-Justific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-Hipótesis y/o pregunta directri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-Metodologí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/>
          </p:nvPr>
        </p:nvSpPr>
        <p:spPr>
          <a:xfrm>
            <a:off x="8064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Cuerpo o desarroll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Orden y equilibrio de cada parte o capítul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Presentación de las ideas principales y secundari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Coherencia y logicid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Pertinencia de la información recolecta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Análisis e interpretación de los dat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Aportes person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44604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entury Gothic"/>
              </a:rPr>
              <a:t>Guía de evaluación del trabajo monográfico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276720" y="2565360"/>
            <a:ext cx="5616360" cy="410364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00720" y="4149720"/>
            <a:ext cx="2592360" cy="71928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300720" y="3429000"/>
            <a:ext cx="259236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300720" y="2637000"/>
            <a:ext cx="259236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2565360"/>
            <a:ext cx="2592360" cy="4103640"/>
          </a:xfrm>
          <a:prstGeom prst="rect">
            <a:avLst/>
          </a:prstGeom>
          <a:solidFill>
            <a:srgbClr val="ffffff">
              <a:alpha val="70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276720" y="1125360"/>
            <a:ext cx="5616360" cy="13669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1125360"/>
            <a:ext cx="2592360" cy="1366920"/>
          </a:xfrm>
          <a:prstGeom prst="rect">
            <a:avLst/>
          </a:prstGeom>
          <a:solidFill>
            <a:srgbClr val="ffffff">
              <a:alpha val="70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26920" y="1341360"/>
            <a:ext cx="2216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onocimiento concreto-sen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971640" y="4221000"/>
            <a:ext cx="248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onocimiento rac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643200" y="1181160"/>
            <a:ext cx="30164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Sens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Percep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Represent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35280" y="2852640"/>
            <a:ext cx="2106720" cy="36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Concep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Juic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Razonami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Leyes y categorí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Hipóte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Cien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Teorí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415200" y="2637000"/>
            <a:ext cx="2439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Generaliz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Abstrac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2360" y="3429000"/>
            <a:ext cx="2439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Positivo -  Negativ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General -   Singul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380280" y="4221000"/>
            <a:ext cx="2439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Deductivo  Inductiv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Análisis   Sínte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>
            <a:grayscl/>
          </a:blip>
          <a:srcRect l="0" t="79405" r="20735" b="7362"/>
          <a:stretch/>
        </p:blipFill>
        <p:spPr>
          <a:xfrm>
            <a:off x="0" y="73080"/>
            <a:ext cx="3995640" cy="9079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547640" y="260280"/>
            <a:ext cx="75963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06906" dir="9332361" blurRad="0" rotWithShape="0">
              <a:srgbClr val="99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Proceso del conocimiento hum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19640" y="2637000"/>
            <a:ext cx="5473440" cy="720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419640" y="3429000"/>
            <a:ext cx="5473440" cy="647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419640" y="4149720"/>
            <a:ext cx="5473440" cy="720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/>
          </p:nvPr>
        </p:nvSpPr>
        <p:spPr>
          <a:xfrm>
            <a:off x="914400" y="1268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64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9900"/>
                </a:solidFill>
                <a:latin typeface="Arial"/>
              </a:rPr>
              <a:t>4. Conclusion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-Síntesis integradora de las ideas esbozad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-Recomendaciones y/o sugerenci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64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9900"/>
                </a:solidFill>
                <a:latin typeface="Arial"/>
              </a:rPr>
              <a:t>5. Aparato crítico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-Empleo y elaboración de las cit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-Funcionalidad y presentación de las not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64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9900"/>
                </a:solidFill>
                <a:latin typeface="Arial"/>
              </a:rPr>
              <a:t>6. Bibliografía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-Orden y completación de los dat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64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9900"/>
                </a:solidFill>
                <a:latin typeface="Arial"/>
              </a:rPr>
              <a:t>7. Índic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-Presentación y ubicació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64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9900"/>
                </a:solidFill>
                <a:latin typeface="Arial"/>
              </a:rPr>
              <a:t>8. Apéndice y/o anexo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-Funcionalidad y presentació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64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9900"/>
                </a:solidFill>
                <a:latin typeface="Arial"/>
              </a:rPr>
              <a:t>9. Ortografía y redacció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4604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entury Gothic"/>
              </a:rPr>
              <a:t>Guía de evaluación del trabajo monográfico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618920" y="465120"/>
            <a:ext cx="648324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Formato para la evaluación de exposiciones or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2" name=""/>
          <p:cNvGraphicFramePr/>
          <p:nvPr/>
        </p:nvGraphicFramePr>
        <p:xfrm>
          <a:off x="579600" y="1413000"/>
          <a:ext cx="8024760" cy="5018040"/>
        </p:xfrm>
        <a:graphic>
          <a:graphicData uri="http://schemas.openxmlformats.org/drawingml/2006/table">
            <a:tbl>
              <a:tblPr/>
              <a:tblGrid>
                <a:gridCol w="2568600"/>
                <a:gridCol w="546120"/>
                <a:gridCol w="546120"/>
                <a:gridCol w="549360"/>
                <a:gridCol w="541080"/>
                <a:gridCol w="546120"/>
                <a:gridCol w="544680"/>
                <a:gridCol w="547560"/>
                <a:gridCol w="544680"/>
                <a:gridCol w="546120"/>
                <a:gridCol w="5443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Nombre  del alum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Presentación pers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Tono de vo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Ritmo de exposi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Pronunci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Dominio de si mis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Motiv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Vocabulari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Dominio del conteni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Lenguaje corpor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Explicacion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Recursos audiovisua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Organización y coherenc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Control del tiemp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Conclusiones y/o cier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627280" y="2565360"/>
            <a:ext cx="0" cy="432000"/>
          </a:xfrm>
          <a:prstGeom prst="line">
            <a:avLst/>
          </a:prstGeom>
          <a:ln w="284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24360" y="2565360"/>
            <a:ext cx="0" cy="432000"/>
          </a:xfrm>
          <a:prstGeom prst="line">
            <a:avLst/>
          </a:prstGeom>
          <a:ln w="284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179280" y="2276640"/>
            <a:ext cx="8964720" cy="2933280"/>
            <a:chOff x="179280" y="2276640"/>
            <a:chExt cx="8964720" cy="2933280"/>
          </a:xfrm>
        </p:grpSpPr>
        <p:sp>
          <p:nvSpPr>
            <p:cNvPr id="88" name=""/>
            <p:cNvSpPr/>
            <p:nvPr/>
          </p:nvSpPr>
          <p:spPr>
            <a:xfrm>
              <a:off x="179280" y="2276640"/>
              <a:ext cx="1152720" cy="3985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entury Gothic"/>
                </a:rPr>
                <a:t>Conocimiento sensitiv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474920" y="2276640"/>
              <a:ext cx="1152360" cy="3985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entury Gothic"/>
                </a:rPr>
                <a:t>Conocimiento lógic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771640" y="2276640"/>
              <a:ext cx="1152720" cy="3985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entury Gothic"/>
                </a:rPr>
                <a:t>Análisis y síntesi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067280" y="2276640"/>
              <a:ext cx="1152360" cy="3985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entury Gothic"/>
                </a:rPr>
                <a:t>Conocimiento científic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364000" y="2276640"/>
              <a:ext cx="1151280" cy="4777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entury Gothic"/>
                </a:rPr>
                <a:t>Hipótesi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659640" y="2276640"/>
              <a:ext cx="1152360" cy="4777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entury Gothic"/>
                </a:rPr>
                <a:t>Teorí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883640" y="2276640"/>
              <a:ext cx="1260360" cy="5508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entury Gothic"/>
                </a:rPr>
                <a:t>Desarrollo del conocimiento científic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332000" y="2563920"/>
              <a:ext cx="14436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924360" y="2563920"/>
              <a:ext cx="14436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627280" y="2563920"/>
              <a:ext cx="14436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516720" y="2563920"/>
              <a:ext cx="14436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219640" y="2563920"/>
              <a:ext cx="14436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812000" y="2563920"/>
              <a:ext cx="14472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5640" y="3284640"/>
              <a:ext cx="1079640" cy="246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entury Gothic"/>
                </a:rPr>
                <a:t>Sentidos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716360" y="3284640"/>
              <a:ext cx="1224000" cy="550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entury Gothic"/>
                </a:rPr>
                <a:t>Conceptos  juicios  conclusiones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419640" y="3284640"/>
              <a:ext cx="1079280" cy="246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entury Gothic"/>
                </a:rPr>
                <a:t>Métodos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052720" y="3284640"/>
              <a:ext cx="1079280" cy="246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entury Gothic"/>
                </a:rPr>
                <a:t>Conceptos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332000" y="4579920"/>
              <a:ext cx="1079280" cy="5508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entury Gothic"/>
                </a:rPr>
                <a:t>Aspectos superficiales de las cosa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292720" y="4579920"/>
              <a:ext cx="1224000" cy="6300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entury Gothic"/>
                </a:rPr>
                <a:t>Formas de pensamient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851280" y="4579920"/>
              <a:ext cx="1224000" cy="5508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entury Gothic"/>
                </a:rPr>
                <a:t>Procedimientos lógicos y técnicos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629080" y="4579920"/>
              <a:ext cx="1079280" cy="5508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entury Gothic"/>
                </a:rPr>
                <a:t>Esencia de la naturaleza de las cosa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332000" y="2852640"/>
              <a:ext cx="0" cy="4316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219640" y="2852640"/>
              <a:ext cx="0" cy="4316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835280" y="3571920"/>
              <a:ext cx="0" cy="1007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132000" y="3571920"/>
              <a:ext cx="0" cy="1007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500720" y="3571920"/>
              <a:ext cx="0" cy="1007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940360" y="4003560"/>
              <a:ext cx="0" cy="57600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rot="5400000">
              <a:off x="6551280" y="2168280"/>
              <a:ext cx="215640" cy="1584360"/>
            </a:xfrm>
            <a:custGeom>
              <a:avLst/>
              <a:gdLst>
                <a:gd name="textAreaLeft" fmla="*/ 0 w 215640"/>
                <a:gd name="textAreaRight" fmla="*/ 151200 w 215640"/>
                <a:gd name="textAreaTop" fmla="*/ 65880 h 1584360"/>
                <a:gd name="textAreaBottom" fmla="*/ 1518480 h 158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solidFill>
              <a:srgbClr val="ffffff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6" name=""/>
            <p:cNvCxnSpPr>
              <a:stCxn id="102" idx="3"/>
              <a:endCxn id="115" idx="2"/>
            </p:cNvCxnSpPr>
            <p:nvPr/>
          </p:nvCxnSpPr>
          <p:spPr>
            <a:xfrm flipV="1">
              <a:off x="5954760" y="3087000"/>
              <a:ext cx="705240" cy="57636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  <a:tailEnd len="med" type="triangle" w="med"/>
            </a:ln>
          </p:spPr>
        </p:cxnSp>
      </p:grpSp>
      <p:pic>
        <p:nvPicPr>
          <p:cNvPr id="117" name="" descr=""/>
          <p:cNvPicPr/>
          <p:nvPr/>
        </p:nvPicPr>
        <p:blipFill>
          <a:blip r:embed="rId1">
            <a:grayscl/>
          </a:blip>
          <a:srcRect l="0" t="79405" r="20735" b="7362"/>
          <a:stretch/>
        </p:blipFill>
        <p:spPr>
          <a:xfrm>
            <a:off x="0" y="73080"/>
            <a:ext cx="3995640" cy="9079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3492360" y="260280"/>
            <a:ext cx="56516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06906" dir="9332361" blurRad="0" rotWithShape="0">
              <a:srgbClr val="99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El Conocimi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755640" y="1197000"/>
          <a:ext cx="7992720" cy="5538600"/>
        </p:xfrm>
        <a:graphic>
          <a:graphicData uri="http://schemas.openxmlformats.org/drawingml/2006/table">
            <a:tbl>
              <a:tblPr/>
              <a:tblGrid>
                <a:gridCol w="2664000"/>
                <a:gridCol w="2664360"/>
                <a:gridCol w="2664360"/>
              </a:tblGrid>
              <a:tr h="1320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Ciencias Forma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Century Gothic"/>
                        <a:buAutoNum type="alphaL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Filosofí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Century Gothic"/>
                        <a:buAutoNum type="alphaL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Lóg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Century Gothic"/>
                        <a:buAutoNum type="alphaL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Matemát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940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Ciencias Fáctic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Century Gothic"/>
                        <a:buAutoNum type="alphaL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Ciencias Natura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Biologí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Químic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Fís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Zoologí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Medici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Botánica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2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b) Ciencias Socia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Antropologí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Arqueologí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Derech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Economí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Estadíst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Lingüíst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Pedagogí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Psicologí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Polít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Sociología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20" name=""/>
          <p:cNvSpPr/>
          <p:nvPr/>
        </p:nvSpPr>
        <p:spPr>
          <a:xfrm>
            <a:off x="2700360" y="260280"/>
            <a:ext cx="64436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06906" dir="9332361" blurRad="0" rotWithShape="0">
              <a:srgbClr val="99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Clasificación de las Cienc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2482920" y="1484280"/>
            <a:ext cx="4249800" cy="398880"/>
          </a:xfrm>
          <a:prstGeom prst="rect">
            <a:avLst/>
          </a:prstGeom>
          <a:solidFill>
            <a:srgbClr val="ffffff"/>
          </a:solidFill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TEMA O ÁREA DE ESTUD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411280" y="2276640"/>
            <a:ext cx="4321440" cy="398880"/>
          </a:xfrm>
          <a:prstGeom prst="rect">
            <a:avLst/>
          </a:prstGeom>
          <a:solidFill>
            <a:srgbClr val="ffffff"/>
          </a:solidFill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PROBLEMA U OBJE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411280" y="2997360"/>
            <a:ext cx="4321440" cy="703800"/>
          </a:xfrm>
          <a:prstGeom prst="rect">
            <a:avLst/>
          </a:prstGeom>
          <a:solidFill>
            <a:srgbClr val="ffffff"/>
          </a:solidFill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MÉTODO CIENTÍFICO Y TÉCNICAS DE INVESTIG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411280" y="4005360"/>
            <a:ext cx="4321440" cy="398880"/>
          </a:xfrm>
          <a:prstGeom prst="rect">
            <a:avLst/>
          </a:prstGeom>
          <a:solidFill>
            <a:srgbClr val="ffffff"/>
          </a:solidFill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HIPÓTE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411280" y="4724280"/>
            <a:ext cx="4321440" cy="398880"/>
          </a:xfrm>
          <a:prstGeom prst="rect">
            <a:avLst/>
          </a:prstGeom>
          <a:solidFill>
            <a:srgbClr val="ffffff"/>
          </a:solidFill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CONOCIMIENTO CIENTÍF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411280" y="5516640"/>
            <a:ext cx="4321440" cy="398880"/>
          </a:xfrm>
          <a:prstGeom prst="rect">
            <a:avLst/>
          </a:prstGeom>
          <a:solidFill>
            <a:srgbClr val="ffffff"/>
          </a:solidFill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CIENC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500720" y="1989000"/>
            <a:ext cx="0" cy="287640"/>
          </a:xfrm>
          <a:prstGeom prst="line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500720" y="2708280"/>
            <a:ext cx="0" cy="289080"/>
          </a:xfrm>
          <a:prstGeom prst="line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500720" y="3716280"/>
            <a:ext cx="0" cy="289080"/>
          </a:xfrm>
          <a:prstGeom prst="line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00720" y="4437000"/>
            <a:ext cx="0" cy="287280"/>
          </a:xfrm>
          <a:prstGeom prst="line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00720" y="5157720"/>
            <a:ext cx="0" cy="358920"/>
          </a:xfrm>
          <a:prstGeom prst="line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>
            <a:stCxn id="126" idx="1"/>
            <a:endCxn id="121" idx="1"/>
          </p:cNvCxnSpPr>
          <p:nvPr/>
        </p:nvCxnSpPr>
        <p:spPr>
          <a:xfrm flipH="1" rot="10800000">
            <a:off x="2382480" y="1710720"/>
            <a:ext cx="72000" cy="4032720"/>
          </a:xfrm>
          <a:prstGeom prst="bentConnector3">
            <a:avLst>
              <a:gd name="adj1" fmla="val -1497487"/>
            </a:avLst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133" name=""/>
          <p:cNvSpPr/>
          <p:nvPr/>
        </p:nvSpPr>
        <p:spPr>
          <a:xfrm>
            <a:off x="1403280" y="333360"/>
            <a:ext cx="77407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06906" dir="9332361" blurRad="0" rotWithShape="0">
              <a:srgbClr val="99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Proceso de la investigación científ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>
            <a:grayscl/>
          </a:blip>
          <a:srcRect l="33459" t="0" r="0" b="0"/>
          <a:stretch/>
        </p:blipFill>
        <p:spPr>
          <a:xfrm>
            <a:off x="3059280" y="374760"/>
            <a:ext cx="6084720" cy="62942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0" y="3645000"/>
            <a:ext cx="7164360" cy="1922760"/>
          </a:xfrm>
          <a:prstGeom prst="rect">
            <a:avLst/>
          </a:prstGeom>
          <a:solidFill>
            <a:srgbClr val="ffffff"/>
          </a:solidFill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entury Gothic"/>
              </a:rPr>
              <a:t>La Investigación científic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168720" y="5877000"/>
            <a:ext cx="59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Profesor: Gabriel Alvarez Undurra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50920" y="333360"/>
            <a:ext cx="88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entury Gothic"/>
              </a:rPr>
              <a:t>Esquema del proceso de la investigación científ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84880" y="1206360"/>
            <a:ext cx="609480" cy="228600"/>
          </a:xfrm>
          <a:prstGeom prst="rightArrow">
            <a:avLst>
              <a:gd name="adj1" fmla="val 50000"/>
              <a:gd name="adj2" fmla="val 6665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384880" y="2573280"/>
            <a:ext cx="609480" cy="399960"/>
          </a:xfrm>
          <a:prstGeom prst="rightArrow">
            <a:avLst>
              <a:gd name="adj1" fmla="val 50000"/>
              <a:gd name="adj2" fmla="val 38096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916360" y="1206360"/>
            <a:ext cx="2735280" cy="258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SELECCIÓN DEL TE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084720" y="1120680"/>
            <a:ext cx="3059280" cy="12171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REVISIÓN BIBLIOGRÁF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CONSULTA A EXPERTOS Y/O ESPECIALIST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OBSERVACIÓN DIRECTA DE 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REAL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916360" y="2214720"/>
            <a:ext cx="2735280" cy="129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FORMULACIÓN DEL ANTEPROYEC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ELABORACIÓN DEL PROYEC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084720" y="2489040"/>
            <a:ext cx="3059280" cy="444852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PLANTEAMIENTO, FORMULACIÓN Y SISTEMATIZACIÓN  DEL PROBLE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OBJETIVOS DE LA INVESTIG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JUSTIFICACIÓN DE LA INVESTIG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ANTECEDENTES DE LA INVESTIGACIÓ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TEORÍ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SISTEMA CONCEPTU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HIPÓTESIS, VARIABLES E INDICAD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TIPOS Y NIVELES DE INVESTIGACIÓ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MÉTODOS Y TÉCNICAS DE INVESTIGACIÓ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ÍNDICE DEL CONTENIDO DE LA INVESTIGACIÓ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RECURSOS HUMANOS Y MATERIA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CRONOGRAMA DE ACTIVIDA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BIBLIOGRAFÍA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03040" y="4081320"/>
            <a:ext cx="2438640" cy="7855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 Black"/>
              </a:rPr>
              <a:t>EJECU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946240" y="3870360"/>
            <a:ext cx="2641680" cy="1569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Century Gothic"/>
              </a:rPr>
              <a:t>AMPLIACIÓN DEL MARCO TEÓRIC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Century Gothic"/>
              </a:rPr>
              <a:t>PRUEBA DE INSTRUMENTOS (ESTUDIO PILOTO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Century Gothic"/>
              </a:rPr>
              <a:t>RECOLECCIÓN DE DATOS (APLICACIÓN DE INSTRUMENTOS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Century Gothic"/>
              </a:rPr>
              <a:t>PROCESAMIENTO Y ANÁLISIS DE LOS DA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Century Gothic"/>
              </a:rPr>
              <a:t>INTERPRETACIÓN DE LOS RESULTAD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Century Gothic"/>
              </a:rPr>
              <a:t>VERIFICACIÓN O FALSEAMIENTO DE LA HIPÓTES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Century Gothic"/>
              </a:rPr>
              <a:t>ELABORACIÓN DE CONCLUSION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771640" y="134928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771640" y="170964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916360" y="1596960"/>
            <a:ext cx="2735280" cy="45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IDENTIFICACIÓN DE UN PROBLE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754360" y="286236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641680" y="444672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641680" y="610236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03040" y="5681520"/>
            <a:ext cx="2438640" cy="7855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 Black"/>
              </a:rPr>
              <a:t>DIVULG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946240" y="5526000"/>
            <a:ext cx="2641680" cy="113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Century Gothic"/>
              </a:rPr>
              <a:t>REDACCIÓN DEL BORRADO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Century Gothic"/>
              </a:rPr>
              <a:t>REVISIÓN Y CORREC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Century Gothic"/>
              </a:rPr>
              <a:t>PRESENTACIÓN DEL INFORME DE INVESTIGACIÓN (MONOGRAFÍA, TRABAJO DE GRADO, TESIS U OTRO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Century Gothic"/>
              </a:rPr>
              <a:t>EVALUACIÓN DEL TRABAJO ESCRITO Y SU PRESENTACIÓN OR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771640" y="1349280"/>
            <a:ext cx="0" cy="1513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2484360" y="1709640"/>
            <a:ext cx="287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79280" y="1206360"/>
            <a:ext cx="2408400" cy="7855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 Black"/>
              </a:rPr>
              <a:t>PLANIFIC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9T16:12:13Z</dcterms:created>
  <dc:creator>Gabriel Alvarez</dc:creator>
  <dc:description/>
  <dc:language>en-US</dc:language>
  <cp:lastModifiedBy>gau</cp:lastModifiedBy>
  <dcterms:modified xsi:type="dcterms:W3CDTF">2007-08-19T20:58:44Z</dcterms:modified>
  <cp:revision>62</cp:revision>
  <dc:subject/>
  <dc:title>Diapositiva 1</dc:title>
</cp:coreProperties>
</file>