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5F5C-2DA1-472E-B550-1AFCC174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52AE-633D-47F8-ABE4-BF40DA6E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9F14-1353-4910-9FEC-FB2BBD2A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71E0-3569-47B7-B2F9-B828BCF64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7AD-5D75-4DEF-8682-8B284BF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050-F5CE-4394-9B91-9AD7043A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A1A-1D42-4FCF-B80D-D0A1FF23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3C82-146E-4CC4-8900-115DCAB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863-48CF-43C1-AE6D-0286B729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64F2-66E4-4340-AF10-6382C293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24A0-6E0B-4991-A0FD-88B8CD9B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46B8-9054-4167-8BB1-752FFE5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2839-02EE-4BDB-96F2-F5E707379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8000" y="333360"/>
            <a:ext cx="5545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ULTAD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CUELA DE DER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4360" y="566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ESOR : GABRIEL ALVAREZ UNDURRA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2637000"/>
            <a:ext cx="705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URSO DE METODOLOGÍA DE LA INVESTIGACIÓN JURÍD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260360" y="333360"/>
            <a:ext cx="647640" cy="1152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1184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68360" y="5373720"/>
            <a:ext cx="68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fesor : Gabriel Alvarez Undurra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32000" y="26028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structura del Proyecto de Investigación Juríd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2400" y="1011240"/>
            <a:ext cx="448488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6153120"/>
            <a:ext cx="3651120" cy="515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IBLIOGRAFÍA , ANEXOS , APÉND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62400" y="16588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) Planteamiento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) Formul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3) Sistematiz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4) Objetivo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5) Justificación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11280" y="16588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62400" y="5106960"/>
            <a:ext cx="448488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)  Índice del contenido del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)  Recursos: humanos, materiales y financieros emple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3) 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5106960"/>
            <a:ext cx="3651120" cy="1046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PÍTULO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SPECTOS ADMINISTRA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262400" y="3957480"/>
            <a:ext cx="448488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1) Tipos  y nivele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2) Métod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3) Población y muestra (*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) Técnicas e instrumentos de recolección de da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) Tratamiento de la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957480"/>
            <a:ext cx="3651120" cy="1149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CAPÍTULO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Black"/>
              </a:rPr>
              <a:t>EL MARCO METOD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262400" y="2808360"/>
            <a:ext cx="448488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1) Antecedente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2) Bases teór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3) Definición de térmi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4) Hipó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5)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2808360"/>
            <a:ext cx="3651120" cy="1149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APÍTULO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L MARCO TE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1011240"/>
            <a:ext cx="3651120" cy="647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ÍTULO TENT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8083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39574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510696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165888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153120"/>
            <a:ext cx="813600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62400" y="1011240"/>
            <a:ext cx="0" cy="565776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11280" y="101124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747280" y="1011240"/>
            <a:ext cx="0" cy="565776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669000"/>
            <a:ext cx="8136000" cy="0"/>
          </a:xfrm>
          <a:prstGeom prst="line">
            <a:avLst/>
          </a:prstGeom>
          <a:ln cap="sq"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27640" y="6237360"/>
            <a:ext cx="4248000" cy="2311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* Esta parte se omite en los proyectos de investigación documen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6669000"/>
            <a:ext cx="81374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04000" y="3176640"/>
            <a:ext cx="1800360" cy="19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60280"/>
            <a:ext cx="83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xposición esquemática de los elementos con los que opera el métod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3753000"/>
            <a:ext cx="187164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Element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48000" y="224172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ONCEP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296244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368136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440208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48000" y="5122800"/>
            <a:ext cx="25923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IND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20000" y="3537000"/>
            <a:ext cx="14032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Sistema teórico de la 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843280" y="2457360"/>
            <a:ext cx="504720" cy="151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843280" y="3247920"/>
            <a:ext cx="504720" cy="7207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84328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43280" y="3968640"/>
            <a:ext cx="504720" cy="647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3280" y="3968640"/>
            <a:ext cx="504720" cy="1368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0360" y="2457360"/>
            <a:ext cx="792360" cy="935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0360" y="3247920"/>
            <a:ext cx="647640" cy="36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40360" y="3897360"/>
            <a:ext cx="576360" cy="71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940360" y="4400280"/>
            <a:ext cx="576360" cy="215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940360" y="4905000"/>
            <a:ext cx="719280" cy="431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1268280"/>
            <a:ext cx="8642160" cy="518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203640" y="40464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Investig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24000" y="1484280"/>
          <a:ext cx="8532360" cy="4614840"/>
        </p:xfrm>
        <a:graphic>
          <a:graphicData uri="http://schemas.openxmlformats.org/drawingml/2006/table">
            <a:tbl>
              <a:tblPr/>
              <a:tblGrid>
                <a:gridCol w="1762560"/>
                <a:gridCol w="2219760"/>
                <a:gridCol w="974880"/>
                <a:gridCol w="1136880"/>
                <a:gridCol w="24382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o de clasific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s de investig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vel de investigación u objetivos inter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atoria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formulación de un proble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l planteamiento de hipóte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icati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 compara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 post-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eño de investig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umenta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ográfica (desarrollo de un tema específic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ción de variables independientes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relacional a partir de datos secund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Ca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siva: estudio de caso (LONGITUDI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siva: estudios muestrales y poblacionales (cens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ANSVERS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siexperimen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o pu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8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ósito de la investigación u objetivo exter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a o bás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ient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la solución de problemas práct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igida a una invención o mejora de productos exist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vestigación tecnológ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00000" y="1023840"/>
          <a:ext cx="7772400" cy="6016680"/>
        </p:xfrm>
        <a:graphic>
          <a:graphicData uri="http://schemas.openxmlformats.org/drawingml/2006/table">
            <a:tbl>
              <a:tblPr/>
              <a:tblGrid>
                <a:gridCol w="1960560"/>
                <a:gridCol w="1392120"/>
                <a:gridCol w="1731960"/>
                <a:gridCol w="2687760"/>
              </a:tblGrid>
              <a:tr h="497160">
                <a:tc row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ENTES DE INFORMACIÓN PARA EL TRABAJO INTELECT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plicación a la univers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 y Post grad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iz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EROTECA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vistas y periódic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tó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a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roqu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 dependencias y oficinas: privadas, gubernamentales, internacionales, et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1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 DE DOCUM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clasific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emisora (a otros centr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d de servicio ( requerimientos de estudiosos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S</a:t>
                      </a:r>
                      <a:r>
                        <a:rPr b="1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</a:t>
                      </a: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diversos tip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ENCIA DE CARÁCTER DOC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ted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mi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univers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 todos los roles universit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profes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tua influencia informativa dentro de círculos profesion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o ambiente social gene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junto de vivencias capitalizables como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"/>
          <p:cNvSpPr/>
          <p:nvPr/>
        </p:nvSpPr>
        <p:spPr>
          <a:xfrm>
            <a:off x="324000" y="260280"/>
            <a:ext cx="85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000000"/>
                </a:solidFill>
                <a:latin typeface="Century Gothic"/>
              </a:rPr>
              <a:t>Fuentes utilizables por el estudiante universitari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68360" y="1977840"/>
            <a:ext cx="822960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ob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s caracterís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ut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entury Gothic"/>
              </a:rPr>
              <a:t>Por su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or su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asificación de las fuentes de inform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71640" y="17604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838240" y="1778040"/>
            <a:ext cx="110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m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ecund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ercia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71640" y="262584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822400" y="2652840"/>
            <a:ext cx="95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direc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0" y="3084480"/>
            <a:ext cx="71280" cy="58752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520"/>
              <a:gd name="textAreaBottom" fmla="*/ 572400 h 5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852000" y="3040200"/>
            <a:ext cx="1131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rá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4694040" y="2905560"/>
            <a:ext cx="611640" cy="2196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7560" y="3201840"/>
            <a:ext cx="61668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84440" y="2765520"/>
            <a:ext cx="198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gráficas,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716360" y="3084120"/>
            <a:ext cx="576360" cy="7308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03520" y="2968560"/>
            <a:ext cx="184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conográficas,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97760" y="3184560"/>
            <a:ext cx="18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Fonográficas,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86080" y="3633840"/>
            <a:ext cx="616320" cy="7020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114880" y="3516480"/>
            <a:ext cx="576360" cy="72720"/>
          </a:xfrm>
          <a:prstGeom prst="line">
            <a:avLst/>
          </a:prstGeom>
          <a:ln w="93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717520" y="3400560"/>
            <a:ext cx="220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naturale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730480" y="3616200"/>
            <a:ext cx="2099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Del conocimiento de la soci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70280" y="4005360"/>
            <a:ext cx="71280" cy="587160"/>
          </a:xfrm>
          <a:custGeom>
            <a:avLst/>
            <a:gdLst>
              <a:gd name="textAreaLeft" fmla="*/ 45720 w 71280"/>
              <a:gd name="textAreaRight" fmla="*/ 71640 w 7128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941920" y="4032360"/>
            <a:ext cx="126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Gener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speci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65300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416400" y="4680000"/>
            <a:ext cx="162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lásicas o antigu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ctualiza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372280"/>
            <a:ext cx="71640" cy="587160"/>
          </a:xfrm>
          <a:custGeom>
            <a:avLst/>
            <a:gdLst>
              <a:gd name="textAreaLeft" fmla="*/ 45720 w 71640"/>
              <a:gd name="textAreaRight" fmla="*/ 72000 w 71640"/>
              <a:gd name="textAreaTop" fmla="*/ 15120 h 587160"/>
              <a:gd name="textAreaBottom" fmla="*/ 572040 h 587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30160" y="5327640"/>
            <a:ext cx="106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form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14120" y="5229360"/>
            <a:ext cx="399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Bibliotecas, hemerotecas, archivos, centros de documentación 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nformación, museo y audiencia de carácter docent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734360" y="5762520"/>
            <a:ext cx="316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Medio ambiente universitario, profesional y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60280"/>
            <a:ext cx="8604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étodos de investig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1555920"/>
            <a:ext cx="51134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1268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s el procedimiento riguroso formulado de una  manera lógica que el investigador debe seguir en la adquisición del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422100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análi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identificación de cada una de las partes que caracterizan una realidad.  De esta forma se establece la relación causa-efecto entre los elementos que componen el objeto de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50028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Método de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Bookman Old Style"/>
              </a:rPr>
              <a:t>Proceso de conocimiento que se inicia por la observación de fenómenos de carácter general con el propósito de carácter particular contenidas explícitamente en la situación gener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70828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induc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se inicia por la observación de fenómenos particulares con el propósito de llegar a conclusiones y premisas de carácter general que pueden ser aplicadas a situaciones similares a la observ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198900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obser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por el cual se perciben deliberadamente ciertos rasgos existentes en el objeto de conoci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308720" y="3789360"/>
            <a:ext cx="1582920" cy="98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spectos metodológic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uentes y técnicas de 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/>
          <p:nvPr/>
        </p:nvCxnSpPr>
        <p:spPr>
          <a:xfrm>
            <a:off x="6877080" y="1916280"/>
            <a:ext cx="2160" cy="3798000"/>
          </a:xfrm>
          <a:prstGeom prst="bentConnector3">
            <a:avLst>
              <a:gd name="adj1" fmla="val 13500000"/>
            </a:avLst>
          </a:prstGeom>
          <a:ln w="38160">
            <a:solidFill>
              <a:srgbClr val="000000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3203640" y="1125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1844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263700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335772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407664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93080" y="4581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08000" y="907920"/>
            <a:ext cx="3384720" cy="27648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pectos metodológicos de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5805360"/>
            <a:ext cx="6408720" cy="81252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tros méto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El investigador puede proponer otros métodos como el método comparativo, método dialéctico, método empírico, método experimental, método estadístico,  método histórico, método sistemático, método exegético, método intuitivo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5084640"/>
            <a:ext cx="6408720" cy="66024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étodo de sínt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Proceso de conocimiento que procede de lo simple a lo complejo, de la causa a los efectos, de la parte al todo, de los principios a las consecu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76720" y="5013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5734080"/>
            <a:ext cx="0" cy="214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66960" y="1197000"/>
            <a:ext cx="805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66960" y="2131920"/>
            <a:ext cx="171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817560" y="3998880"/>
            <a:ext cx="23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LAS FI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2408400"/>
            <a:ext cx="987480" cy="3770280"/>
          </a:xfrm>
          <a:custGeom>
            <a:avLst/>
            <a:gdLst>
              <a:gd name="textAreaLeft" fmla="*/ 631080 w 987480"/>
              <a:gd name="textAreaRight" fmla="*/ 987840 w 987480"/>
              <a:gd name="textAreaTop" fmla="*/ 98280 h 3770280"/>
              <a:gd name="textAreaBottom" fmla="*/ 3672000 h 377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0560" y="263052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130560" y="5235480"/>
            <a:ext cx="1339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La ficha de trabajo o 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6760" y="31780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la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49800" y="2131920"/>
            <a:ext cx="447480" cy="2455920"/>
          </a:xfrm>
          <a:custGeom>
            <a:avLst/>
            <a:gdLst>
              <a:gd name="textAreaLeft" fmla="*/ 285840 w 447480"/>
              <a:gd name="textAreaRight" fmla="*/ 447840 w 447480"/>
              <a:gd name="textAreaTop" fmla="*/ 63720 h 2455920"/>
              <a:gd name="textAreaBottom" fmla="*/ 2392200 h 245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97280" y="225576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referencia a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97280" y="4116240"/>
            <a:ext cx="127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 trabajo /conte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0200" y="1695600"/>
            <a:ext cx="106560" cy="2008080"/>
          </a:xfrm>
          <a:custGeom>
            <a:avLst/>
            <a:gdLst>
              <a:gd name="textAreaLeft" fmla="*/ 68040 w 106560"/>
              <a:gd name="textAreaRight" fmla="*/ 106920 w 106560"/>
              <a:gd name="textAreaTop" fmla="*/ 52200 h 2008080"/>
              <a:gd name="textAreaBottom" fmla="*/ 1955880 h 200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249800" y="5000760"/>
            <a:ext cx="353880" cy="1293840"/>
          </a:xfrm>
          <a:custGeom>
            <a:avLst/>
            <a:gdLst>
              <a:gd name="textAreaLeft" fmla="*/ 226080 w 353880"/>
              <a:gd name="textAreaRight" fmla="*/ 354240 w 353880"/>
              <a:gd name="textAreaTop" fmla="*/ 33480 h 1293840"/>
              <a:gd name="textAreaBottom" fmla="*/ 1260360 h 129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340320" y="1571760"/>
            <a:ext cx="2659320" cy="18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bibl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hemer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arch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Audi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Vide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Iconográf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testimonio oral y escri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Fichas de observación científ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0200" y="3822840"/>
            <a:ext cx="139680" cy="1001520"/>
          </a:xfrm>
          <a:custGeom>
            <a:avLst/>
            <a:gdLst>
              <a:gd name="textAreaLeft" fmla="*/ 89280 w 139680"/>
              <a:gd name="textAreaRight" fmla="*/ 140040 w 139680"/>
              <a:gd name="textAreaTop" fmla="*/ 25920 h 1001520"/>
              <a:gd name="textAreaBottom" fmla="*/ 975600 h 100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291360" y="3822840"/>
            <a:ext cx="3033720" cy="10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Text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um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ña o infor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De resen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Mixta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3680" y="3705120"/>
            <a:ext cx="69840" cy="471600"/>
          </a:xfrm>
          <a:custGeom>
            <a:avLst/>
            <a:gdLst>
              <a:gd name="textAreaLeft" fmla="*/ 44640 w 69840"/>
              <a:gd name="textAreaRight" fmla="*/ 69840 w 69840"/>
              <a:gd name="textAreaTop" fmla="*/ 12240 h 471600"/>
              <a:gd name="textAreaBottom" fmla="*/ 459360 h 4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85160" y="3762360"/>
            <a:ext cx="13399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Contínua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Discontínuas</a:t>
            </a: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48240" y="505944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aracterístic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548240" y="5559480"/>
            <a:ext cx="133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teg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743440" y="5435640"/>
            <a:ext cx="223920" cy="1122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29160 h 1122480"/>
              <a:gd name="textAreaBottom" fmla="*/ 1093320 h 112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41880" y="5373720"/>
            <a:ext cx="2610000" cy="11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Encabezado; tema y sub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dentificación de la fuente de local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ido en una o varias céd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3940200"/>
            <a:ext cx="5968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33360"/>
            <a:ext cx="8964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4" name=""/>
          <p:cNvGrpSpPr/>
          <p:nvPr/>
        </p:nvGrpSpPr>
        <p:grpSpPr>
          <a:xfrm>
            <a:off x="450720" y="233280"/>
            <a:ext cx="9522000" cy="5587920"/>
            <a:chOff x="450720" y="233280"/>
            <a:chExt cx="9522000" cy="5587920"/>
          </a:xfrm>
        </p:grpSpPr>
        <p:sp>
          <p:nvSpPr>
            <p:cNvPr id="275" name=""/>
            <p:cNvSpPr/>
            <p:nvPr/>
          </p:nvSpPr>
          <p:spPr>
            <a:xfrm>
              <a:off x="907920" y="1071720"/>
              <a:ext cx="44704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0720" y="3425760"/>
              <a:ext cx="3500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entury Gothic"/>
                </a:rPr>
                <a:t>LAS CITAS EN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22400" y="1697040"/>
              <a:ext cx="831960" cy="4103640"/>
            </a:xfrm>
            <a:custGeom>
              <a:avLst/>
              <a:gdLst>
                <a:gd name="textAreaLeft" fmla="*/ 531720 w 831960"/>
                <a:gd name="textAreaRight" fmla="*/ 832320 w 831960"/>
                <a:gd name="textAreaTop" fmla="*/ 106920 h 4103640"/>
                <a:gd name="textAreaBottom" fmla="*/ 3996720 h 410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84520" y="2201760"/>
              <a:ext cx="175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oncep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179600" y="4505400"/>
              <a:ext cx="175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entury Gothic"/>
                </a:rPr>
                <a:t>Clases de 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27520" y="3857760"/>
              <a:ext cx="461880" cy="1942920"/>
            </a:xfrm>
            <a:custGeom>
              <a:avLst/>
              <a:gdLst>
                <a:gd name="textAreaLeft" fmla="*/ 295200 w 461880"/>
                <a:gd name="textAreaRight" fmla="*/ 462240 w 461880"/>
                <a:gd name="textAreaTop" fmla="*/ 50400 h 1942920"/>
                <a:gd name="textAreaBottom" fmla="*/ 1892520 h 194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84720" y="4002120"/>
              <a:ext cx="388800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Textu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um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ñ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De resención o comenta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entury Gothic"/>
                </a:rPr>
                <a:t>Mixt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136520" y="233280"/>
              <a:ext cx="84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Principales instrumentos de la investig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684360" y="306360"/>
            <a:ext cx="8245440" cy="159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04920" y="37782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EL USO DE LAS NO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1644480"/>
            <a:ext cx="576000" cy="4789800"/>
          </a:xfrm>
          <a:custGeom>
            <a:avLst/>
            <a:gdLst>
              <a:gd name="textAreaLeft" fmla="*/ 367920 w 576000"/>
              <a:gd name="textAreaRight" fmla="*/ 576000 w 576000"/>
              <a:gd name="textAreaTop" fmla="*/ 124920 h 4789800"/>
              <a:gd name="textAreaBottom" fmla="*/ 4664880 h 478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1689120"/>
            <a:ext cx="230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90920" y="2711520"/>
            <a:ext cx="26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lasific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66880" y="49212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 y característ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91120" y="2254320"/>
            <a:ext cx="152280" cy="121896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267080" y="2406600"/>
            <a:ext cx="32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referencia a  fu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otas de ampliación de tex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91120" y="3701880"/>
            <a:ext cx="228600" cy="2732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920 h 2732400"/>
              <a:gd name="textAreaBottom" fmla="*/ 2661480 h 2732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95680" y="3701880"/>
            <a:ext cx="198144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sobre su co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dalidades en cuanto a la anotación de la fu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013520" y="3235320"/>
            <a:ext cx="73080" cy="1152360"/>
          </a:xfrm>
          <a:custGeom>
            <a:avLst/>
            <a:gdLst>
              <a:gd name="textAreaLeft" fmla="*/ 46800 w 73080"/>
              <a:gd name="textAreaRight" fmla="*/ 73440 w 730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553080" y="4921200"/>
            <a:ext cx="92160" cy="1655640"/>
          </a:xfrm>
          <a:custGeom>
            <a:avLst/>
            <a:gdLst>
              <a:gd name="textAreaLeft" fmla="*/ 59040 w 92160"/>
              <a:gd name="textAreaRight" fmla="*/ 92520 w 921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162920" y="3216240"/>
            <a:ext cx="1981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 pie de pag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l capít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al final de la ob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858000" y="5016600"/>
            <a:ext cx="22860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contínu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d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rec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Notas de referencia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ruz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6360"/>
            <a:ext cx="8928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Principales instrumentos de la investigación docu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260280"/>
            <a:ext cx="88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uadro resumen principales técnicas de investigación empírica o de ca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84360" y="1538280"/>
          <a:ext cx="8135640" cy="5203800"/>
        </p:xfrm>
        <a:graphic>
          <a:graphicData uri="http://schemas.openxmlformats.org/drawingml/2006/table">
            <a:tbl>
              <a:tblPr/>
              <a:tblGrid>
                <a:gridCol w="3747960"/>
                <a:gridCol w="4387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ales técnicas de investig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La técnica de observación científ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La observación no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La técnica de observación estructur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observación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 de observación no particip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 de observación experimen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59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Las técnicas generales de testimonio oral y escri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Técnica de encue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Técnica de muestreo y elaboración de cuestionar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) Técnica de entrevis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) Técnicas estad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) Técnicas de estudios de ca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Técnicas jurídicas de captura y sistematización de inform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) Técnicas de captura, sistematización  permanente de información (sistemática jurídic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Técnica de captura  y sistematización  ocasional de 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Técnicas  jurídicas de análisis. Presentación y divulgación de informaciones (Informática jurídic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asificación y mod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l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mentos y manejo de fichas, citas y no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>
            <a:grayscl/>
          </a:blip>
          <a:srcRect l="0" t="0" r="4610" b="0"/>
          <a:stretch/>
        </p:blipFill>
        <p:spPr>
          <a:xfrm>
            <a:off x="43354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98560" y="436572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373720"/>
            <a:ext cx="7164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597720"/>
            <a:ext cx="914400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56000" y="6302520"/>
            <a:ext cx="47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Profesor : Gabriel Alvarez Undurra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>
            <a:grayscl/>
            <a:lum bright="24000"/>
          </a:blip>
          <a:stretch/>
        </p:blipFill>
        <p:spPr>
          <a:xfrm>
            <a:off x="3708360" y="852480"/>
            <a:ext cx="5437080" cy="468792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>
            <a:grayscl/>
            <a:lum bright="24000"/>
          </a:blip>
          <a:stretch/>
        </p:blipFill>
        <p:spPr>
          <a:xfrm>
            <a:off x="3348000" y="692280"/>
            <a:ext cx="4438800" cy="489564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2347920"/>
            <a:ext cx="698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entury Gothic"/>
              </a:rPr>
              <a:t>La Investigación Jurídic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29080" y="5732640"/>
            <a:ext cx="55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89000"/>
            <a:ext cx="6084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iclo metodológico del Der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5280120"/>
            <a:ext cx="17287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áted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Semi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nvestigación monográf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711760" y="5280120"/>
            <a:ext cx="10191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492800" y="5280120"/>
            <a:ext cx="121896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87280" y="5280120"/>
            <a:ext cx="330552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V. Enseñanz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Didáctica del Dere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251240"/>
            <a:ext cx="17287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ilóso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mpa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istór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11760" y="4251240"/>
            <a:ext cx="10191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rít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492800" y="4251240"/>
            <a:ext cx="121896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ris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251240"/>
            <a:ext cx="330552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III. Conocimientos del Dere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ocimiento jurídico- Especulativo del Derech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(Filósofo-historiad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0920" y="3435480"/>
            <a:ext cx="17287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Hermenéu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alóg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rincipi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711760" y="3435480"/>
            <a:ext cx="10191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Positiv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92800" y="3435480"/>
            <a:ext cx="121896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Jue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435480"/>
            <a:ext cx="330552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I. Aplic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 Ejecutiv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30920" y="2619360"/>
            <a:ext cx="17287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F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Natur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Consuetudin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1760" y="2619360"/>
            <a:ext cx="1019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92800" y="2619360"/>
            <a:ext cx="12189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El Legislad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87280" y="2619360"/>
            <a:ext cx="33055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/>
          </a:bodyPr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I. Formación del Derech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(Genética del Derec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711760" y="1628640"/>
            <a:ext cx="274788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Asp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2800" y="1628640"/>
            <a:ext cx="121896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ujetos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(artífic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7280" y="1628640"/>
            <a:ext cx="3305520" cy="8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Mo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87280" y="162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87280" y="261936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87280" y="343548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187280" y="425124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87280" y="5280120"/>
            <a:ext cx="727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87280" y="6308640"/>
            <a:ext cx="727236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18728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49280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711760" y="1628640"/>
            <a:ext cx="0" cy="450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459640" y="1628640"/>
            <a:ext cx="0" cy="45021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730920" y="2619360"/>
            <a:ext cx="0" cy="36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755640" y="1413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0680"/>
                <a:gridCol w="266400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referentes a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elaboradas por un intermediario o agente y par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estadas sin la intervención de un intermediario que persiga fines científicos en orden a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juríd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estricto: obras  de tratadistas, comentaristas, sintetizadores, etc., privad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jurídic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stumbres jurídic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gislación </a:t>
                      </a:r>
                      <a:r>
                        <a:rPr b="1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en sentido genérico: códigos, leyes, decretos-leyes, decretos con fuerza de ley, ordenanzas, reglamentos, decretos, etc., dictados en ejercicio de la Potestad Legislativa o Reglamentaria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consuetudina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 judiciales </a:t>
                      </a:r>
                      <a:r>
                        <a:rPr b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generales: auto-acordados; especiales: sentencias, autos y decreto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juríd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 y aforismos, locuciones clásicas de contenid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ormularios; registros , fórmulas, asientos, fichas, minutas de contenido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de actas o contratos o de testimonio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blecimientos, locales, aparatos, muebles y demás implementos, para la realización de sesiones, actos, reuniones, etc. o para impartir sanciones o premios de tipo juríd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tributos, emblemas, distintivos, etc. de instituciones o personas para fines juríd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monedas, sellos, etc. De esa índole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37" name=""/>
          <p:cNvSpPr/>
          <p:nvPr/>
        </p:nvSpPr>
        <p:spPr>
          <a:xfrm>
            <a:off x="755640" y="3357720"/>
            <a:ext cx="7488360" cy="30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7164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63528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300720" y="3357720"/>
            <a:ext cx="0" cy="302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826920" y="1197000"/>
          <a:ext cx="7488360" cy="4922640"/>
        </p:xfrm>
        <a:graphic>
          <a:graphicData uri="http://schemas.openxmlformats.org/drawingml/2006/table">
            <a:tbl>
              <a:tblPr/>
              <a:tblGrid>
                <a:gridCol w="2028960"/>
                <a:gridCol w="851040"/>
                <a:gridCol w="2663640"/>
                <a:gridCol w="1944720"/>
              </a:tblGrid>
              <a:tr h="6476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 INDIRECTA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no referentes específica, pero si conexamente las formas y a la vida del Derech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84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) MEDIATA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producidas por un intermediario  para fines científicos y, aún, artísticos, no-jurídicos en sí, pero con proyección juríd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) INMEDIA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n noticia accidental o secundaria de lo jurídico o de  lo científico o social con proyección jurídica, sin la intervención finalista de un agen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98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teratura sobre Ciencias Políticas, Ciencias Naturales, Sociología, Psicología, Ecología, Filosofía, Historia, Moral, Religión, Economía, Higiene, Previsión, etc., literatura social en una palab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pilación , repertorios, antologías, etc. De fuentes normativas no juríd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ducta humana de tipo pre, proto, anti y meta-juríd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9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éticas, higiénicas , económicas, técnicas, religiosas, social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sus testimoni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soluciones, instrucciones, órdenes, etc.,de carácter administr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rminología política, administrativa, económico-técnico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franes, aforismos, locuciones, etc, </a:t>
                      </a:r>
                      <a:r>
                        <a:rPr b="0" i="1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(de contenido socia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ponim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iezas orales, escritas, grabadas, fotografías, etc de creaciones intelectuales de autoridades o particulares de contenido pre, proto, anti y meta juríd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os individualizados en I, B, b” pero de contenido pre, proto, anti o meta jurídico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numentos históricos , obras artísticas, restos etno-arqueológic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tros objetos representativos de la Vida Social, la Cultura y  la Civilización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0" y="189000"/>
            <a:ext cx="630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uentes del conocimiento juríd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26920" y="3141720"/>
            <a:ext cx="7490160" cy="295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84328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72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3141720"/>
            <a:ext cx="0" cy="295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24000" y="189000"/>
            <a:ext cx="8569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relación  (Interrogantes, Objetivos, Hipótesis y Títulos de Investig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137360" y="3809880"/>
            <a:ext cx="181440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neda única Latinoamerican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mpacto sobre la estabilidad económica y social de los países de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396040" y="3809880"/>
            <a:ext cx="17413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creación de una moneda única para los países latinoamericanos afectará a la estabilidad y desarrollo de los mismos en el orden económico y soc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475080" y="3809880"/>
            <a:ext cx="192096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alizar el impacto económico y social que se pudiese generar sobre la estabilidad y desarrollo de los países latinoamericanos como consecuencia de la creación de una moneda única para esa reg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692360" y="3809880"/>
            <a:ext cx="1782720" cy="264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Qué impacto económico y social tendrá la creación de una moneda única latinoamericana sobre la estabilidad y desarrollo económico de los países de esa regió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137360" y="1805040"/>
            <a:ext cx="181440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sponsabilidad en la acción procesal civil en Ch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396040" y="1805040"/>
            <a:ext cx="17413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 ejercicio de la acción procesal civil  por parte del Juez es condición necesaria para el cumplimiento de la obligación pública de proveer y dictar sent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475080" y="1805040"/>
            <a:ext cx="192096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ar la condición necesaria para que el Juez cumpla con la obligación pública de proveer y dictar sentenc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1805040"/>
            <a:ext cx="1782720" cy="20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¿Cuál  es la condición necesaria para que el Juez cumpla la obligación pública de proveer y dictar sentencia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137360" y="1305000"/>
            <a:ext cx="181440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IT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396040" y="1305000"/>
            <a:ext cx="17413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HIPO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75080" y="1305000"/>
            <a:ext cx="192096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BJE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692360" y="1305000"/>
            <a:ext cx="1782720" cy="50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RROG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92360" y="130500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692360" y="180504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92360" y="3809880"/>
            <a:ext cx="725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92360" y="6453360"/>
            <a:ext cx="72594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7508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39604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137360" y="1305000"/>
            <a:ext cx="0" cy="514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8951760" y="1305000"/>
            <a:ext cx="0" cy="51483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0" y="3078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539640" y="1773360"/>
          <a:ext cx="8064720" cy="4117680"/>
        </p:xfrm>
        <a:graphic>
          <a:graphicData uri="http://schemas.openxmlformats.org/drawingml/2006/table">
            <a:tbl>
              <a:tblPr/>
              <a:tblGrid>
                <a:gridCol w="1881360"/>
                <a:gridCol w="2112840"/>
                <a:gridCol w="1919520"/>
                <a:gridCol w="2151000"/>
              </a:tblGrid>
              <a:tr h="44928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0"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¿Cuál es el nivel de eficacia del Plan de prevención y erradicación del trabajo infantil y adolescente en Chi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alizar el nivel de eficacia del Plan de prevención y erradicación del trabajo infantil y adolescente en Ch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 Plan de prevención y erradicación del trabajo infantil y adolescente en Chile es ineficaz, puesto que aún se mantienen altos índices de és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lan de prevención y erradicación del trabajo infantil y adolescente en Chile. Aplicación y eficacia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71" name=""/>
          <p:cNvSpPr/>
          <p:nvPr/>
        </p:nvSpPr>
        <p:spPr>
          <a:xfrm>
            <a:off x="0" y="479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189000"/>
            <a:ext cx="8028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triz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5219640" y="4508640"/>
            <a:ext cx="2016360" cy="17380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0" y="22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470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755640" y="1316160"/>
          <a:ext cx="7843680" cy="5281560"/>
        </p:xfrm>
        <a:graphic>
          <a:graphicData uri="http://schemas.openxmlformats.org/drawingml/2006/table">
            <a:tbl>
              <a:tblPr/>
              <a:tblGrid>
                <a:gridCol w="2413080"/>
                <a:gridCol w="2712960"/>
                <a:gridCol w="27176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eni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¿Cuál es la política social estatal en materia de erradicación del trabajo infantil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1.- Describir cuál es la política social estatal en materia de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: Política social estatal y erradicación del trabajo infantil en Ch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¿Cómo se ha aplicado el Plan de prevención y erradicación del trabajo infantil y adolescente en Chile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2.- Analizar la forma en que se ha aplicado esta política en Chile (criterio orgánico y funcional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: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5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¿Cuáles han sido los resultados de esta aplicación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3.- Precisar cuáles han sido los resultados de esta aplicació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apítulo III: Resultados de la aplicación del Plan de prevención y erradicación del trabajo infantil y adolescente en Ch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70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los principales elementos del proy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539640" y="1413000"/>
          <a:ext cx="8229600" cy="4886280"/>
        </p:xfrm>
        <a:graphic>
          <a:graphicData uri="http://schemas.openxmlformats.org/drawingml/2006/table">
            <a:tbl>
              <a:tblPr/>
              <a:tblGrid>
                <a:gridCol w="2170080"/>
                <a:gridCol w="194472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terroga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bjetivo Gene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ítu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243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¿Cuál es el nivel de influencia del dumping social en el régimen jurídico del trabajo infantil en Chile y Venezuela; qué políticas y programas sociales han establecido ambos paíse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alizar la influencia de dumping social en la situación sociojurídica y en la formulación de políticas y programas sociales del trabajo infantil en Chile y Venezu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 , que regula el mercado internacional, determina las normas jurídicas, las políticas y programas sociales en el tratamiento del trabajo infant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Trabajo Infantil en Chile y Venezuela, su problemática Sociojurídica y su relación con el Dumping”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07552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que establece la relación entre  preguntas secundarias y objetivos especí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395280" y="1341360"/>
          <a:ext cx="8497800" cy="5424480"/>
        </p:xfrm>
        <a:graphic>
          <a:graphicData uri="http://schemas.openxmlformats.org/drawingml/2006/table">
            <a:tbl>
              <a:tblPr/>
              <a:tblGrid>
                <a:gridCol w="4321080"/>
                <a:gridCol w="4176720"/>
              </a:tblGrid>
              <a:tr h="393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específic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30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antecedentes históricos  tiene el trabajo infantil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 son los enfoques teóricos contrapuestos respecto del problem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enfoque metodológico de la investigación sociojurídic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Qué tipos de trabajo infantil se dan en ambos países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En qué consiste el dumping social en el trabajo infantil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 es el régimen jurídico del trabajo de menores en Chile y Venezuela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¿Cuáles son las propuestas de políticas y programas sociales en la materia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ntecedentes históricos del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r los enfoques teóricos existen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ir la metodología de la investigación sociojuríd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rminar los tipos de trabajo infantil en Chile y Venezue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dentificar los aspectos característicos del dumping social en est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izar comparativamente el régimen jurídico del trabajo infantil en ambos país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lecer las políticas y programas sociales de ambos países en la materi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075520" cy="436680"/>
          </a:xfrm>
          <a:prstGeom prst="rect">
            <a:avLst/>
          </a:prstGeom>
          <a:solidFill>
            <a:srgbClr val="ffffff"/>
          </a:solidFill>
          <a:ln w="9360">
            <a:solidFill>
              <a:srgbClr val="ddddd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Matriz de operacionalización de la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446040" y="1628640"/>
          <a:ext cx="8373960" cy="4660920"/>
        </p:xfrm>
        <a:graphic>
          <a:graphicData uri="http://schemas.openxmlformats.org/drawingml/2006/table">
            <a:tbl>
              <a:tblPr/>
              <a:tblGrid>
                <a:gridCol w="2016000"/>
                <a:gridCol w="2376360"/>
                <a:gridCol w="2232000"/>
                <a:gridCol w="1749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Hipót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ariab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dic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 dumping social, como fenómeno propio de la globalización y del modelo económico exógeno a Chile y Venezuela, que regula el mercado internacional, determina las normas jurídicas, las políticas y programas sociales en el tratamiento del trabajo infant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in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umping soc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 sobre trabajo infantil en Chile y Venezuela (discriminando sus distintos tip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bores productivas que genera el trabajo infant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aracterísticas del modelo económico en Chile y Venezuel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ores nacionales e internacionales, sus posicion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 internacionales (Declaración universal de los derechos humanos, convención internacional de los derechos del niño, Declaración de los derechos del Niño, Pacto internacional de derechos Civiles y políticos, Pacto internacional de derechos económicos sociales y culturales, Pacto de San José de Costa Rica, Convenio 138 y 182 de la OIT) y nacionales de ambos países (Constitución, Leyes de menores y de familia, Legislación laboral,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x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nvestig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uentes formales y mate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c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entury Gothic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ntrevistas, etc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1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entury Gothic"/>
                        </a:rPr>
                        <a:t>V. Dependient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66760" indent="-2667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rmas jurídicas, políticas y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gram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soci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43280" y="260280"/>
            <a:ext cx="630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ipos de Conoc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511164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IENTÍF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213000"/>
            <a:ext cx="5184720" cy="5814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ÍTICO-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5111640" cy="106884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E-CIENTÍFICO O SENSO-PERCEP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56360" y="1776240"/>
            <a:ext cx="24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GENÉ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STE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4397400"/>
            <a:ext cx="298764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ESTÉ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OG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DE SENTIDO COMÚ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ITOLÓ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364000" y="4613040"/>
            <a:ext cx="792360" cy="360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4000" y="4973760"/>
            <a:ext cx="863640" cy="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64000" y="4973760"/>
            <a:ext cx="792360" cy="50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4973760"/>
            <a:ext cx="792360" cy="936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219640" y="2131920"/>
            <a:ext cx="936720" cy="1447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276640"/>
            <a:ext cx="936720" cy="14436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404640"/>
            <a:ext cx="5761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42920" y="1628640"/>
          <a:ext cx="7705800" cy="4680000"/>
        </p:xfrm>
        <a:graphic>
          <a:graphicData uri="http://schemas.openxmlformats.org/drawingml/2006/table">
            <a:tbl>
              <a:tblPr/>
              <a:tblGrid>
                <a:gridCol w="25218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  <a:gridCol w="216000"/>
              </a:tblGrid>
              <a:tr h="41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ctivi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RZ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BR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 bibliográf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l marco teór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laboración de los instrumen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ueba de los instru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olección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amiento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álisis de los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da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visión y corrección del borr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del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50920" y="1844640"/>
            <a:ext cx="15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6360" y="25092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ructura de una tesis (monografí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4000" y="2176560"/>
            <a:ext cx="1296720" cy="27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TÍTUL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AGRADECIMIENTO-RECONOCIMIE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PRÓLOGO (resumen del contenido de la tesi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SIGLAS ESPECIALES (si fuera necesario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ÍNDICE GENE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836720" y="2176560"/>
            <a:ext cx="165564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I. INTRODU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-(síntesis del proceso de la investigación)-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lanteamiento del problema: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límites, valoración, (importancia). ¿Qué?  ¿Por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Proceso a seguir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 ¿Cómo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Objetivo</a:t>
            </a: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.¿Para qué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013440" y="2176560"/>
            <a:ext cx="165564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III.</a:t>
            </a:r>
            <a:r>
              <a:rPr b="1" lang="en-US" sz="1000" spc="-1" strike="noStrike">
                <a:solidFill>
                  <a:srgbClr val="000000"/>
                </a:solidFill>
                <a:latin typeface="Century Gothic"/>
              </a:rPr>
              <a:t> CONCLUSIÓN: OBJETIVO DE LA INVESTIGACIÓN: </a:t>
            </a:r>
            <a:r>
              <a:rPr b="1" lang="en-US" sz="900" spc="-1" strike="noStrike">
                <a:solidFill>
                  <a:srgbClr val="000000"/>
                </a:solidFill>
                <a:latin typeface="Century Gothic"/>
              </a:rPr>
              <a:t>Formalización de la te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Resultado de la investigación: Solución del probl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Confirmación de la tesis: Objetivo logr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Implicaciones de la investig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92360" y="2176560"/>
            <a:ext cx="2449800" cy="37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II. CUERPO DE LA T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SITUACIÓN DE LA INVESTIGA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-Status Quaestionis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Justificación del problema: 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ntecedentes del mis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Revisión bibliográfica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situación actual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Ubicación del proble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UNDAMENTOS DE LA INVESTIGACIÓN (PROBLEM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FORMULACIÓN DE LA HIPÓTESI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variables, Sistema de hipótesis, tesi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INTERPRETACIÓN DE LOS DATOS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elaboración del diseño para la demostración . Análisis de los datos, documento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000000"/>
                </a:solidFill>
                <a:latin typeface="Arial"/>
              </a:rPr>
              <a:t>CONTRASTACIÓN-CONFIRMACIÓN:</a:t>
            </a: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 crítica hermenéutic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669080" y="2176560"/>
            <a:ext cx="1081080" cy="39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Century Gothic"/>
              </a:rPr>
              <a:t>POSTSCRIPTUM-EPILOGO-EXCUR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NOTAS BIBLIOGRÁFICAS-notas “ad calcem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BIBLIOGRAFÍA: General, (fundamental, especial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APÉNDICES,INDICES: de materias, onomástico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Century Gothic"/>
              </a:rPr>
              <a:t>TABLAS. GRÁFICAS. ANEX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96720" y="2104920"/>
            <a:ext cx="122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413080" y="6208560"/>
            <a:ext cx="46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XTO DE LA TESIS – ESTRUCTURA – ESQUEMA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96720" y="1816200"/>
            <a:ext cx="8425080" cy="4321080"/>
            <a:chOff x="396720" y="1816200"/>
            <a:chExt cx="8425080" cy="4321080"/>
          </a:xfrm>
        </p:grpSpPr>
        <p:sp>
          <p:nvSpPr>
            <p:cNvPr id="395" name=""/>
            <p:cNvSpPr/>
            <p:nvPr/>
          </p:nvSpPr>
          <p:spPr>
            <a:xfrm>
              <a:off x="162072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20720" y="6137280"/>
              <a:ext cx="59770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7597800" y="2105280"/>
              <a:ext cx="0" cy="4032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597800" y="2105280"/>
              <a:ext cx="1224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72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821800" y="2105280"/>
              <a:ext cx="0" cy="2447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3421080" y="1816200"/>
              <a:ext cx="0" cy="19447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421080" y="181620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869080" y="1816200"/>
              <a:ext cx="0" cy="187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421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421080" y="5921640"/>
              <a:ext cx="2448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69080" y="4410360"/>
              <a:ext cx="0" cy="1511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421080" y="1603440"/>
            <a:ext cx="252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ARROLLO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524720" y="1816200"/>
            <a:ext cx="13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042920" y="4294080"/>
            <a:ext cx="7848720" cy="24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42920" y="1414440"/>
            <a:ext cx="7848720" cy="1511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042920" y="2925720"/>
            <a:ext cx="7848720" cy="13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1414440"/>
            <a:ext cx="5040360" cy="5327640"/>
          </a:xfrm>
          <a:prstGeom prst="rect">
            <a:avLst/>
          </a:prstGeom>
          <a:solidFill>
            <a:srgbClr val="ffffff">
              <a:alpha val="3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867280" y="2924280"/>
            <a:ext cx="3024360" cy="1369800"/>
          </a:xfrm>
          <a:prstGeom prst="rect">
            <a:avLst/>
          </a:prstGeom>
          <a:solidFill>
            <a:srgbClr val="ffffff">
              <a:alpha val="3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971640" y="1701720"/>
            <a:ext cx="301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LEMENTOS INTRODUCTO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73680" y="1473120"/>
            <a:ext cx="319068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DEDICA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RÓLO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GRADE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NT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971640" y="3255840"/>
            <a:ext cx="324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CUERP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519440" y="3035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19440" y="349236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19440" y="387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ART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12120" y="2957400"/>
            <a:ext cx="1523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SECCIÓN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5580000" y="2925720"/>
            <a:ext cx="1726560" cy="457200"/>
            <a:chOff x="5580000" y="2925720"/>
            <a:chExt cx="1726560" cy="457200"/>
          </a:xfrm>
        </p:grpSpPr>
        <p:sp>
          <p:nvSpPr>
            <p:cNvPr id="422" name=""/>
            <p:cNvSpPr/>
            <p:nvPr/>
          </p:nvSpPr>
          <p:spPr>
            <a:xfrm>
              <a:off x="5580000" y="292572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84560" y="303984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5580000" y="3359160"/>
            <a:ext cx="1726560" cy="457200"/>
            <a:chOff x="5580000" y="3359160"/>
            <a:chExt cx="1726560" cy="457200"/>
          </a:xfrm>
        </p:grpSpPr>
        <p:sp>
          <p:nvSpPr>
            <p:cNvPr id="425" name=""/>
            <p:cNvSpPr/>
            <p:nvPr/>
          </p:nvSpPr>
          <p:spPr>
            <a:xfrm>
              <a:off x="5580000" y="335916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84560" y="347328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5580000" y="3790800"/>
            <a:ext cx="1726560" cy="457200"/>
            <a:chOff x="5580000" y="3790800"/>
            <a:chExt cx="1726560" cy="457200"/>
          </a:xfrm>
        </p:grpSpPr>
        <p:sp>
          <p:nvSpPr>
            <p:cNvPr id="428" name=""/>
            <p:cNvSpPr/>
            <p:nvPr/>
          </p:nvSpPr>
          <p:spPr>
            <a:xfrm>
              <a:off x="5580000" y="3790800"/>
              <a:ext cx="101160" cy="457200"/>
            </a:xfrm>
            <a:custGeom>
              <a:avLst/>
              <a:gdLst>
                <a:gd name="textAreaLeft" fmla="*/ 64800 w 101160"/>
                <a:gd name="textAreaRight" fmla="*/ 101520 w 101160"/>
                <a:gd name="textAreaTop" fmla="*/ 11880 h 457200"/>
                <a:gd name="textAreaBottom" fmla="*/ 4453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84560" y="3904920"/>
              <a:ext cx="14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Century Gothic"/>
                </a:rPr>
                <a:t>CAPÍTUL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1332000" y="501480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F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16000" y="260280"/>
            <a:ext cx="660384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entury Gothic"/>
              </a:rPr>
              <a:t>Elementos constitutivos de los trabajos cient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282920" y="299880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2920" y="3430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82920" y="3862440"/>
            <a:ext cx="2953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7236000" y="29984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924360" y="4438800"/>
            <a:ext cx="3743280" cy="19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CLU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OMENDA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PÉ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EX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DE  NOMBRES, DE CUADROS, ETC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 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1476360" y="49068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QUEMA BÁSICO DE UN INFORME  DE INVESTIGACIÓ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09600" y="2400480"/>
            <a:ext cx="8750160" cy="3408120"/>
            <a:chOff x="309600" y="2400480"/>
            <a:chExt cx="8750160" cy="3408120"/>
          </a:xfrm>
        </p:grpSpPr>
        <p:sp>
          <p:nvSpPr>
            <p:cNvPr id="439" name=""/>
            <p:cNvSpPr/>
            <p:nvPr/>
          </p:nvSpPr>
          <p:spPr>
            <a:xfrm>
              <a:off x="4024440" y="361152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99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429000" y="5364000"/>
              <a:ext cx="7938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05320" y="3840120"/>
              <a:ext cx="79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5080" y="268776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000" y="240048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NTRODUC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9600" y="3611520"/>
              <a:ext cx="33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DESARROL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95280" y="5135400"/>
              <a:ext cx="336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CONCLU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343400" y="2400480"/>
              <a:ext cx="47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esentación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19720" y="34592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nálisis de la inform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19720" y="391644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imes New Roman"/>
                </a:rPr>
                <a:t>Los capítulos y subcapítu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720" y="4983120"/>
              <a:ext cx="4176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xposición de resultados y logros de la investig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9000" y="3916440"/>
              <a:ext cx="792000" cy="0"/>
            </a:xfrm>
            <a:prstGeom prst="line">
              <a:avLst/>
            </a:prstGeom>
            <a:ln w="93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68360" y="333360"/>
            <a:ext cx="8280360" cy="1366920"/>
          </a:xfrm>
          <a:prstGeom prst="rect">
            <a:avLst/>
          </a:prstGeom>
          <a:noFill/>
          <a:ln w="572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1042560" y="1699920"/>
            <a:ext cx="720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RODUCCIÓN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merar en el margen SUPERIOR de cada página y al centro con números ÁRAB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: 1, 2, 3,4,5, 6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69800" y="304920"/>
            <a:ext cx="8350200" cy="89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76000" y="1600200"/>
            <a:ext cx="6753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ÍTU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numera de acuerdo al orden de los capítulos  (ej: Capítulo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780000" y="4005360"/>
            <a:ext cx="5256000" cy="2852640"/>
            <a:chOff x="3780000" y="4005360"/>
            <a:chExt cx="5256000" cy="2852640"/>
          </a:xfrm>
        </p:grpSpPr>
        <p:sp>
          <p:nvSpPr>
            <p:cNvPr id="458" name=""/>
            <p:cNvSpPr/>
            <p:nvPr/>
          </p:nvSpPr>
          <p:spPr>
            <a:xfrm>
              <a:off x="3780000" y="4049640"/>
              <a:ext cx="208908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21416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0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742520" y="4149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804000" y="4049640"/>
              <a:ext cx="2232000" cy="2808360"/>
            </a:xfrm>
            <a:prstGeom prst="foldedCorner">
              <a:avLst>
                <a:gd name="adj" fmla="val 125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1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2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3.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1.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2.4. 2.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8520" y="4292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Capítulo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742880" y="4005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53440" y="450864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950880" y="4581360"/>
              <a:ext cx="204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0000"/>
                  </a:solidFill>
                  <a:latin typeface="Arial"/>
                </a:rPr>
                <a:t>Título del capítulo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/>
          </p:nvPr>
        </p:nvSpPr>
        <p:spPr>
          <a:xfrm>
            <a:off x="14032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ES  ( NO ES CAPÍTU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numera de acuerdo al orden de las  conclus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30040" y="40464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5292720" y="1916280"/>
            <a:ext cx="3456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70480" y="1916280"/>
            <a:ext cx="3881520" cy="45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La hoja de 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Los márge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ex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Tab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Figu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Notas de pie de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itas texto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Pag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19280" y="1916280"/>
            <a:ext cx="324000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057400" y="620640"/>
            <a:ext cx="676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nvestigación en sentido 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1987560"/>
            <a:ext cx="2863800" cy="347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Organización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elimin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uerpo de trabaj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aterial complementario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692360" y="2924280"/>
            <a:ext cx="705636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26560" y="155700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1. Presentación general del trabaj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Formato ge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scritur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Encuadernamiento o anill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2. Introduc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Planteamiento y formulación d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Justif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Hipótesis y/o pregunta direc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-Metod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/>
          </p:nvPr>
        </p:nvSpPr>
        <p:spPr>
          <a:xfrm>
            <a:off x="806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Cuerpo o desarrol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rden y equilibrio de cada parte o capít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resentación de las ideas principales y secunda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herencia y logic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Pertinencia de la información recolect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nálisis e interpretación de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ortes pers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76720" y="2565360"/>
            <a:ext cx="5616360" cy="41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4149720"/>
            <a:ext cx="2592360" cy="719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00720" y="3429000"/>
            <a:ext cx="259236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00720" y="2637000"/>
            <a:ext cx="259236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2565360"/>
            <a:ext cx="2592360" cy="41036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76720" y="1125360"/>
            <a:ext cx="5616360" cy="13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1125360"/>
            <a:ext cx="2592360" cy="136692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26920" y="1341360"/>
            <a:ext cx="221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concreto-s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4221000"/>
            <a:ext cx="24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nocimiento 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643200" y="1181160"/>
            <a:ext cx="30164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ens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ercep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Repres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35280" y="2852640"/>
            <a:ext cx="2106720" cy="36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once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Jui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Razon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Leyes y categ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ie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eorí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415200" y="2637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iz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bstr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2360" y="3429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Positivo -  Neg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General -   Sing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80280" y="4221000"/>
            <a:ext cx="2439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eductivo  Induc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Análisis  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47640" y="260280"/>
            <a:ext cx="7596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l conocimiento hum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9640" y="263700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3429000"/>
            <a:ext cx="5473440" cy="647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19640" y="4149720"/>
            <a:ext cx="5473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9144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4. Conclus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Síntesis integradora de las ideas esboz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Recomendaciones y/o sugerenci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5. Aparato crític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Empleo y elaboración de las ci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 de las not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6. Bibliografía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Orden y completación de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7. Índi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Presentación y ubic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8. Apéndice y/o anex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-Funcionalidad y presen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9900"/>
                </a:solidFill>
                <a:latin typeface="Arial"/>
              </a:rPr>
              <a:t>9. Ortografía y redac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460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entury Gothic"/>
              </a:rPr>
              <a:t>Guía de evaluación del trabajo monográfico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618920" y="465120"/>
            <a:ext cx="648324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rmato para la evaluación de exposiciones o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579600" y="1413000"/>
          <a:ext cx="8024760" cy="5018040"/>
        </p:xfrm>
        <a:graphic>
          <a:graphicData uri="http://schemas.openxmlformats.org/drawingml/2006/table">
            <a:tbl>
              <a:tblPr/>
              <a:tblGrid>
                <a:gridCol w="2568600"/>
                <a:gridCol w="546120"/>
                <a:gridCol w="546120"/>
                <a:gridCol w="549360"/>
                <a:gridCol w="541080"/>
                <a:gridCol w="546120"/>
                <a:gridCol w="544680"/>
                <a:gridCol w="547560"/>
                <a:gridCol w="544680"/>
                <a:gridCol w="546120"/>
                <a:gridCol w="5443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mbre  del alum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esentación pers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ono de vo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itmo de exposi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nunci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 si mism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otiv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Vocabul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ominio del conteni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enguaje corpo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xplica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Recursos audiovisu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rganización y coher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trol del 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onclusiones y/o cier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62728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24360" y="2565360"/>
            <a:ext cx="0" cy="43200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79280" y="2276640"/>
            <a:ext cx="8964720" cy="2933280"/>
            <a:chOff x="179280" y="2276640"/>
            <a:chExt cx="8964720" cy="2933280"/>
          </a:xfrm>
        </p:grpSpPr>
        <p:sp>
          <p:nvSpPr>
            <p:cNvPr id="88" name=""/>
            <p:cNvSpPr/>
            <p:nvPr/>
          </p:nvSpPr>
          <p:spPr>
            <a:xfrm>
              <a:off x="17928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sen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7492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lóg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71640" y="2276640"/>
              <a:ext cx="115272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nálisis y sín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7280" y="2276640"/>
              <a:ext cx="1152360" cy="3985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64000" y="2276640"/>
              <a:ext cx="115128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Hipótes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59640" y="2276640"/>
              <a:ext cx="1152360" cy="477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Teo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883640" y="2276640"/>
              <a:ext cx="1260360" cy="550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Desarrollo del conocimiento científ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3200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2436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2728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1672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19640" y="2563920"/>
              <a:ext cx="1443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12000" y="2563920"/>
              <a:ext cx="14472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5640" y="3284640"/>
              <a:ext cx="107964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Sentid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16360" y="3284640"/>
              <a:ext cx="1224000" cy="550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 juicios  conclusione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1964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Métodos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52720" y="3284640"/>
              <a:ext cx="1079280" cy="246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Concept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3200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Aspectos superficiales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92720" y="4579920"/>
              <a:ext cx="1224000" cy="6300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Formas de pens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51280" y="4579920"/>
              <a:ext cx="122400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Procedimientos lógicos y técnico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29080" y="4579920"/>
              <a:ext cx="1079280" cy="55080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entury Gothic"/>
                </a:rPr>
                <a:t>Esencia de la naturaleza de las cos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33200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19640" y="2852640"/>
              <a:ext cx="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3528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3200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00720" y="3571920"/>
              <a:ext cx="0" cy="10076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940360" y="4003560"/>
              <a:ext cx="0" cy="5760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6551280" y="2168280"/>
              <a:ext cx="215640" cy="1584360"/>
            </a:xfrm>
            <a:custGeom>
              <a:avLst/>
              <a:gdLst>
                <a:gd name="textAreaLeft" fmla="*/ 0 w 215640"/>
                <a:gd name="textAreaRight" fmla="*/ 151200 w 215640"/>
                <a:gd name="textAreaTop" fmla="*/ 65880 h 1584360"/>
                <a:gd name="textAreaBottom" fmla="*/ 151848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6" name=""/>
            <p:cNvCxnSpPr>
              <a:stCxn id="102" idx="3"/>
              <a:endCxn id="115" idx="2"/>
            </p:cNvCxnSpPr>
            <p:nvPr/>
          </p:nvCxnSpPr>
          <p:spPr>
            <a:xfrm flipV="1">
              <a:off x="5954760" y="3087000"/>
              <a:ext cx="705240" cy="576360"/>
            </a:xfrm>
            <a:prstGeom prst="bentConnector2">
              <a:avLst/>
            </a:prstGeom>
            <a:ln w="28440">
              <a:solidFill>
                <a:srgbClr val="808080"/>
              </a:solidFill>
              <a:miter/>
              <a:tailEnd len="med" type="triangle" w="med"/>
            </a:ln>
          </p:spPr>
        </p:cxnSp>
      </p:grpSp>
      <p:pic>
        <p:nvPicPr>
          <p:cNvPr id="117" name="" descr=""/>
          <p:cNvPicPr/>
          <p:nvPr/>
        </p:nvPicPr>
        <p:blipFill>
          <a:blip r:embed="rId1">
            <a:grayscl/>
          </a:blip>
          <a:srcRect l="0" t="79405" r="20735" b="7362"/>
          <a:stretch/>
        </p:blipFill>
        <p:spPr>
          <a:xfrm>
            <a:off x="0" y="73080"/>
            <a:ext cx="3995640" cy="907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492360" y="260280"/>
            <a:ext cx="5651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l Conoc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197000"/>
          <a:ext cx="7992720" cy="5538600"/>
        </p:xfrm>
        <a:graphic>
          <a:graphicData uri="http://schemas.openxmlformats.org/drawingml/2006/table">
            <a:tbl>
              <a:tblPr/>
              <a:tblGrid>
                <a:gridCol w="2664000"/>
                <a:gridCol w="2664360"/>
                <a:gridCol w="2664360"/>
              </a:tblGrid>
              <a:tr h="13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orm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ilosofí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óg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atemá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94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Fáctic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Century Gothic"/>
                        <a:buAutoNum type="alphaL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iencias Natur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i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Químic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ís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Zo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dic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otánic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2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) Ciencias So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ntrop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Arque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erec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conom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stad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ingüís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dag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sicolog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olí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ociología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700360" y="260280"/>
            <a:ext cx="64436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asificación de las C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482920" y="1484280"/>
            <a:ext cx="424980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TEMA O ÁREA DE EST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11280" y="227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PROBLEMA U OB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11280" y="2997360"/>
            <a:ext cx="4321440" cy="7038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MÉTODO CIENTÍFICO Y TÉCNICAS DE INVESTI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11280" y="400536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HIPÓT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472428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ONOCIMIENTO CIENTÍF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1280" y="5516640"/>
            <a:ext cx="43214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CI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1989000"/>
            <a:ext cx="0" cy="28764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2708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3716280"/>
            <a:ext cx="0" cy="2890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5157720"/>
            <a:ext cx="0" cy="358920"/>
          </a:xfrm>
          <a:prstGeom prst="line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>
            <a:stCxn id="126" idx="1"/>
            <a:endCxn id="121" idx="1"/>
          </p:cNvCxnSpPr>
          <p:nvPr/>
        </p:nvCxnSpPr>
        <p:spPr>
          <a:xfrm flipH="1" rot="10800000">
            <a:off x="2382480" y="1710720"/>
            <a:ext cx="72000" cy="4032720"/>
          </a:xfrm>
          <a:prstGeom prst="bentConnector3">
            <a:avLst>
              <a:gd name="adj1" fmla="val -1497487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1403280" y="333360"/>
            <a:ext cx="7740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06906" dir="9332361" blurRad="0" rotWithShape="0">
              <a:srgbClr val="99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ceso de la investigación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grayscl/>
          </a:blip>
          <a:srcRect l="33459" t="0" r="0" b="0"/>
          <a:stretch/>
        </p:blipFill>
        <p:spPr>
          <a:xfrm>
            <a:off x="3059280" y="374760"/>
            <a:ext cx="6084720" cy="6294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3645000"/>
            <a:ext cx="7164360" cy="192276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entury Gothic"/>
              </a:rPr>
              <a:t>La Investigación científ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8720" y="5877000"/>
            <a:ext cx="59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fesor: Gabriel Alvarez Undurr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0920" y="33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Century Gothic"/>
              </a:rPr>
              <a:t>Esquema del proceso de la investigación cientí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84880" y="120636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84880" y="2573280"/>
            <a:ext cx="609480" cy="399960"/>
          </a:xfrm>
          <a:prstGeom prst="rightArrow">
            <a:avLst>
              <a:gd name="adj1" fmla="val 50000"/>
              <a:gd name="adj2" fmla="val 38096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16360" y="1206360"/>
            <a:ext cx="2735280" cy="258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ELECCIÓN D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4720" y="1120680"/>
            <a:ext cx="3059280" cy="12171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VISIÓN BIBLIOGRÁ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ONSULTA A EXPERTOS Y/O ESPECIALIST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SERVACIÓN DIRECTA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16360" y="2214720"/>
            <a:ext cx="2735280" cy="129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FORMULACIÓN DEL ANTE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ELABORACIÓN DEL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84720" y="2489040"/>
            <a:ext cx="3059280" cy="444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PLANTEAMIENTO, FORMULACIÓN Y SISTEMATIZACIÓN  DEL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OBJETIV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JUSTIFICACIÓN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ANTECEDENTES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EORÍ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SISTEMA CONCEPT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HIPÓTESIS, VARIABLES E INDICAD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TIPOS Y NIVELE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MÉTODOS Y TÉCNICAS DE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ÍNDICE DEL CONTENIDO DE LA INVESTIGA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RECURSOS HUMANOS Y MATERIA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CRONOGRAMA DE ACTIV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BIBLIOGRAFÍA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3040" y="40813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946240" y="3870360"/>
            <a:ext cx="2641680" cy="156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AMPLIACIÓN DEL MARCO TEÓ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UEBA DE INSTRUMENTOS (ESTUDIO PILOT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COLECCIÓN DE DATOS (APLICACIÓN DE INSTRUMENTO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OCESAMIENTO Y ANÁLISIS DE LOS DA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INTERPRETACIÓN DE LOS RESULTAD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VERIFICACIÓN O FALSEAMIENTO DE LA HIPÓTE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LABORACIÓN DE CONCLUSIO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71640" y="13492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70964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16360" y="1596960"/>
            <a:ext cx="27352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entury Gothic"/>
              </a:rPr>
              <a:t>IDENTIFICACIÓN DE UN PROBL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754360" y="286236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41680" y="44467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41680" y="610236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03040" y="5681520"/>
            <a:ext cx="243864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DIVUL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46240" y="5526000"/>
            <a:ext cx="2641680" cy="113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DACCIÓN DEL BORRADO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REVISIÓN Y CORRECCIÓ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PRESENTACIÓN DEL INFORME DE INVESTIGACIÓN (MONOGRAFÍA, TRABAJO DE GRADO, TESIS U OTR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00"/>
                </a:solidFill>
                <a:latin typeface="Century Gothic"/>
              </a:rPr>
              <a:t>EVALUACIÓN DEL TRABAJO ESCRITO Y SU PRESENTACIÓN O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134928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484360" y="1709640"/>
            <a:ext cx="28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206360"/>
            <a:ext cx="240840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 Black"/>
              </a:rPr>
              <a:t>PLANIF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9T16:12:13Z</dcterms:created>
  <dc:creator>Gabriel Alvarez</dc:creator>
  <dc:description/>
  <dc:language>en-US</dc:language>
  <cp:lastModifiedBy>gau</cp:lastModifiedBy>
  <dcterms:modified xsi:type="dcterms:W3CDTF">2007-08-19T20:58:44Z</dcterms:modified>
  <cp:revision>62</cp:revision>
  <dc:subject/>
  <dc:title>Diapositiva 1</dc:title>
</cp:coreProperties>
</file>