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14C74-085E-40BC-95AF-28E6E8024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5B67-0C65-4669-96BA-13D464AD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66AD4-70B9-4C71-98E3-EA5461AD2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7D396-9C18-4C37-B621-7EF3DAAB8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5623B-A8C5-4E9E-B5A2-6630D951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90A0-2C5C-4649-BC19-1776AE25F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FE8BD-3B66-4529-B6B5-1C7C9401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0D10D-3324-43FF-8CD0-4DA84E3B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FF7C-2998-4320-8CA2-7F6D27D9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22CB-87FC-45C0-A9FF-4027436B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C6CA-8B5B-47B0-8981-340FC2E89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44C9-0F38-4F2E-B203-44529107C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2B5E-5303-4F4C-90E9-C79F37DD2D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0464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tículo 30°. </a:t>
            </a:r>
            <a:r>
              <a:rPr b="1" lang="es-ES" sz="1800" spc="-1" strike="noStrike" u="sng">
                <a:solidFill>
                  <a:srgbClr val="000000"/>
                </a:solidFill>
                <a:uFillTx/>
                <a:latin typeface="Book Antiqua"/>
              </a:rPr>
              <a:t>La estructura, nivel y mecanismo de indexación de las tarifas de los servicios afectos serán fijados por los Ministerios de Transportes y Telecomunicaciones y de Economía, Fomento y Reconstrucción cada cinco años sobre la base de los costos incrementales de desarrollo del servicio respectivo, considerando los planes de expansión de las empresas a implementarse en un período no inferior a los siguientes cinco años de acuerdo a la demanda prevista.</a:t>
            </a:r>
            <a:r>
              <a:rPr b="0" lang="es-ES" sz="1800" spc="-1" strike="noStrike">
                <a:solidFill>
                  <a:srgbClr val="000000"/>
                </a:solidFill>
                <a:latin typeface="Book Antiqua"/>
              </a:rPr>
              <a:t> Para estos efectos, el costo incremental de desarrollo se definirá como aquel monto equivalente a la recaudación promedio anual que, de acuerdo a los costos de inversión y de explotación, y en consideración a la vida útil de los activos asociados a la expansión, las tasas de tributación y de costo de capital, sea consistente con un valor actualizado neto del proyecto de expansión igual a c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Sin perjuicio de lo anterior, en ausencia de planes de expansión, la estructura y nivel de las tarifas se fijarán sobre la base de los costos marginales de largo plazo, previa autorización de la Subsecretaría de Telecomunicaciones. Se entenderá por costo marginal de largo plazo de un servicio el incremento en el costo total de largo plazo de proveerlo, considerando un aumento de una unidad en la cantidad provi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a recaudación promedio anual compatible con un valor actualizado neto igual a cero del proyecto correspondiente a un servicio dado equivale al costo medio de largo plazo de este servicio. Este procedimiento se utilizará para distintos volúmenes de prestación de servicios generándose una curva de costos medios de largo plazo. A partir de dicha curva, se calcularán los costos marginales de largo plazo.</a:t>
            </a: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20:05:01Z</dcterms:created>
  <dc:creator>Lucas Sierra</dc:creator>
  <dc:description/>
  <dc:language>en-US</dc:language>
  <cp:lastModifiedBy>Lucas Sierra</cp:lastModifiedBy>
  <dcterms:modified xsi:type="dcterms:W3CDTF">2007-11-12T20:05:22Z</dcterms:modified>
  <cp:revision>1</cp:revision>
  <dc:subject/>
  <dc:title>Diapositiva 1</dc:title>
</cp:coreProperties>
</file>