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021C-B422-4F49-94A3-28265DB6FCC1}" type="datetime">
              <a:rPr b="0" lang="es-ES_tradnl"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9B79-621D-4C27-ABB6-1ED685697A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254D-FEFF-4DAE-BCA6-9146E898C4F6}"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E894-5FDF-4AB3-B62D-53F6E2C57602}"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7A29-78CE-4C13-BDB4-54BB6DE99815}"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4A6B-C297-406C-BB9C-57BB23D38D90}"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929B-67BA-4C35-B524-11F6DACC8EA6}"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B5F0-1607-48E6-8670-0259FEEA6942}"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FBCC-AE39-4E45-84D5-080F3DF207D7}"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B518-37FE-4257-A265-B84F4B815D1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7DFE-976C-4D64-ABE8-F6774BB0CF5B}"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7656-BB8A-42F2-B0DF-25C3EA1797B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BAA0-5944-4314-B38E-AE7D6EB45B73}"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E29B-7AFA-45BB-B3D7-B340A91E0372}"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4029-1F49-4BD2-B0C7-EB61CF61DB57}" type="datetime">
              <a:rPr b="0" lang="es-ES_tradnl" sz="1200" spc="-1" strike="noStrike">
                <a:solidFill>
                  <a:srgbClr val="009999"/>
                </a:solidFill>
                <a:latin typeface="Times New Roman"/>
              </a:rPr>
              <a:t>31/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6F3C-30A5-4381-8E7C-0C2247681630}"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B249F-CE4D-476E-BDEF-3919D1141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FF68-51FC-4D36-B988-2B7792EC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0E16-C2E7-42B4-B2F5-A41B74A2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59EF6-1659-4B8C-BFD4-1FDEFCE83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1974D-D2B1-44AC-B75E-A564D09BC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8ED44-6021-4308-8FC4-1CD3FB61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41DD2-6B5F-45E6-B9AE-461ECA51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4111F-EE90-4194-B133-34644F446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3C3D8-C62E-4A43-B4A1-32C36DC2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AF574-D50B-4DC4-BDE3-9AA7FB287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69D56-E604-4A28-BABD-F34C11BC5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1C3BA-B528-4CF0-B7AA-BD47A82B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6D429-7BFF-4CB7-A8AC-5E2A0BB38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CE160-38B8-4DA0-B232-F33A47AE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B9B44-8D15-4B91-A948-051B99B5A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581FB-A7F4-4AED-BA4C-9A66899CE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E5B6D-C540-453B-BF01-F64054FF2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75572-E463-4658-B0B5-BEB5025E6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BED2-D335-467E-9A53-8251CA768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CAC85-45C7-48A0-84A0-B3829BE13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FBF8-4978-42D0-BFEA-EF312262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698A-87A1-4A8D-A934-340CFB02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BEFE-9A95-400A-9CA6-3FFE5949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A0AB-E6AC-4D26-8946-3AFDDF744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DEB2-CE09-4C87-BF66-0662F7A9961D}" type="datetime">
              <a:rPr b="0" lang="es-ES"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3829-9DC2-4825-A251-30ED0EEC446B}"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C695-51EA-4C5E-8319-16737CFEB11C}" type="datetime">
              <a:rPr b="0" lang="es-ES" sz="1400" spc="-1" strike="noStrike">
                <a:solidFill>
                  <a:srgbClr val="009999"/>
                </a:solidFill>
                <a:latin typeface="Arial"/>
              </a:rPr>
              <a:t>31/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800B-E71C-4AD8-BA1A-686CC79E1543}"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4704-652B-417A-B33A-3361588A8AC2}" type="datetime">
              <a:rPr b="0" lang="es-ES" sz="1400" spc="-1" strike="noStrike">
                <a:solidFill>
                  <a:srgbClr val="009999"/>
                </a:solidFill>
                <a:latin typeface="Arial"/>
              </a:rPr>
              <a:t>31/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