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7989-1F34-42EF-9734-15267934CDFB}"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3616-E02E-451C-8C2A-955A986012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9458-CE54-40BC-8155-D6D13638AA39}"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EF57-8EA2-4E55-BC7E-CDD300E7A5F9}"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D7F5-A7C7-42A2-B959-4B34B8099C29}"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37AB-302C-4020-9CAD-25963833F5F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A927-DD98-43E3-9E99-0AEF938FFC5D}"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FC21-97F8-42C8-9ECC-3CC53BFFCA60}"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2884-39AE-4FDC-A34A-0A64A96D0103}"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7824-DDED-4397-B5D8-9647672BFC09}"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E18D-2849-4631-B945-552BB55F957C}"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BD6B-4FF6-40EE-853D-CB01E69AA3A7}"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2F6-2931-4414-A0BB-D002989CC7D6}"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D8B5-3147-46AD-BC20-8FA96E8C588A}"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A893-3C0B-4F00-A0C5-90CADF45D035}" type="datetime">
              <a:rPr b="0" lang="es-ES_tradnl" sz="1200" spc="-1" strike="noStrike">
                <a:solidFill>
                  <a:srgbClr val="009999"/>
                </a:solidFill>
                <a:latin typeface="Times New Roman"/>
              </a:rPr>
              <a:t>30/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C68F-F51F-4D8B-92FB-D2362B19880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0B9A8-DD9E-4A36-8475-189A4C48F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4AE05-14B1-4EEE-8A6F-C552AFA0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53429-BBFE-4689-B6AC-DA49DFA1D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BD396-D239-4FED-83B7-0CA9656D5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F817B-F450-4D3E-84FF-8F7E1EE7B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F32D6-4F40-49DE-BE7B-DED84061A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005F-394E-42AD-A4FD-3E0A0132D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9D255-DC07-4724-9D5F-7847E0EF6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0CA0B-5976-4084-AAA0-30879D618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BEB36-3958-4D14-89A0-4F111BE62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FF53F-6710-4717-AFCE-AFDA143C0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BFB4-DE8D-4854-A1B5-4B514E60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4C5AD-8FCF-4990-8B5F-11CCC0770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4B109-3A03-4035-951B-92FF2EB4F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04ACC-6EF6-45CD-933F-4BD23B97E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6C3A7-DDFE-47B7-91CB-03B7CA1B7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4C16B-2980-4981-8CD7-CB397EEDD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16357-8AC3-4F46-84C6-34B0FD16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AF659-E64E-487A-BA2C-09EC901E9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FA23-E39B-44C6-9EFC-2230B0633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9CEE9-E56A-43B5-B38C-B2095F74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A013-5F9A-4EFB-B685-74851DA2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FA7C-29DC-4238-BBC1-4EB9A349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F32B3-19CA-4F7F-B936-80A4A5D2D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709A-AFFB-4668-A98C-72909A6680FB}" type="datetime">
              <a:rPr b="0" lang="es-ES" sz="1400" spc="-1" strike="noStrike">
                <a:solidFill>
                  <a:srgbClr val="000000"/>
                </a:solidFill>
                <a:latin typeface="Arial"/>
              </a:rPr>
              <a:t>30/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5FBA-E40F-485C-A77E-DB82EA652A28}"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A661-0A13-4E49-BB7D-DAA46C888764}" type="datetime">
              <a:rPr b="0" lang="es-ES" sz="1400" spc="-1" strike="noStrike">
                <a:solidFill>
                  <a:srgbClr val="009999"/>
                </a:solidFill>
                <a:latin typeface="Arial"/>
              </a:rPr>
              <a:t>30/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7AFC-5D62-4155-ACA7-CEF9D70472F6}"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A677-A195-48AD-94CA-BD4259A2B955}" type="datetime">
              <a:rPr b="0" lang="es-ES" sz="1400" spc="-1" strike="noStrike">
                <a:solidFill>
                  <a:srgbClr val="009999"/>
                </a:solidFill>
                <a:latin typeface="Arial"/>
              </a:rPr>
              <a:t>30/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