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BC28-FB12-42CA-B9B0-635AE2D4C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A8F0-6314-4EFC-A400-6FA882B0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5049-F5C9-46ED-9444-95D496A11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6345-B814-44AD-8D86-EAFA25C57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9E65-0F42-47C9-BD61-F6418E771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D4DA-08BB-4C24-856E-E7A3302D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F344E-5B3E-4BF5-979F-F5ADC483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B017-A068-4B4C-B96D-7DC3FF28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AD53-5109-41DA-B036-DEE07132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734F-B89E-4D29-9FAB-225AB0BE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FAB0-605C-4150-A322-FCA5AA35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6E25-3E55-4207-8020-2666FDD3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FA17-59EC-46F2-873D-52806DAC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AB50-5600-4BDA-8C07-DAE4D20F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8174-7F5C-4C9A-87F9-42C01472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3BDC-FD7C-4064-A53B-F05B850D2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C76D-138B-433B-994E-97CFF4C10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25BE-03E5-4495-892C-7D06EB42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203C-FD63-42CE-A1A3-6B5F26EA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68BC-64B0-456C-AE6A-B9CDE983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56B9-BCDF-426F-92B4-76153719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E363-A4F3-4AAD-9993-91650372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023D-8CD8-40E5-BD91-C7880247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FA64-502D-4883-9302-D11A20CF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0FBE-1E5F-4AAA-96C3-2BE5DE797F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0E08-4DDF-476A-9B39-2B1000498F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02200"/>
          </a:xfrm>
          <a:prstGeom prst="rect">
            <a:avLst/>
          </a:prstGeom>
          <a:solidFill>
            <a:srgbClr val="000000"/>
          </a:solidFill>
          <a:ln w="9360">
            <a:solidFill>
              <a:srgbClr val="e9e4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"/>
              </a:rPr>
              <a:t>Siglo XVIII. La Ilustració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.- La dualidad entre Despotismo Ilustrado e Ilustr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.- La convivencia entre Antiguo Régimen y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Modernidad en  gestación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3.- Ilustración: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movimiento cultural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que gesta la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“modernidad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4.- Los rasgos  de la Ilustra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)  Madurez de una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nueva cosmovisión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gestada  desde el siglo XVI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b)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La razón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como Instrumento de comprensión y ordenación de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univers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)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La educación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de la raz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)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La crítica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como forma de análisis de la rea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)  El Universo, un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orden matemá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)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El optimismo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humano frente al futu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f)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Tolera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)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Antibelic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h)  El Humanismo y los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Derechos del Homb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)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El laic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7107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3300"/>
                </a:solidFill>
                <a:uFillTx/>
                <a:latin typeface="Arial"/>
              </a:rPr>
              <a:t>Derecho e Ilustr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.-  Concepción de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derecho natural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.-  Derecho natural y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raz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3.-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Apriorísmo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etodológ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4.-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Derechos del Hombre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: principios racionalmente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autoevidentes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5.-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El derecho como instrumento de cambio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de la sociedad huma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6.-  El derecho positivo como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construcción sistemática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7.-  La sociedad política basada en el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pacto o contrato social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8.-  El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constitucionalismo y la codificación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: técnicas de positivización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os princip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9.-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La preeminencia de la ley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como fuente del derech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0 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La seguridad jurídica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como fin último del sistema jurídico positiv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692280"/>
            <a:ext cx="9220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La  Ilustración es la salida del  hombre  de  la minoría de edad, debida a su propia culp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Minoría de edad  e incapacidad para  servirse,  sin  ser guiado por  otros, de su propia mente. Y  esta minoría de edad es imputable a él mismo porque su causa estriba, no  en una falta de su ment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sino en la falta de decisión y de valor,  del valor  de utilizarla sin ser guiado por nadi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!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Sapere aude!  ! Ten el valor de servirte de t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es-ES" sz="2800" spc="-1" strike="noStrike">
                <a:solidFill>
                  <a:srgbClr val="ffffff"/>
                </a:solidFill>
                <a:latin typeface="Tahoma"/>
              </a:rPr>
              <a:t>propia mente!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Ese es el fundamento  de   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Ilustració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E. K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113400" y="-115920"/>
            <a:ext cx="444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¿Qué es la Ilustració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0:12:09Z</dcterms:created>
  <dc:creator>mfigueroa</dc:creator>
  <dc:description/>
  <dc:language>en-US</dc:language>
  <cp:lastModifiedBy>derecho</cp:lastModifiedBy>
  <dcterms:modified xsi:type="dcterms:W3CDTF">2007-09-26T15:05:23Z</dcterms:modified>
  <cp:revision>6</cp:revision>
  <dc:subject/>
  <dc:title>Diapositiva 1</dc:title>
</cp:coreProperties>
</file>