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866-0294-4182-AC16-0122C89C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901-1316-4E10-9858-D1066841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3FC-5665-4B1D-B8D5-64D3E708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B1B-52AE-4D41-88E1-B7D8BFD9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77E4-E07B-41EB-85B7-28C27E4E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FA70-2BB3-47ED-B40C-D244D9DF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50B1-2B1A-4CCC-99F3-89E14F7A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F90E-5F5F-46BC-8BD7-6D1060BA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244D-EA32-46A6-9C2F-1CF2670A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2297-7C5C-45EA-833B-8D2CE049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300A-4866-4EBB-8F7E-6DF64A5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251-2AA5-4780-96B3-008D86CE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D076-6C2D-44C8-9696-CAD3438F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28F4-159A-49C6-8799-6070E7E1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C70C-A3AF-43E9-898A-C791FFCA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FD3F-CA63-4C7D-A53E-804C2BC0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681E-14EC-4582-927C-E44C4239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DFA-06C1-4A10-BE52-7C5A3216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A26-F52B-44E7-AAF4-E8D0562B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E19-EB80-48CB-A999-C1818F8B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CAA-2467-47EE-9E8E-AF32DF9A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35E-EE3C-4BB3-B0F3-2BB9A5C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68D-5784-4BA0-9679-95F33A4E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2F9-A735-4086-89CD-D9196F0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D3C4-1447-4B11-B56D-C33549C367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4D7D-14E1-4228-B8F1-AF5F1D0DF7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000000"/>
          </a:solidFill>
          <a:ln w="9360">
            <a:solidFill>
              <a:srgbClr val="e9e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Siglo XVIII. La Ilustr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- La dualidad entre Despotismo Ilustrado e Ilust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- La convivencia entre Antiguo Régimen y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Modernidad en  gest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- Ilustración: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movimiento cultur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que gesta l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“modernidad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- Los rasgos  de la Ilustr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)  Madurez de un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nueva cosmovis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gestada  desde el siglo XV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raz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Instrumento de comprensión y orden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iver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educ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 la raz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crít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orma de análisis de l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)  El Universo, un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orden mate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optimism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humano frente al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Tol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ntibelic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)  El Humanismo y los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s del Homb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laic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10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Derecho e Ilust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-  Concepción de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 natur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-  Derecho natural y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raz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priorísm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odológ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s del Hombr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principios racionalmente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utoevident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derecho como instrumento de cambi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 la sociedad hum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6.-  El derecho positivo como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onstrucción sistemát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7.-  La sociedad política basada en 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acto o contrato soci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8.-  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onstitucionalismo y la codific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técnicas de positivización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9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preeminencia de la ley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uente del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0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seguridad juríd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in último del sistema jurídico posi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92280"/>
            <a:ext cx="922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  Ilustración es la salida del  hombre  de  la minoría de edad, debida a su propia cul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inoría de edad  e incapacidad para  servirse,  sin  ser guiado por  otros, de su propia mente. Y  esta minoría de edad es imputable a él mismo porque su causa estriba, no  en una falta de su men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ino en la falta de decisión y de valor,  del valor  de utilizarla sin ser guiado por nad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Sapere aude!  ! Ten el valor de servirte de 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propia mente!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se es el fundamento  de  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Ilustració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. K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13400" y="-115920"/>
            <a:ext cx="44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¿Qué es la Ilustr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0:12:09Z</dcterms:created>
  <dc:creator>mfigueroa</dc:creator>
  <dc:description/>
  <dc:language>en-US</dc:language>
  <cp:lastModifiedBy>derecho</cp:lastModifiedBy>
  <dcterms:modified xsi:type="dcterms:W3CDTF">2007-09-26T15:05:23Z</dcterms:modified>
  <cp:revision>6</cp:revision>
  <dc:subject/>
  <dc:title>Diapositiva 1</dc:title>
</cp:coreProperties>
</file>