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B956-F194-469E-84C3-F6206EEE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A301-DD6B-4706-B724-D403B270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4B41-BCED-46AA-B318-39621497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D1B-4C2E-471F-AB88-0B82C2CF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FC2B-6586-4C47-9C19-6FC8DB2F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94DB-96CA-4AB7-9D11-0B6782EC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BC18-CB84-4659-8B3D-BB89B860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9BAC-01DF-4E39-BE3F-A968487F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2DC8-22F7-49AE-AFCC-379AABAE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E593-E12E-454C-9847-B5613363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67AC-1891-4974-9E0B-A2580C5B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6E42-5E0F-4DB1-900D-E9041F15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D62E-3036-4F40-BB3D-CF6752EE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0924-40BE-4789-BD18-53797C63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8FD4-0479-4366-8518-52AA8299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B80B-EEEE-4BB9-840B-7E706857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988D-4FD4-4A83-A516-A0548485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B54-3F84-4F7B-945D-878163B5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8C0-92BA-46DE-8276-C52ED344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42B-9F39-404D-9351-67BE3700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656-B79D-485A-913F-5E694B2B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E47-EEB9-41E0-B34A-124C6A2D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11F1-878A-4694-A9BC-991DCC17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A49-75C3-465F-A385-4B0C8B23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909B-0CE8-4F25-9CAB-72C7AFE1E7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11F1-CC5A-4331-BD58-D88D60E1C4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solidFill>
            <a:srgbClr val="000000"/>
          </a:solidFill>
          <a:ln w="9360">
            <a:solidFill>
              <a:srgbClr val="e9e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Siglo XVIII. La Ilustr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.- La dualidad entre Despotismo Ilustrado e Ilust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- La convivencia entre Antiguo Régimen y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Modernidad en  gestaci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- Ilustración: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movimiento cultura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que gesta la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“modernidad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.- Los rasgos  de la Ilustr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)  Madurez de una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nueva cosmovisi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gestada  desde el siglo XVI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b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La raz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omo Instrumento de comprensión y ordenación d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niver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La educaci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de la raz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La crític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omo forma de análisis de la re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)  El Universo, un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orden mate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El optimism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humano frente al futu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Toler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ntibelic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)  El Humanismo y los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Derechos del Homb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El laic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710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Derecho e Ilust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.-  Concepción de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derecho natura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-  Derecho natural y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raz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-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priorísm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todológ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.-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Derechos del Hombre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 principios racionalmente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utoevident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-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El derecho como instrumento de cambi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de la sociedad hum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6.-  El derecho positivo como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construcción sistemátic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7.-  La sociedad política basada en el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pacto o contrato socia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8.-  El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constitucionalismo y la codificaci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 técnicas de positivización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s princip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9.-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La preeminencia de la ley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omo fuente del derech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0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La seguridad jurídic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omo fin último del sistema jurídico positiv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692280"/>
            <a:ext cx="9220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La  Ilustración es la salida del  hombre  de  la minoría de edad, debida a su propia cul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Minoría de edad  e incapacidad para  servirse,  sin  ser guiado por  otros, de su propia mente. Y  esta minoría de edad es imputable a él mismo porque su causa estriba, no  en una falta de su ment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sino en la falta de decisión y de valor,  del valor  de utilizarla sin ser guiado por nad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!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Sapere aude!  ! Ten el valor de servirte de t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propia mente!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se es el fundamento  de   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Ilustració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. K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113400" y="-115920"/>
            <a:ext cx="44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¿Qué es la Ilustr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0:12:09Z</dcterms:created>
  <dc:creator>mfigueroa</dc:creator>
  <dc:description/>
  <dc:language>en-US</dc:language>
  <cp:lastModifiedBy>derecho</cp:lastModifiedBy>
  <dcterms:modified xsi:type="dcterms:W3CDTF">2007-09-26T15:05:23Z</dcterms:modified>
  <cp:revision>6</cp:revision>
  <dc:subject/>
  <dc:title>Diapositiva 1</dc:title>
</cp:coreProperties>
</file>