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902-B638-4297-9435-11DE4A1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558-B70D-48F7-B8CF-16581AEC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36A-4BF6-4688-BC79-6B415F66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796-9D91-4C31-953C-DE469C82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C98-DB09-4EAC-8E78-2416213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0AD-ED16-4EEA-9B87-8D3A8757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5A7-FC4C-4F54-800A-FCB29C9D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4E6-BEFA-424A-B413-CBF5034F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DA5-DC39-43DE-AEAA-CACC96A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EA1-6603-4393-85D0-CB0F9E2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926-586E-459E-8C11-5AF157D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9C4-1220-47DD-908E-FD2F0A7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21CB-BE46-4251-9067-41D561D06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10600" cy="6800760"/>
          </a:xfrm>
          <a:prstGeom prst="rect">
            <a:avLst/>
          </a:prstGeom>
          <a:solidFill>
            <a:srgbClr val="ea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El Estado</a:t>
            </a: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Ind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rona castellana y su dominio en Amér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á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oblacion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premi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 colonización.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esencia del Est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a de fundación de ciudad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bildos y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añoles y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ganización económica de Amér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ercantilism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ontratación,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onopolio comer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sistema de flotas =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puertos, prohibición de intercambio entre colonias, im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piedad eminente, tráfico negr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fesionalidad del Estado castella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vigencia del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nónic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América (trib. Eclesiást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atronato ind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01520"/>
          </a:xfrm>
          <a:prstGeom prst="rect">
            <a:avLst/>
          </a:prstGeom>
          <a:solidFill>
            <a:srgbClr val="e3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Patronato indiano. Evolución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Concepto: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tribuciones concedidas por la Santa Sede al Estado sobre la Iglesia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Etapa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Real patronat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) Derecho de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1508)   b) Percepción del diezmo c)  Rey patrón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ctor de la Igle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Regio Vicariat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) Exequatur o pase r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.16-17)       b) Recurso de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y vicario del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 Regalism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         a) Rey vicario de Cri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.18)                 b) Origen divino de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y responsable solo ante 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Derecho a designar los obis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480"/>
            <a:ext cx="9144000" cy="7412040"/>
          </a:xfrm>
          <a:prstGeom prst="rect">
            <a:avLst/>
          </a:prstGeom>
          <a:solidFill>
            <a:srgbClr val="e3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tructura territorial y funcional del gobierno de A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 .territori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udiencias o gobernaciones, corregimientos y  virrein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tructura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.-Gobier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Gobernador, corregidor, vir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Justici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dina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R. Audiencia (oidores), justicia may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gidores,  alcal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pec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lesiástica, comercial, minera, de hac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Haciend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iciales de Real Hacienda y  de Tes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uerra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rey, gobernador, capitá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)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obierno Local no autónom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abil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)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obierno eclesiást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bispados, parroqu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13840" cy="7412040"/>
          </a:xfrm>
          <a:prstGeom prst="rect">
            <a:avLst/>
          </a:prstGeom>
          <a:solidFill>
            <a:srgbClr val="e0e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El estado Indiano en el siglo XV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Evolución de las instituciones públicas como consecue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xtensión al Nuevo Mundo de la política del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absolutismo ilu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égimen de comerci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) El cambio del ideario económico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víos de registro 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isiocrasia y preliberalismo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égimen de Inten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igen divino del poder y regal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clesi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) La monarquía de origen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y las reform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 por el pueblo pero si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1484280"/>
            <a:ext cx="71640" cy="1224000"/>
          </a:xfrm>
          <a:custGeom>
            <a:avLst/>
            <a:gdLst>
              <a:gd name="textAreaLeft" fmla="*/ 20880 w 71640"/>
              <a:gd name="textAreaRight" fmla="*/ 72000 w 7164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076640"/>
            <a:ext cx="71280" cy="1562040"/>
          </a:xfrm>
          <a:custGeom>
            <a:avLst/>
            <a:gdLst>
              <a:gd name="textAreaLeft" fmla="*/ 20880 w 71280"/>
              <a:gd name="textAreaRight" fmla="*/ 71640 w 71280"/>
              <a:gd name="textAreaTop" fmla="*/ 64800 h 1562040"/>
              <a:gd name="textAreaBottom" fmla="*/ 149724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0" y="0"/>
            <a:ext cx="9205920" cy="6802200"/>
          </a:xfrm>
          <a:prstGeom prst="rect">
            <a:avLst/>
          </a:prstGeom>
          <a:solidFill>
            <a:srgbClr val="ec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Derecho Ind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s jurídicas dictadas para regir en América desde 1492 hasta 1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lidas por el derecho castellano en el orden de prelac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es de Toro de 1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natural: ( Paradigma del contenido debido del Dº posit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positivo: Ind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ropolitana (Rec.Leys. Indias 1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Ley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territorial (bandos, ordenanzas, reales acuer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stellan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upletoria, o.prel. L. de Toro + Nueva y Novís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opilación de L de Castilla, 1567 180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íge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ólo según o en ausencia de 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ia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egún, en ausencia y contra ley canónica y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bitrio judicial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risprud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Probidad fun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dici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Controles del arbitri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arcialidad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risprudencia doctr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2565360"/>
            <a:ext cx="71280" cy="1008000"/>
          </a:xfrm>
          <a:custGeom>
            <a:avLst/>
            <a:gdLst>
              <a:gd name="textAreaLeft" fmla="*/ 20880 w 71280"/>
              <a:gd name="textAreaRight" fmla="*/ 71640 w 71280"/>
              <a:gd name="textAreaTop" fmla="*/ 18720 h 1008000"/>
              <a:gd name="textAreaBottom" fmla="*/ 9892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3"/>
                  <a:pt x="0" y="805"/>
                </a:cubicBezTo>
                <a:lnTo>
                  <a:pt x="0" y="20795"/>
                </a:lnTo>
                <a:cubicBezTo>
                  <a:pt x="0" y="2119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8920" y="2276640"/>
            <a:ext cx="71640" cy="720720"/>
          </a:xfrm>
          <a:custGeom>
            <a:avLst/>
            <a:gdLst>
              <a:gd name="textAreaLeft" fmla="*/ 20880 w 71640"/>
              <a:gd name="textAreaRight" fmla="*/ 72000 w 7164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54200" y="3789360"/>
            <a:ext cx="73080" cy="934920"/>
          </a:xfrm>
          <a:custGeom>
            <a:avLst/>
            <a:gdLst>
              <a:gd name="textAreaLeft" fmla="*/ 21240 w 73080"/>
              <a:gd name="textAreaRight" fmla="*/ 73440 w 730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4560" y="501336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1628640"/>
            <a:ext cx="69840" cy="649440"/>
          </a:xfrm>
          <a:custGeom>
            <a:avLst/>
            <a:gdLst>
              <a:gd name="textAreaLeft" fmla="*/ 20520 w 69840"/>
              <a:gd name="textAreaRight" fmla="*/ 69840 w 69840"/>
              <a:gd name="textAreaTop" fmla="*/ 27000 h 649440"/>
              <a:gd name="textAreaBottom" fmla="*/ 62244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4200" y="5300640"/>
            <a:ext cx="73080" cy="86508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480"/>
            <a:ext cx="9144000" cy="7107120"/>
          </a:xfrm>
          <a:prstGeom prst="rect">
            <a:avLst/>
          </a:prstGeom>
          <a:solidFill>
            <a:srgbClr val="ec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Arbitrio judi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Es expresión de una concepción jusnaturalis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atólica que fundamenta el derecho castellan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ano. Juez obligado a producir la eq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suística usando la fuente formal más adecuada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eando una nueva norm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juicio de res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ez funcionario:   b) in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recu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Oblig. y prohib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Mecanismos de contr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del arbitrio  judi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Recursos procesales:   a) ap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2ª 3ª su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nu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injusticia no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Control de juridicidad de las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so de suplicación de la ley in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no procesal). Su interposición suspende la ley sup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133720"/>
            <a:ext cx="71280" cy="1726920"/>
          </a:xfrm>
          <a:custGeom>
            <a:avLst/>
            <a:gdLst>
              <a:gd name="textAreaLeft" fmla="*/ 20880 w 71280"/>
              <a:gd name="textAreaRight" fmla="*/ 71640 w 71280"/>
              <a:gd name="textAreaTop" fmla="*/ 71640 h 1726920"/>
              <a:gd name="textAreaBottom" fmla="*/ 165528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700280"/>
            <a:ext cx="72720" cy="1490760"/>
          </a:xfrm>
          <a:custGeom>
            <a:avLst/>
            <a:gdLst>
              <a:gd name="textAreaLeft" fmla="*/ 21240 w 72720"/>
              <a:gd name="textAreaRight" fmla="*/ 73080 w 72720"/>
              <a:gd name="textAreaTop" fmla="*/ 61920 h 1490760"/>
              <a:gd name="textAreaBottom" fmla="*/ 14288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573360"/>
            <a:ext cx="71640" cy="1511280"/>
          </a:xfrm>
          <a:custGeom>
            <a:avLst/>
            <a:gdLst>
              <a:gd name="textAreaLeft" fmla="*/ 20880 w 71640"/>
              <a:gd name="textAreaRight" fmla="*/ 72000 w 7164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1:01:34Z</dcterms:created>
  <dc:creator>mfigueroa</dc:creator>
  <dc:description/>
  <dc:language>en-US</dc:language>
  <cp:lastModifiedBy>mfigueroa</cp:lastModifiedBy>
  <dcterms:modified xsi:type="dcterms:W3CDTF">2007-09-12T13:12:29Z</dcterms:modified>
  <cp:revision>15</cp:revision>
  <dc:subject/>
  <dc:title>Diapositiva 1</dc:title>
</cp:coreProperties>
</file>