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D8B-5A20-4FE6-9273-E1901663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228-B222-4FAE-957F-BC0D8C5D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99E-A2DD-4186-9A4A-E7E0A884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5FB-8749-4012-AD95-4B106C5C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01D-33C5-4E70-8D3B-C035020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5F4-803D-4D2B-9D3F-5F4F5B7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D51-6C6D-4656-AE31-061C572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271-04B8-4EDA-8921-1DD3637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AFA-9FE6-488A-96DB-CBF0212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D40-C36A-40BF-9E2F-BA89565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756-3E53-4759-B032-630D942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9B5-F7AF-42BC-B22F-FFBBE54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825-C76C-4076-BDD5-C0751B150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4040" y="404640"/>
            <a:ext cx="803448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2920" y="17640"/>
            <a:ext cx="8858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93800" y="81000"/>
            <a:ext cx="75232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4560" y="147600"/>
            <a:ext cx="70578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368280"/>
            <a:ext cx="80326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333360"/>
            <a:ext cx="72658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2360" y="189000"/>
            <a:ext cx="863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3440" y="333360"/>
            <a:ext cx="5992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3:29:15Z</dcterms:created>
  <dc:creator>WinuE</dc:creator>
  <dc:description/>
  <dc:language>en-US</dc:language>
  <cp:lastModifiedBy>WinuE</cp:lastModifiedBy>
  <dcterms:modified xsi:type="dcterms:W3CDTF">2007-08-08T13:31:25Z</dcterms:modified>
  <cp:revision>2</cp:revision>
  <dc:subject/>
  <dc:title>Diapositiva 1</dc:title>
</cp:coreProperties>
</file>