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87A-D02A-461C-8DC8-7988BA3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AC7-AF54-4537-BB54-1182B788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749-CDE6-4124-8806-BB2382B7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C8D-D3DC-432F-A7B9-C631FA34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4D0-C5ED-46C4-9996-4BF33B49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A41-38FF-4E62-B219-5002ED6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1DE-B5E7-4AFD-AC4B-2980D98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701-68D3-4711-8739-68D667C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8A0-3B11-4B29-A810-93C4473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7B6-7E7E-4309-B3AF-0B67AB0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F31-6C57-43DD-AE54-191CBC9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09B-570A-4AD8-B2ED-EA2630C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1460-5627-4901-A55E-C5BAEBEE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54040" y="404640"/>
            <a:ext cx="80344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2920" y="17640"/>
            <a:ext cx="8858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800" y="81000"/>
            <a:ext cx="75232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4560" y="147600"/>
            <a:ext cx="70578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368280"/>
            <a:ext cx="80326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333360"/>
            <a:ext cx="72658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3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3440" y="333360"/>
            <a:ext cx="59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3:29:15Z</dcterms:created>
  <dc:creator>WinuE</dc:creator>
  <dc:description/>
  <dc:language>en-US</dc:language>
  <cp:lastModifiedBy>WinuE</cp:lastModifiedBy>
  <dcterms:modified xsi:type="dcterms:W3CDTF">2007-08-08T13:31:25Z</dcterms:modified>
  <cp:revision>2</cp:revision>
  <dc:subject/>
  <dc:title>Diapositiva 1</dc:title>
</cp:coreProperties>
</file>