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02A9-1C6A-4B44-9A05-DBD36708D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9B7B-5B55-4F46-A77D-30569C95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E8FE-DCAC-4425-8A15-B6249058C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5B79-617F-44C2-B5C0-A3E74DFE0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EB09-DC74-49A6-9906-F4FDD1E0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F3DA-A17D-457F-9BA8-DFB35743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FA72-72EE-4A13-AC47-575F46AD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01F6-82DF-4C67-9364-5E7041B7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B468-B118-43CF-AB61-87F55278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A270-8F33-4B44-908F-82AC67F5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2656-3C73-44BB-BC31-937012D3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D136-A7BC-47CD-BCF3-D96423FD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C239-6E13-407E-9BA3-75E05A8BE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54040" y="404640"/>
            <a:ext cx="803448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2920" y="17640"/>
            <a:ext cx="8858160" cy="68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2152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93800" y="81000"/>
            <a:ext cx="752328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14560" y="147600"/>
            <a:ext cx="7057800" cy="65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71680" y="368280"/>
            <a:ext cx="80326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38160" y="333360"/>
            <a:ext cx="7265880" cy="60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2360" y="189000"/>
            <a:ext cx="863748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03440" y="333360"/>
            <a:ext cx="59929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13:29:15Z</dcterms:created>
  <dc:creator>WinuE</dc:creator>
  <dc:description/>
  <dc:language>en-US</dc:language>
  <cp:lastModifiedBy>WinuE</cp:lastModifiedBy>
  <dcterms:modified xsi:type="dcterms:W3CDTF">2007-08-08T13:31:25Z</dcterms:modified>
  <cp:revision>2</cp:revision>
  <dc:subject/>
  <dc:title>Diapositiva 1</dc:title>
</cp:coreProperties>
</file>