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7272-04E3-4B34-9C14-26947B0A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5C4-43FE-47AF-A19E-CC40D75D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912-C293-4F8A-84E0-CF744E45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9D0-B863-47A4-B1A6-D5AE6BD3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F12-0DFA-4835-A318-9B39171E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B34-F97E-485C-83BE-C8F1DB37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AA6-1E95-44C6-B3BE-AF999874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1A7-4671-4FD7-8BD2-0E3A809D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1F1-1736-4A4D-9B13-46D3FC6C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629-2B58-466E-ACC6-2E201595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94C0-494D-42DF-BC49-4DF8051C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DED-9A1E-451B-80F5-E7B6751D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30A8-7ADC-4946-B58A-593DFFB63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54040" y="404640"/>
            <a:ext cx="803448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2920" y="17640"/>
            <a:ext cx="8858160" cy="68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15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93800" y="81000"/>
            <a:ext cx="752328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14560" y="147600"/>
            <a:ext cx="70578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1680" y="368280"/>
            <a:ext cx="80326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38160" y="333360"/>
            <a:ext cx="726588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2360" y="189000"/>
            <a:ext cx="86374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3440" y="333360"/>
            <a:ext cx="59929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3:29:15Z</dcterms:created>
  <dc:creator>WinuE</dc:creator>
  <dc:description/>
  <dc:language>en-US</dc:language>
  <cp:lastModifiedBy>WinuE</cp:lastModifiedBy>
  <dcterms:modified xsi:type="dcterms:W3CDTF">2007-08-08T13:31:25Z</dcterms:modified>
  <cp:revision>2</cp:revision>
  <dc:subject/>
  <dc:title>Diapositiva 1</dc:title>
</cp:coreProperties>
</file>