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9.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DD256-1AF3-407D-842B-CCBDA3C32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6B636-5998-4633-A17F-72AEBF335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5AB22-4B3E-43EC-92C9-8E66D4C3A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98E97-F434-45AC-848B-79AA743B6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D3475-16BE-4EC0-88A2-302DC755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64A23-2958-4E5D-BCED-690E12C4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BA7C-A825-4D9B-83FE-81F32A5A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C3F9C-FB60-4AA0-A4E9-8D9CE054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7C747-90E2-4065-BA47-CFE0D5963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978D2-8FEC-4D61-AD04-759BC6334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ADA6-56EA-4442-88A9-9F3ED140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A34A-8F64-4094-8CDE-9DAE2D942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9758-6EFC-49F1-82E8-25339AB097F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j-cij.org/icjwww/icjhome.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s.wikipedia.org/wiki/Imagen:Peace_Palace.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p:nvPr/>
        </p:nvSpPr>
        <p:spPr>
          <a:xfrm>
            <a:off x="380880" y="1793880"/>
            <a:ext cx="8496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MEDIOS JURISDICCIONALES DE SOLUCION DE CONTROVERSIAS</a:t>
            </a:r>
            <a:endParaRPr b="0" lang="en-US" sz="2400" spc="-1" strike="noStrike">
              <a:solidFill>
                <a:srgbClr val="000000"/>
              </a:solidFill>
              <a:latin typeface="Arial"/>
            </a:endParaRPr>
          </a:p>
        </p:txBody>
      </p:sp>
      <p:sp>
        <p:nvSpPr>
          <p:cNvPr id="43" name=""/>
          <p:cNvSpPr/>
          <p:nvPr/>
        </p:nvSpPr>
        <p:spPr>
          <a:xfrm>
            <a:off x="898560" y="3241800"/>
            <a:ext cx="7407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a:t>
            </a:r>
            <a:r>
              <a:rPr b="1" lang="en-US" sz="2400" spc="-1" strike="noStrike">
                <a:solidFill>
                  <a:srgbClr val="000000"/>
                </a:solidFill>
                <a:latin typeface="Arial"/>
              </a:rPr>
              <a:t>ARREGLO JUDICI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RTE INTERNACIONAL DE JUSTI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822240" y="345960"/>
            <a:ext cx="7788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nstitución del juez ad-hoc</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ículo 31 el Estatuto</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magistrados de la misma nacionalidad de cada una de las partes litigantes conservarán su derecho a participar en la vista del negocio de que conoce la Cort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la Corte incluyere entre los magistrados del conocimiento uno de la nacionalidad de una de las partes, cualquier otra parte podrá designar a una persona de su elección para que tome asiento en calidad de magistrado. Esa persona deberá escogerse preferiblemente de entre las que hayan sido propuestas como candidatos de acuerdo con los artículos 4 y 5.</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la Corte no incluyere entre los magistrados del conocimiento ningún magistrado de la nacionalidad de las partes, cada una de éstas podrá designar uno de acuerdo con el párrafo 2 de este Artículo.</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arias partes tuvieren un mismo interés, se contarán como una sola parte para los fines de las disposiciones precedentes. En caso de duda la Corte decidi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70000" contrast="-70000"/>
          </a:blip>
          <a:stretch/>
        </p:blipFill>
        <p:spPr>
          <a:xfrm>
            <a:off x="0" y="0"/>
            <a:ext cx="9144000" cy="6858000"/>
          </a:xfrm>
          <a:prstGeom prst="rect">
            <a:avLst/>
          </a:prstGeom>
          <a:ln w="0">
            <a:noFill/>
          </a:ln>
        </p:spPr>
      </p:pic>
      <p:sp>
        <p:nvSpPr>
          <p:cNvPr id="74" name=""/>
          <p:cNvSpPr/>
          <p:nvPr/>
        </p:nvSpPr>
        <p:spPr>
          <a:xfrm>
            <a:off x="468360" y="260280"/>
            <a:ext cx="8016840" cy="4299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ncionamiento de la Corte en Pleno</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la regla general)</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5</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lvo lo que expresamente disponga en contrario este Estatuto, la Corte ejercerá sus funciones en sesión plenari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rá un quórum de nueve magistrados para constituir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2"/>
          <a:stretch/>
        </p:blipFill>
        <p:spPr>
          <a:xfrm>
            <a:off x="4284720" y="3807000"/>
            <a:ext cx="4859280" cy="31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lum bright="70000" contrast="-70000"/>
          </a:blip>
          <a:stretch/>
        </p:blipFill>
        <p:spPr>
          <a:xfrm>
            <a:off x="0" y="0"/>
            <a:ext cx="9144000" cy="6858000"/>
          </a:xfrm>
          <a:prstGeom prst="rect">
            <a:avLst/>
          </a:prstGeom>
          <a:ln w="0">
            <a:noFill/>
          </a:ln>
        </p:spPr>
      </p:pic>
      <p:sp>
        <p:nvSpPr>
          <p:cNvPr id="77" name=""/>
          <p:cNvSpPr/>
          <p:nvPr/>
        </p:nvSpPr>
        <p:spPr>
          <a:xfrm>
            <a:off x="593640" y="1108080"/>
            <a:ext cx="79408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uncionamiento de la Corte en Salas</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26</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vez que sea necesario, la Corte podrá constituir una o más Salas compuestas de tres o más magistrados, según lo disponga la propia Corte, para conocer de determinadas categorías de negocios, . .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podrá constituir en cualquier tiempo una Sala para conocer de un negocio determinado. La Corte fijará, con la aprobación de las partes, el número de magistrados de que se compondrá dicha Sal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partes lo solicitaren, las Salas de que trate este artículo, oirán y fallarán los ca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0"/>
            <a:ext cx="9144000" cy="6858000"/>
          </a:xfrm>
          <a:prstGeom prst="rect">
            <a:avLst/>
          </a:prstGeom>
          <a:ln w="0">
            <a:noFill/>
          </a:ln>
        </p:spPr>
      </p:pic>
      <p:sp>
        <p:nvSpPr>
          <p:cNvPr id="79" name=""/>
          <p:cNvSpPr/>
          <p:nvPr/>
        </p:nvSpPr>
        <p:spPr>
          <a:xfrm>
            <a:off x="593640" y="574560"/>
            <a:ext cx="8245440" cy="3751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u="sng">
                <a:solidFill>
                  <a:srgbClr val="000000"/>
                </a:solidFill>
                <a:uFillTx/>
                <a:latin typeface="Arial"/>
              </a:rPr>
              <a:t>Mecanismos a través de los cuáles se puede otorgar jurisdicción a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tratado (cláusula compromisoria)</a:t>
            </a: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opcional del artículo 36</a:t>
            </a: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uerdo especial (</a:t>
            </a:r>
            <a:r>
              <a:rPr b="0" i="1" lang="es-CL" sz="2400" spc="-1" strike="noStrike">
                <a:solidFill>
                  <a:srgbClr val="000000"/>
                </a:solidFill>
                <a:latin typeface="Arial"/>
              </a:rPr>
              <a:t>compromis</a:t>
            </a:r>
            <a:r>
              <a:rPr b="0" lang="es-CL" sz="2400" spc="-1" strike="noStrike">
                <a:solidFill>
                  <a:srgbClr val="000000"/>
                </a:solidFill>
                <a:latin typeface="Arial"/>
              </a:rPr>
              <a:t>)</a:t>
            </a: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Forum prorrogatum</a:t>
            </a:r>
            <a:r>
              <a:rPr b="0" lang="es-CL" sz="2400" spc="-1" strike="noStrike">
                <a:solidFill>
                  <a:srgbClr val="000000"/>
                </a:solidFill>
                <a:latin typeface="Arial"/>
              </a:rPr>
              <a:t> (prórroga de competenc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70000" contrast="-70000"/>
          </a:blip>
          <a:stretch/>
        </p:blipFill>
        <p:spPr>
          <a:xfrm>
            <a:off x="0" y="0"/>
            <a:ext cx="9144000" cy="6858000"/>
          </a:xfrm>
          <a:prstGeom prst="rect">
            <a:avLst/>
          </a:prstGeom>
          <a:ln w="0">
            <a:noFill/>
          </a:ln>
        </p:spPr>
      </p:pic>
      <p:sp>
        <p:nvSpPr>
          <p:cNvPr id="81" name=""/>
          <p:cNvSpPr/>
          <p:nvPr/>
        </p:nvSpPr>
        <p:spPr>
          <a:xfrm>
            <a:off x="669960" y="574560"/>
            <a:ext cx="816912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36</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mpetencia de la Corte se extiende a todos los litigios que las partes le sometan y a todos los asuntos especialmente previstos en la Carta de las Naciones Unidas o en los tratados o convenciones vigent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tados partes en el presente Estatuto podrán declarar en cualquier momento que reconocen como obligatoria </a:t>
            </a:r>
            <a:r>
              <a:rPr b="0" i="1" lang="es-CL" sz="2400" spc="-1" strike="noStrike">
                <a:solidFill>
                  <a:srgbClr val="000000"/>
                </a:solidFill>
                <a:latin typeface="Arial"/>
              </a:rPr>
              <a:t>ipso facto</a:t>
            </a:r>
            <a:r>
              <a:rPr b="0" lang="es-CL" sz="2400" spc="-1" strike="noStrike">
                <a:solidFill>
                  <a:srgbClr val="000000"/>
                </a:solidFill>
                <a:latin typeface="Arial"/>
              </a:rPr>
              <a:t> y sin convenio especial, respecto a cualquier otro Estado que acepte la misma obligación, la jurisdicción de la Corte en todas las controversias de orden jurídico . .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eclaración a que se refiere este Artículo podrá hacerse incondicionalmente o bajo condición de reciprocidad por parte de varios o determinados Estados, o por determinado tiem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0" y="0"/>
            <a:ext cx="9144000" cy="6858000"/>
          </a:xfrm>
          <a:prstGeom prst="rect">
            <a:avLst/>
          </a:prstGeom>
          <a:ln w="0">
            <a:noFill/>
          </a:ln>
        </p:spPr>
      </p:pic>
      <p:sp>
        <p:nvSpPr>
          <p:cNvPr id="83" name=""/>
          <p:cNvSpPr/>
          <p:nvPr/>
        </p:nvSpPr>
        <p:spPr>
          <a:xfrm>
            <a:off x="380880" y="609480"/>
            <a:ext cx="8201160" cy="5214600"/>
          </a:xfrm>
          <a:prstGeom prst="rect">
            <a:avLst/>
          </a:prstGeom>
          <a:noFill/>
          <a:ln w="0">
            <a:noFill/>
          </a:ln>
        </p:spPr>
        <p:style>
          <a:lnRef idx="0"/>
          <a:fillRef idx="0"/>
          <a:effectRef idx="0"/>
          <a:fontRef idx="minor"/>
        </p:style>
        <p:txBody>
          <a:bodyPr lIns="90000" rIns="90000" tIns="46800" bIns="46800" anchor="t">
            <a:spAutoFit/>
          </a:bodyPr>
          <a:p>
            <a:pPr marL="74304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jemplos de tratados en los que se contienen cláusulas compromisorias</a:t>
            </a:r>
            <a:r>
              <a:rPr b="1" lang="es-CL" sz="2400" spc="-1" strike="noStrike">
                <a:solidFill>
                  <a:srgbClr val="000000"/>
                </a:solidFill>
                <a:latin typeface="Arial"/>
              </a:rPr>
              <a:t>:</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vención de Viena sobre Derecho de los Tratados (en lo relativo al </a:t>
            </a:r>
            <a:r>
              <a:rPr b="0" i="1" lang="es-CL" sz="2400" spc="-1" strike="noStrike">
                <a:solidFill>
                  <a:srgbClr val="000000"/>
                </a:solidFill>
                <a:latin typeface="Arial"/>
              </a:rPr>
              <a:t>ius cogens</a:t>
            </a:r>
            <a:r>
              <a:rPr b="0" lang="es-CL" sz="2400" spc="-1" strike="noStrike">
                <a:solidFill>
                  <a:srgbClr val="000000"/>
                </a:solidFill>
                <a:latin typeface="Arial"/>
              </a:rPr>
              <a:t>) (1969).</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ocolo Opcional a la Convención de Viena sobre Relaciones Diplomáticas (1961)</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vención de Montreal  para la supresión de actos ilícitos contra la seguridad de la aviación civil. (1971)</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vención de Naciones Unidas contra la Tortura (1984).</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Convención de Bamako sobre la prohibición de la importación en África y el control de movimientos transfronterizos y el manejo de residuos nocivos dentro de África de 1991</a:t>
            </a:r>
            <a:r>
              <a:rPr b="0" lang="es-CL" sz="2400" spc="-1" strike="noStrike">
                <a:solidFill>
                  <a:srgbClr val="000000"/>
                </a:solidFill>
                <a:latin typeface="Arial"/>
              </a:rPr>
              <a:t>.</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70000" contrast="-70000"/>
          </a:blip>
          <a:stretch/>
        </p:blipFill>
        <p:spPr>
          <a:xfrm>
            <a:off x="0" y="0"/>
            <a:ext cx="9144000" cy="6858000"/>
          </a:xfrm>
          <a:prstGeom prst="rect">
            <a:avLst/>
          </a:prstGeom>
          <a:ln w="0">
            <a:noFill/>
          </a:ln>
        </p:spPr>
      </p:pic>
      <p:sp>
        <p:nvSpPr>
          <p:cNvPr id="85" name=""/>
          <p:cNvSpPr/>
          <p:nvPr/>
        </p:nvSpPr>
        <p:spPr>
          <a:xfrm>
            <a:off x="517680" y="649440"/>
            <a:ext cx="794052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so Nicaragua (Jurisdicción, 198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Párrafo 81. El Artículo XXIV, párrafo 2, del Tratado de Amistas, Comercio y Navegación entre los Estados Unidos de América y Nicaragua, firmada en Managua el 21 de enero de 1956, dispone l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t>
            </a:r>
            <a:r>
              <a:rPr b="0" lang="es-CL" sz="1800" spc="-1" strike="noStrike">
                <a:solidFill>
                  <a:srgbClr val="000000"/>
                </a:solidFill>
                <a:latin typeface="Arial"/>
                <a:ea typeface="Times New Roman"/>
              </a:rPr>
              <a:t>Cualquier controversia entre las Partes referida a la interpretación o aplicación del presente Tratado, que no sea satisfactoriamente solucionada por la diplomacia, deberá ser sometida a la Corte Internacional de Justicia, a menos que las Partes acuerden solucionarla por algún otro medio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t>
            </a:r>
            <a:r>
              <a:rPr b="0" lang="es-CL" sz="1800" spc="-1" strike="noStrike">
                <a:solidFill>
                  <a:srgbClr val="000000"/>
                </a:solidFill>
                <a:latin typeface="Arial"/>
                <a:ea typeface="Times New Roman"/>
              </a:rPr>
              <a:t>. . . En el presente caso, Estados Unidos no niega que el Tratado esté en vigor, ni que el Artículo XXIV sea en general incapaz de conferir jurisdicción a la Corte. Reclama sin embargo que si el fundamento de la jurisdicción se limita al Tratado, en la medida que la demanda de Nicaragua no presenta ningún reclamo de alguna violación de éste,  entonces no hay propiamente ninguna demanda para la resolución judicial de la Corte. En orden a establecer la jurisdicción de la Corte sobre la presente controversia según el Tratado, Nicaragua debe establecer una conexión razonable entre el Tratado  y las demandas sometidas a la Corte;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0" y="0"/>
            <a:ext cx="9144000" cy="6858000"/>
          </a:xfrm>
          <a:prstGeom prst="rect">
            <a:avLst/>
          </a:prstGeom>
          <a:ln w="0">
            <a:noFill/>
          </a:ln>
        </p:spPr>
      </p:pic>
      <p:sp>
        <p:nvSpPr>
          <p:cNvPr id="87" name=""/>
          <p:cNvSpPr/>
          <p:nvPr/>
        </p:nvSpPr>
        <p:spPr>
          <a:xfrm>
            <a:off x="289080" y="1219320"/>
            <a:ext cx="8092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36.5 Estatuto de la Corte Internacional de Justi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eclaraciones hechas de acuerdo con el Artículo 36 del Estatuto de la Corte Permanente de Justicia Internacional que estén aún vigentes, serán consideradas, respecto de las partes en el presente Estatuto, como aceptación de la jurisdicción obligatoria de la Corte Internacional de Justicia por el período que aún les quede de vigencia y conforme a los términos de dichas decla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0" y="0"/>
            <a:ext cx="9144000" cy="6858000"/>
          </a:xfrm>
          <a:prstGeom prst="rect">
            <a:avLst/>
          </a:prstGeom>
          <a:ln w="0">
            <a:noFill/>
          </a:ln>
        </p:spPr>
      </p:pic>
      <p:sp>
        <p:nvSpPr>
          <p:cNvPr id="89" name=""/>
          <p:cNvSpPr/>
          <p:nvPr/>
        </p:nvSpPr>
        <p:spPr>
          <a:xfrm>
            <a:off x="746280" y="649440"/>
            <a:ext cx="816912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o Nicaragua (198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La modificación de la declaración unilateral estadounidense de 1946 (6 de abril de 198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La mencionada declaración no se aplicará a las controversias con cualquier Estado centroamericano o que surja o esté relacionada con hechos ocurridos en Centro América, cualquiera de estas controversias será solucionada de manera que las partes acue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perjuicio de los términos de dicha declaración, esta disposición tendrá efecto de inmediato y permanerá en vigor por dos años, de manera de promover la continuación del proceso de solución de controversia regional que busca una solución negociada a los problemas interrelacionados políticos, económicos y de seguridad en Centro Amé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70000" contrast="-70000"/>
          </a:blip>
          <a:stretch/>
        </p:blipFill>
        <p:spPr>
          <a:xfrm>
            <a:off x="0" y="0"/>
            <a:ext cx="9144000" cy="6858000"/>
          </a:xfrm>
          <a:prstGeom prst="rect">
            <a:avLst/>
          </a:prstGeom>
          <a:ln w="0">
            <a:noFill/>
          </a:ln>
        </p:spPr>
      </p:pic>
      <p:sp>
        <p:nvSpPr>
          <p:cNvPr id="91" name=""/>
          <p:cNvSpPr/>
          <p:nvPr/>
        </p:nvSpPr>
        <p:spPr>
          <a:xfrm>
            <a:off x="289080" y="268200"/>
            <a:ext cx="7940520" cy="64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so Nicaragua (198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ecto de la modificación introducida a su declaración por parte de Estados Unidos, la Corte señaló lo siguiente en relación con el argumento de la reciprocidad</a:t>
            </a:r>
            <a:r>
              <a:rPr b="0" lang="es-C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La noción de reciprocidad se refiere al ámbito y sustancia de la obligación asumidad, incluyendo las reservas, y no se refiere a las condiciones formales de su creación, duración o extinción. Aparece claro que la reciprocidad no se puede invocar para excusar un incumplimiento de los propios términos de la propia declaración del Estado, cualquiera que sea su ámbito, limitaciones o condiciones . . . (cita del caso Interhande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tención en vigor de la Declaración de los Estados Unidos por seis meses posteriores a la noticia de terminación es una obligación positiva, que surge de la cláusula sobre duración, pero la declaración de Nicaragua no contiene ninguna restricción expresa. Es claro por lo tanto que los Estados Unidos no se encuentran en la posición de invocar la reciprocidad como fundamento para su acción al realizar la notificación de 1984 que intentaba modificar el contenido de la declaración de 1946. Por el contrario, es Nicaragua quien está facultada para invocar la notificación de seis meses en contra de los Estados Unidos – no sobre la base de la reciprocidad, pero porque se trata de una obligación que es parte integral del instrumento que la contie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pic>
        <p:nvPicPr>
          <p:cNvPr id="45" name="" descr="Click here to enter the English section of the website">
            <a:hlinkClick r:id="rId2"/>
          </p:cNvPr>
          <p:cNvPicPr/>
          <p:nvPr/>
        </p:nvPicPr>
        <p:blipFill>
          <a:blip r:embed="rId3"/>
          <a:stretch/>
        </p:blipFill>
        <p:spPr>
          <a:xfrm>
            <a:off x="0" y="4437000"/>
            <a:ext cx="3600360" cy="1098720"/>
          </a:xfrm>
          <a:prstGeom prst="rect">
            <a:avLst/>
          </a:prstGeom>
          <a:ln w="0">
            <a:noFill/>
          </a:ln>
        </p:spPr>
      </p:pic>
      <p:sp>
        <p:nvSpPr>
          <p:cNvPr id="46" name=""/>
          <p:cNvSpPr/>
          <p:nvPr/>
        </p:nvSpPr>
        <p:spPr>
          <a:xfrm>
            <a:off x="4284720" y="544500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cc00"/>
                </a:solidFill>
                <a:latin typeface="Arial"/>
              </a:rPr>
              <a:t>http://www.icj-cij.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0" y="0"/>
            <a:ext cx="9144000" cy="6858000"/>
          </a:xfrm>
          <a:prstGeom prst="rect">
            <a:avLst/>
          </a:prstGeom>
          <a:ln w="0">
            <a:noFill/>
          </a:ln>
        </p:spPr>
      </p:pic>
      <p:sp>
        <p:nvSpPr>
          <p:cNvPr id="93" name=""/>
          <p:cNvSpPr/>
          <p:nvPr/>
        </p:nvSpPr>
        <p:spPr>
          <a:xfrm>
            <a:off x="441360" y="496800"/>
            <a:ext cx="8397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de España de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La retirada de la Declaración tendrá efectos una vez transcurrido un período de seis meses, contados a partir de la recepción por el Secretario General de las Naciones Unidas de la notificación correspondiente del Gobierno español. Sin embargo, respecto a Estados que hubieran establecido un período inferior a seis meses entre la notificación y la producción de efectos de la retirada de su Declaración, la retirada de la Declaración española surtirá efectos una vez transcurrido dicho plazo más bre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0" y="0"/>
            <a:ext cx="9144000" cy="6858000"/>
          </a:xfrm>
          <a:prstGeom prst="rect">
            <a:avLst/>
          </a:prstGeom>
          <a:ln w="0">
            <a:noFill/>
          </a:ln>
        </p:spPr>
      </p:pic>
      <p:sp>
        <p:nvSpPr>
          <p:cNvPr id="95" name=""/>
          <p:cNvSpPr/>
          <p:nvPr/>
        </p:nvSpPr>
        <p:spPr>
          <a:xfrm>
            <a:off x="304920" y="609480"/>
            <a:ext cx="8458200" cy="58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Sobre el retiro y modificación de las declar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dijo la Corte en el caso Nicar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59. Las declaraciones de aceptación de la jurisdicción obligatoria de la Corte son facultativas, compromisos unilaterales, que los Estados son absolutamente libres de hacer o no hacer. Al efectuar la declaración un Estado es igualmente libre para hacerlo incondicionalmente y sin límite de tiempo en cuanto a la duración, o de condicionarla con condiciones o reservas. En particular, puede limitar sus efectos a controversias que surjan después de un determinado día; o puede especificar cuánto tiempo permanecerá la declaración en vigencia, o qué anuncio (si es que se requiere alguno) se requerirá para su terminación. Sin embargo, la naturaleza unilateral de las declaraciones no significa que el Estado que hace la declaración sea libre para modificar el ámbito y el contenido de sus compromisos solemnes como quiera.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70000" contrast="-70000"/>
          </a:blip>
          <a:stretch/>
        </p:blipFill>
        <p:spPr>
          <a:xfrm>
            <a:off x="0" y="0"/>
            <a:ext cx="9144000" cy="6858000"/>
          </a:xfrm>
          <a:prstGeom prst="rect">
            <a:avLst/>
          </a:prstGeom>
          <a:ln w="0">
            <a:noFill/>
          </a:ln>
        </p:spPr>
      </p:pic>
      <p:sp>
        <p:nvSpPr>
          <p:cNvPr id="97" name=""/>
          <p:cNvSpPr/>
          <p:nvPr/>
        </p:nvSpPr>
        <p:spPr>
          <a:xfrm>
            <a:off x="376200" y="208080"/>
            <a:ext cx="8443800" cy="6218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tado Americano de Soluciones Pacíficas </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lang="es-ES" sz="2400" spc="-1" strike="noStrike">
                <a:solidFill>
                  <a:srgbClr val="000000"/>
                </a:solidFill>
                <a:latin typeface="Arial"/>
              </a:rPr>
              <a:t>Pacto de Bogotá”</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rtículo XXXI</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conformidad con el inciso 2º del artículo 36 del Estatuto de la Corte Internacional de Justicia, las Altas Partes Contratantes declaran que reconocen respecto a cualquier otro Estado Americano como obligatoria ipso facto, sin necesidad de ningún convenio especial mientras esté vigente el presente Tratado, la jurisdicción de la expresada Corte en todas las controversias de orden jurídico que surjan entre ellas y que versen sobre:</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interpretación de un Tratado;</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lquier cuestión de Derecho Internacional;</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existencia de todo hecho que, si fuere establecido, constituiría la violación de una obligación internacional;</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naturaleza o extensión de la reparación que ha de hacerse por el quebrantamiento de una obligación internac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0" y="0"/>
            <a:ext cx="9144000" cy="6858000"/>
          </a:xfrm>
          <a:prstGeom prst="rect">
            <a:avLst/>
          </a:prstGeom>
          <a:ln w="0">
            <a:noFill/>
          </a:ln>
        </p:spPr>
      </p:pic>
      <p:sp>
        <p:nvSpPr>
          <p:cNvPr id="99" name=""/>
          <p:cNvSpPr/>
          <p:nvPr/>
        </p:nvSpPr>
        <p:spPr>
          <a:xfrm>
            <a:off x="231840" y="423720"/>
            <a:ext cx="86612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cto de Bogot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V Dichos procedimientos no podrán aplicarse a las materias que por su esencia son de la jurisdicción interna del Estado. Si las partes no estuvieren de acuerdo en que la controversia se refiere a un asunto de jurisdicción interna, a solicitud de cualquiera de ellas esta cuestión previa será sometida a la decisión de la Corte Internacional de Justi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VI Tampoco podrán aplicarse dichos procedimientos a los asuntos ya resueltos por arreglo de las partes, o por laudo arbitral, o por sentencia de un tribunal internacional, o que se hallen regidos por acuerdos o tratados en vigencia en la fecha de la celebración del presente Pac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lum bright="70000" contrast="-70000"/>
          </a:blip>
          <a:stretch/>
        </p:blipFill>
        <p:spPr>
          <a:xfrm>
            <a:off x="0" y="0"/>
            <a:ext cx="9144000" cy="6858000"/>
          </a:xfrm>
          <a:prstGeom prst="rect">
            <a:avLst/>
          </a:prstGeom>
          <a:ln w="0">
            <a:noFill/>
          </a:ln>
        </p:spPr>
      </p:pic>
      <p:sp>
        <p:nvSpPr>
          <p:cNvPr id="101" name=""/>
          <p:cNvSpPr/>
          <p:nvPr/>
        </p:nvSpPr>
        <p:spPr>
          <a:xfrm>
            <a:off x="517680" y="1413000"/>
            <a:ext cx="8397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fecto Relativo de la Sen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59 Estatuto de la C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ecisión de la Corte no es obligatoria sino para las partes en litigio y respecto del caso que ha sido decid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lum bright="70000" contrast="-70000"/>
          </a:blip>
          <a:stretch/>
        </p:blipFill>
        <p:spPr>
          <a:xfrm>
            <a:off x="0" y="0"/>
            <a:ext cx="9144000" cy="6858000"/>
          </a:xfrm>
          <a:prstGeom prst="rect">
            <a:avLst/>
          </a:prstGeom>
          <a:ln w="0">
            <a:noFill/>
          </a:ln>
        </p:spPr>
      </p:pic>
      <p:sp>
        <p:nvSpPr>
          <p:cNvPr id="103" name=""/>
          <p:cNvSpPr/>
          <p:nvPr/>
        </p:nvSpPr>
        <p:spPr>
          <a:xfrm>
            <a:off x="593640" y="0"/>
            <a:ext cx="7788240" cy="652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del Monetary Gold (1954)</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primera petición en la demanda se centra en una demanda de indemnización de Italia en contra de Albania por un supuesto ilícito. Italia cree que ella posee  un derecho en contra de Albania para la reparación de un ilícito internacional que, según Italia, Albania habría cometido en contra de ella. Por lo tanto, en orden a determinar si Italia tiene derecho a recibir el oro, es necesario determinar si Albania ha cometido un ilícito internacional en contra de Italia, y si ella se encuentra obligada a pagarle una indemnización; y si eso es así, determinar también el monto de la indemnización. En orden a decidir estas preguntas, es necesario determinar si la Ley albanesa del 13  de enero de 1945, era contraria al derecho internacional. En la determinación de estas preguntas – preguntas que se refieren al carácter lícito o ilícito de ciertas acciones de Albania vis-à-vis Italia – sólo dos Estados, Italia y Albania, están directamente interesa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0" y="0"/>
            <a:ext cx="9144000" cy="6858000"/>
          </a:xfrm>
          <a:prstGeom prst="rect">
            <a:avLst/>
          </a:prstGeom>
          <a:ln w="0">
            <a:noFill/>
          </a:ln>
        </p:spPr>
      </p:pic>
      <p:sp>
        <p:nvSpPr>
          <p:cNvPr id="105" name=""/>
          <p:cNvSpPr/>
          <p:nvPr/>
        </p:nvSpPr>
        <p:spPr>
          <a:xfrm>
            <a:off x="457200" y="1981080"/>
            <a:ext cx="8474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Monetary Gold (195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sostuvo que en este caso el interés de un tercer Estado que no es parte en el procedimiento ante la Corte  “no sólo sería afectado por la decisión, sino que formaría la propia materia sobre la que versa la decis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lum bright="70000" contrast="-70000"/>
          </a:blip>
          <a:stretch/>
        </p:blipFill>
        <p:spPr>
          <a:xfrm>
            <a:off x="0" y="0"/>
            <a:ext cx="9144000" cy="6858000"/>
          </a:xfrm>
          <a:prstGeom prst="rect">
            <a:avLst/>
          </a:prstGeom>
          <a:ln w="0">
            <a:noFill/>
          </a:ln>
        </p:spPr>
      </p:pic>
      <p:sp>
        <p:nvSpPr>
          <p:cNvPr id="107" name=""/>
          <p:cNvSpPr/>
          <p:nvPr/>
        </p:nvSpPr>
        <p:spPr>
          <a:xfrm>
            <a:off x="822240" y="496800"/>
            <a:ext cx="7635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de Ciertas Tierras de Fosfato en Nauru (199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4. Sin embargo, un Estado que no es parte en un caso es libre de solicitar autorización para intervenir de acuerdo al artículo 62 del Estatuto, . .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la falta de dicha solicitud de ninguna manera previene que la Corte decida respecto de las demandas que le son sometidas, siempre que el interés jurídico del tercer Estado que pueda ser afectado no forme la cuestión misma de la decisión que se ha solicitado. Cuando la Corte está de esta manera facultada para actuar, los intereses del tercer Estado que no es parte del caso son protegidos por el artículo 59 del Estatuto de la Corte,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12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70000" contrast="-70000"/>
          </a:blip>
          <a:stretch/>
        </p:blipFill>
        <p:spPr>
          <a:xfrm>
            <a:off x="0" y="0"/>
            <a:ext cx="9144000" cy="6858000"/>
          </a:xfrm>
          <a:prstGeom prst="rect">
            <a:avLst/>
          </a:prstGeom>
          <a:ln w="0">
            <a:noFill/>
          </a:ln>
        </p:spPr>
      </p:pic>
      <p:sp>
        <p:nvSpPr>
          <p:cNvPr id="110" name=""/>
          <p:cNvSpPr/>
          <p:nvPr/>
        </p:nvSpPr>
        <p:spPr>
          <a:xfrm>
            <a:off x="517680" y="0"/>
            <a:ext cx="794052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pinión disidente de Sir Robert Jennings en el caso Naur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pina que los intereses de los tres países se encuentran inexorablemente entrelazados, debido al hecho que el mandato fue entregado a Su Majestad Británica y que el Acuerdo de Administración Fiduciaria de 1947 nombraba a los tres gobiernos (Australia, Nueva Zelanda y el Reino Unido) como la “Autoridad Administrador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Más aún, uno debe contemplar la situación que podría resultar si, al resolver el fondo, hubiera necesidad de avaluar la reparación que se puede exigir de Australia. Si las obligaciones de las cuales surge la responsabilidad son consideradas como solidarias, entonces Australia es responsable del total, o si, en la alternativa, Australia es considerada sólo responsable de una proporción de la suma total, es claro que en ambos casos la Corte inevitable y simultáneamente estará decidiendo respecto de los intereses jurídicos de los otros dos Esta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0" y="0"/>
            <a:ext cx="9144000" cy="6858000"/>
          </a:xfrm>
          <a:prstGeom prst="rect">
            <a:avLst/>
          </a:prstGeom>
          <a:ln w="0">
            <a:noFill/>
          </a:ln>
        </p:spPr>
      </p:pic>
      <p:sp>
        <p:nvSpPr>
          <p:cNvPr id="48" name=""/>
          <p:cNvSpPr/>
          <p:nvPr/>
        </p:nvSpPr>
        <p:spPr>
          <a:xfrm>
            <a:off x="533520" y="110808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rt</a:t>
            </a:r>
            <a:r>
              <a:rPr b="1" lang="es-CL" sz="2400" spc="-1" strike="noStrike" u="sng">
                <a:solidFill>
                  <a:srgbClr val="000000"/>
                </a:solidFill>
                <a:uFillTx/>
                <a:latin typeface="Arial"/>
              </a:rPr>
              <a:t>ículo 92</a:t>
            </a:r>
            <a:r>
              <a:rPr b="1" lang="es-CL" sz="2400" spc="-1" strike="noStrike">
                <a:solidFill>
                  <a:srgbClr val="000000"/>
                </a:solidFill>
                <a:latin typeface="Arial"/>
              </a:rPr>
              <a:t> (Carta de las Naciones Un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Internacional de Justicia será el órgano judicial principal de las Naciones Unidas; funcionará de conformidad con el Estatuto Anexo, que está basado en el de la Corte Permanente de Justicia Internacional, y que forma parte integrante de esta Car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1</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Internacional de Justicia establecida por la Carta de las Naciones Unidas como órgano judicial principal de las Naciones Unidas, quedará constituida y funcionará conforme a las disposiciones del presente Estatu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2"/>
          <a:stretch/>
        </p:blipFill>
        <p:spPr>
          <a:xfrm>
            <a:off x="5867280" y="3357720"/>
            <a:ext cx="2376720" cy="143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70000" contrast="-70000"/>
          </a:blip>
          <a:stretch/>
        </p:blipFill>
        <p:spPr>
          <a:xfrm>
            <a:off x="0" y="0"/>
            <a:ext cx="9144000" cy="6858000"/>
          </a:xfrm>
          <a:prstGeom prst="rect">
            <a:avLst/>
          </a:prstGeom>
          <a:ln w="0">
            <a:noFill/>
          </a:ln>
        </p:spPr>
      </p:pic>
      <p:sp>
        <p:nvSpPr>
          <p:cNvPr id="112" name=""/>
          <p:cNvSpPr/>
          <p:nvPr/>
        </p:nvSpPr>
        <p:spPr>
          <a:xfrm>
            <a:off x="593640" y="420840"/>
            <a:ext cx="83217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de Timor Oriental (199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8. La Corte ha considerado cuidadosamente el argumento presentado por Portugal que busca separar la conducta de Australia de la de Indonesia. Sin embargo, en opinión de la Corte, la conducta de Australia no se puede evaluar sin entrar primero en la cuestión de por qué es que Indonesia no podría haber lícitamente concluido el Tratado de 1989, mientras que Portugal sí podría haberlo hecho; la materia misma de la decisión de la Corte necesariamente será una determinación sobre si, teniendo en cuenta las circunstancias en que Indonesia entró y permaneció en Timor Oriental, ella podría o no haber adquirido el poder para celebrar tratados en representación de Timor Oriental relativos a los recursos de la plataforma continental. La Corte no hará tal determinación en ausencia del consentimiento de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8580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lum bright="70000" contrast="-70000"/>
          </a:blip>
          <a:stretch/>
        </p:blipFill>
        <p:spPr>
          <a:xfrm>
            <a:off x="0" y="0"/>
            <a:ext cx="9144000" cy="6858000"/>
          </a:xfrm>
          <a:prstGeom prst="rect">
            <a:avLst/>
          </a:prstGeom>
          <a:ln w="0">
            <a:noFill/>
          </a:ln>
        </p:spPr>
      </p:pic>
      <p:sp>
        <p:nvSpPr>
          <p:cNvPr id="116" name=""/>
          <p:cNvSpPr/>
          <p:nvPr/>
        </p:nvSpPr>
        <p:spPr>
          <a:xfrm>
            <a:off x="365040" y="344520"/>
            <a:ext cx="824544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Intervención de Terceros Estado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3 del Estatu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se trate de la interpretación de una convención en la cual sean partes otros Estados además de las partes en litigio, el Secretario notificará inmediatamente a todos los Estados interesado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 Estado así notificado tendrá derecho a intervenr en el proceso; pero si ejerce ese derecho, la interpretación contenida en el fallo será igualmente obligatoria para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70000" contrast="-70000"/>
          </a:blip>
          <a:stretch/>
        </p:blipFill>
        <p:spPr>
          <a:xfrm>
            <a:off x="0" y="0"/>
            <a:ext cx="9144000" cy="6858000"/>
          </a:xfrm>
          <a:prstGeom prst="rect">
            <a:avLst/>
          </a:prstGeom>
          <a:ln w="0">
            <a:noFill/>
          </a:ln>
        </p:spPr>
      </p:pic>
      <p:sp>
        <p:nvSpPr>
          <p:cNvPr id="118" name=""/>
          <p:cNvSpPr/>
          <p:nvPr/>
        </p:nvSpPr>
        <p:spPr>
          <a:xfrm>
            <a:off x="669960" y="420840"/>
            <a:ext cx="7940520" cy="3751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Intervención de Terceros Estado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2 del Estatu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n Estado considerare que tiene un interés de orden jurídico  que puede ser afectado por la decisión del litigio, podrá pedir a la Corte que le permita intervenir.</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decidirá con respecto a dicha petic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0" y="0"/>
            <a:ext cx="9144000" cy="6858000"/>
          </a:xfrm>
          <a:prstGeom prst="rect">
            <a:avLst/>
          </a:prstGeom>
          <a:ln w="0">
            <a:noFill/>
          </a:ln>
        </p:spPr>
      </p:pic>
      <p:sp>
        <p:nvSpPr>
          <p:cNvPr id="120" name=""/>
          <p:cNvSpPr/>
          <p:nvPr/>
        </p:nvSpPr>
        <p:spPr>
          <a:xfrm>
            <a:off x="533520" y="380880"/>
            <a:ext cx="8229600" cy="61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Reglas de la Corte (aprobadas el 14 de abril de 1978)</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Artículo 81</a:t>
            </a:r>
            <a:endParaRPr b="0" lang="en-US" sz="22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solicitud de autorización para intervenir bajo los términos del artículo 62 del Estatuto, firmada en la manera establecida en el artículo 38, párrafo 3 de estas Reglas, deberá ser presentada lo más pronto posible, y no después del término del procedimiento escrito.  En circunstancias excepcionales, una solicitud presentada con posterioridad podría sin embargo ser admitida.</a:t>
            </a:r>
            <a:endParaRPr b="0" lang="en-US" sz="22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solicitud debe indicar el nombre del agente. Deberá especificar el caso al cual se refiere, y deberá señalar:</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interés de naturaleza jurídica que el Estado que solicita intervenir considera que puede ser afectado por la decisión en ese caso;</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objeto preciso de la intervención;</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lquier fundamento de jurisdicción que se afirme existir entre el Estado que solicita intervenir y las partes del cas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5040" y="344520"/>
            <a:ext cx="8016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1"/>
          <a:stretch/>
        </p:blipFill>
        <p:spPr>
          <a:xfrm>
            <a:off x="1371600" y="1314360"/>
            <a:ext cx="6629400" cy="501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609480" y="0"/>
            <a:ext cx="7772400" cy="6858000"/>
          </a:xfrm>
          <a:prstGeom prst="rect">
            <a:avLst/>
          </a:prstGeom>
          <a:ln w="0">
            <a:noFill/>
          </a:ln>
        </p:spPr>
      </p:pic>
      <p:sp>
        <p:nvSpPr>
          <p:cNvPr id="124" name=""/>
          <p:cNvSpPr/>
          <p:nvPr/>
        </p:nvSpPr>
        <p:spPr>
          <a:xfrm>
            <a:off x="669960" y="268200"/>
            <a:ext cx="79405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obre el vínculo jurisidiccional entre el Estado que interviene y las partes litiga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96. . . .La competencia de la Corte en esta cuestión de intervención no deriva, como la competencia para conocer y determinar la controversia que le ha sido referida, del consentimiento de las partes en el caso, sino del consentimiento dado por ellas, al convertirse en partes del Estatuto de la Corte, al ejercicio por parte de la Corte de las facultades concedidas en el Estatuto... [l]a aceptación del Estatuto envuelve la aceptación de la competencia conferida a la Corte por el Artículo 62. De esta manera tiene la competencia de permitir la intervención incluso cuando ésta es opuesta por una o ambas de las partes en el caso;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lum bright="70000" contrast="-70000"/>
          </a:blip>
          <a:stretch/>
        </p:blipFill>
        <p:spPr>
          <a:xfrm>
            <a:off x="0" y="0"/>
            <a:ext cx="9144000" cy="6858000"/>
          </a:xfrm>
          <a:prstGeom prst="rect">
            <a:avLst/>
          </a:prstGeom>
          <a:ln w="0">
            <a:noFill/>
          </a:ln>
        </p:spPr>
      </p:pic>
      <p:sp>
        <p:nvSpPr>
          <p:cNvPr id="126" name=""/>
          <p:cNvSpPr/>
          <p:nvPr/>
        </p:nvSpPr>
        <p:spPr>
          <a:xfrm>
            <a:off x="593640" y="260280"/>
            <a:ext cx="7712280" cy="64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biendo permitido a Nicaragua intervenir sin necesidad de demostrar un vínculo jurisdiccional, la Corte estimó que el ámbito de la intervención tenía limi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97. La intervención según el artículo 62 del Estatuto tiene el propósito de proteger el interés de naturaleza jurídica de un Estado que pueda ser afectado por una decisión en un caso ya establecido entre otros Estados, esto es, entre las partes en el caso. No tiene la intención de permitir a un tercero Estado tratar un nuevo caso, convertirse en una nueva parte, y de esa manera obtener que sus propias demandas sean resueltas por la Corte. Un caso con una nueva parte, y nuevas cuestiones a ser dedicidas, sería un nuevo caso. La diferencia entre la intervención del Artículo 62 y la inclusión de una nueva parte al caso no es sólo una diferencia de grado sino una diferencia en especi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0" y="0"/>
            <a:ext cx="9144000" cy="6858000"/>
          </a:xfrm>
          <a:prstGeom prst="rect">
            <a:avLst/>
          </a:prstGeom>
          <a:ln w="0">
            <a:noFill/>
          </a:ln>
        </p:spPr>
      </p:pic>
      <p:sp>
        <p:nvSpPr>
          <p:cNvPr id="128" name=""/>
          <p:cNvSpPr/>
          <p:nvPr/>
        </p:nvSpPr>
        <p:spPr>
          <a:xfrm>
            <a:off x="365040" y="420840"/>
            <a:ext cx="8169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99. La intervención no puede haber sido establecida con la intención de ser usada como un sustituto para el procedimiento contencioso. . . . Si se considerara que un interventor se convierte en parte en el caso meramente como consecuencia de haberle sido permitido intervenir, esto sería alejarse considerablemente del principio de la jurisdicción consens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claro por lo tanto que un Estado a quien le es permitido intervenir en el caso, no se transforma por razón solamente de ser un interventor, en parte en el cas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70000" contrast="-70000"/>
          </a:blip>
          <a:stretch/>
        </p:blipFill>
        <p:spPr>
          <a:xfrm>
            <a:off x="0" y="0"/>
            <a:ext cx="9144000" cy="6858000"/>
          </a:xfrm>
          <a:prstGeom prst="rect">
            <a:avLst/>
          </a:prstGeom>
          <a:ln w="0">
            <a:noFill/>
          </a:ln>
        </p:spPr>
      </p:pic>
      <p:sp>
        <p:nvSpPr>
          <p:cNvPr id="51" name=""/>
          <p:cNvSpPr/>
          <p:nvPr/>
        </p:nvSpPr>
        <p:spPr>
          <a:xfrm>
            <a:off x="468360" y="620640"/>
            <a:ext cx="8474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2</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será un cuerpo de magistrados independientemente elegidos, sin tener en cuenta su nacionalidad, de entre personas que gocen de alta consideración moral y que reúnan las condiciones requeridas para el ejercicio de las más altas funciones judiciales en sus respectivos países, o que sean jurisconsultos de reconocida competencia en materia de derecho internacional.</a:t>
            </a:r>
            <a:endParaRPr b="0" lang="en-US" sz="2400" spc="-1" strike="noStrike">
              <a:solidFill>
                <a:srgbClr val="000000"/>
              </a:solidFill>
              <a:latin typeface="Arial"/>
            </a:endParaRPr>
          </a:p>
        </p:txBody>
      </p:sp>
      <p:pic>
        <p:nvPicPr>
          <p:cNvPr id="52" name="" descr=""/>
          <p:cNvPicPr/>
          <p:nvPr/>
        </p:nvPicPr>
        <p:blipFill>
          <a:blip r:embed="rId2"/>
          <a:stretch/>
        </p:blipFill>
        <p:spPr>
          <a:xfrm>
            <a:off x="4067280" y="4210200"/>
            <a:ext cx="3436920" cy="2560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304920" y="0"/>
            <a:ext cx="8381880" cy="6858000"/>
          </a:xfrm>
          <a:prstGeom prst="rect">
            <a:avLst/>
          </a:prstGeom>
          <a:ln w="0">
            <a:noFill/>
          </a:ln>
        </p:spPr>
      </p:pic>
      <p:sp>
        <p:nvSpPr>
          <p:cNvPr id="130" name=""/>
          <p:cNvSpPr/>
          <p:nvPr/>
        </p:nvSpPr>
        <p:spPr>
          <a:xfrm>
            <a:off x="746280" y="496800"/>
            <a:ext cx="75596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das precautorias</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das provisionales de protecc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4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tendrá facultad para indicar, si considera que las circunstancias así lo exigen, las medidas provisionales que deban tomarse para resguardar los derechos de cada una de las part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entras se pronuncia el fallo, se notificarán inmediatamente a las partes y al Consejo de Seguridad las medidas indic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0" y="0"/>
            <a:ext cx="9144000" cy="6858000"/>
          </a:xfrm>
          <a:prstGeom prst="rect">
            <a:avLst/>
          </a:prstGeom>
          <a:ln w="0">
            <a:noFill/>
          </a:ln>
        </p:spPr>
      </p:pic>
      <p:sp>
        <p:nvSpPr>
          <p:cNvPr id="132" name=""/>
          <p:cNvSpPr/>
          <p:nvPr/>
        </p:nvSpPr>
        <p:spPr>
          <a:xfrm>
            <a:off x="898560" y="954000"/>
            <a:ext cx="7559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Breard (Paraguay vs. Estados Uni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3. Si bien respecto de una solicitud de indicación de medidas provisionales la Corte no necesita, antes de decidir si indicarlas o no, estar finalmente satisfecha  de si tiene jurisdicción sobre el fondo del caso, ella no puede indicarlas a menos que las disposiciones invocadas por la demandante aparezcan prima facie otorgando una base sobre la cual la jurisdicción de la Corte se pueda fun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144000" cy="6858000"/>
          </a:xfrm>
          <a:prstGeom prst="rect">
            <a:avLst/>
          </a:prstGeom>
          <a:ln w="0">
            <a:noFill/>
          </a:ln>
        </p:spPr>
      </p:pic>
      <p:sp>
        <p:nvSpPr>
          <p:cNvPr id="134" name=""/>
          <p:cNvSpPr/>
          <p:nvPr/>
        </p:nvSpPr>
        <p:spPr>
          <a:xfrm>
            <a:off x="669960" y="573120"/>
            <a:ext cx="7940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so Breard (199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 provisional orden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tados Unidos deberán tomar todas las medidas a su disposición para asegurarse que Angel Francisco Breard no sea ejecutada mientras se encuentre pendiente una decisión final este procedimiento, y deberá informar a la Corte de todas aquellas medidas que haya tomado al implementar esta 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0" y="0"/>
            <a:ext cx="9144000" cy="6858000"/>
          </a:xfrm>
          <a:prstGeom prst="rect">
            <a:avLst/>
          </a:prstGeom>
          <a:ln w="0">
            <a:noFill/>
          </a:ln>
        </p:spPr>
      </p:pic>
      <p:sp>
        <p:nvSpPr>
          <p:cNvPr id="136" name=""/>
          <p:cNvSpPr/>
          <p:nvPr/>
        </p:nvSpPr>
        <p:spPr>
          <a:xfrm>
            <a:off x="517680" y="496800"/>
            <a:ext cx="816912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96 de la Carta de las Naciones Unid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samblea General o el Consejo de Seguridad podrán solicitar de la Corte Internacional de Justicia que emita una opinión consultiva sobre cualquier cuestión jurídic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otros órganos de las Naciones Unidas y los organismos especializados que en cualquier momento sean autorizados para ello por la Asamblea General, podrán igualmente solicitar de la Corte opiniones consultivas sobre cuestiones jurídicas que surjan dentro de la esfera de sus activid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0" y="0"/>
            <a:ext cx="9144000" cy="6858000"/>
          </a:xfrm>
          <a:prstGeom prst="rect">
            <a:avLst/>
          </a:prstGeom>
          <a:ln w="0">
            <a:noFill/>
          </a:ln>
        </p:spPr>
      </p:pic>
      <p:sp>
        <p:nvSpPr>
          <p:cNvPr id="138" name=""/>
          <p:cNvSpPr/>
          <p:nvPr/>
        </p:nvSpPr>
        <p:spPr>
          <a:xfrm>
            <a:off x="669960" y="649440"/>
            <a:ext cx="8016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5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La Corte podrá emitir opiniones consultivas respecto de cualquier cuestión jurídica, a solicitud de cualquier organismo autorizado para ello por la Carta de las Naciones Unidas, o de acuerdo con las disposiciones de la mis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0" y="0"/>
            <a:ext cx="9144000" cy="6858000"/>
          </a:xfrm>
          <a:prstGeom prst="rect">
            <a:avLst/>
          </a:prstGeom>
          <a:ln w="0">
            <a:noFill/>
          </a:ln>
        </p:spPr>
      </p:pic>
      <p:sp>
        <p:nvSpPr>
          <p:cNvPr id="140" name=""/>
          <p:cNvSpPr/>
          <p:nvPr/>
        </p:nvSpPr>
        <p:spPr>
          <a:xfrm>
            <a:off x="457200" y="1523880"/>
            <a:ext cx="8169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8 Estatu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ejercicio de sus funciones consultivas, la Corte se guiará además por las disposiciones de este Estatuto que rijan en materia contenciosa, en la medida en que la propia Corte las considere aplic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70000" contrast="-70000"/>
          </a:blip>
          <a:stretch/>
        </p:blipFill>
        <p:spPr>
          <a:xfrm>
            <a:off x="0" y="0"/>
            <a:ext cx="9144000" cy="6858000"/>
          </a:xfrm>
          <a:prstGeom prst="rect">
            <a:avLst/>
          </a:prstGeom>
          <a:ln w="0">
            <a:noFill/>
          </a:ln>
        </p:spPr>
      </p:pic>
      <p:sp>
        <p:nvSpPr>
          <p:cNvPr id="142" name=""/>
          <p:cNvSpPr/>
          <p:nvPr/>
        </p:nvSpPr>
        <p:spPr>
          <a:xfrm>
            <a:off x="746280" y="725400"/>
            <a:ext cx="7407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102 Reglamen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2. La Corte también se guiará por las  disposiciones del Estatuto y las de este Reglamento que se aplican en casos contenciosos en la medida que ella estime que ellas son aplicables.  Con este propósito, ella considerará sobretodo si la solicitud de una opinión consultiva se relaciona con una cuestión jurídica pendiente entre dos o más Es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Times New Roman"/>
              </a:rPr>
              <a:t>3. Cuando una opinión consultiva se solicita sobre una cuestión jurídica actualmente pendiente entre dos o más Estados, el artículo 31 el Estatuto se aplicará, como también las disposiciones de este Reglamento que se refieran a ese Artícu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lum bright="70000" contrast="-70000"/>
          </a:blip>
          <a:stretch/>
        </p:blipFill>
        <p:spPr>
          <a:xfrm>
            <a:off x="0" y="0"/>
            <a:ext cx="9144000" cy="6858000"/>
          </a:xfrm>
          <a:prstGeom prst="rect">
            <a:avLst/>
          </a:prstGeom>
          <a:ln w="0">
            <a:noFill/>
          </a:ln>
        </p:spPr>
      </p:pic>
      <p:sp>
        <p:nvSpPr>
          <p:cNvPr id="144" name=""/>
          <p:cNvSpPr/>
          <p:nvPr/>
        </p:nvSpPr>
        <p:spPr>
          <a:xfrm>
            <a:off x="669960" y="573120"/>
            <a:ext cx="7864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pinión  de la CPJI en el caso de Carelia Oriental (192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gunta que el Consejo de la Liga de las Naciones sometió a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ituyen los artículos 10 y 11 del Tratado de Paz entre Finlandia y Rusia, . . .y la Declaración de la Delegación Rusa anexa, relativa a la autonomía de Carelia Oriental, compromisos de carácter internacional que pongan a Rusia respecto de Finlandia en la obligación de cumplir con sus disposi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0" y="0"/>
            <a:ext cx="9144000" cy="6858000"/>
          </a:xfrm>
          <a:prstGeom prst="rect">
            <a:avLst/>
          </a:prstGeom>
          <a:ln w="0">
            <a:noFill/>
          </a:ln>
        </p:spPr>
      </p:pic>
      <p:sp>
        <p:nvSpPr>
          <p:cNvPr id="146" name=""/>
          <p:cNvSpPr/>
          <p:nvPr/>
        </p:nvSpPr>
        <p:spPr>
          <a:xfrm>
            <a:off x="441360" y="496800"/>
            <a:ext cx="824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pinión  de la CPJI en el caso de Carelia Oriental (192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La cuestión sometida a la Corte no es una sobre el derecho abstracto, sino que se refiere directamente al punto central de la controversia entre Finlandia y Rusia, y sólo puede ser decida a través de una investigación de los hechos sobre los que subyace el caso. Responder a la pregunta sería sustancialmente equivalente a decidir la controversia entre las partes. La Corte, siendo una corte de justicia, no puede, incluso al emitir opiniones consultivas, alejarse de las reglas esenciales que guían su actividad como tribu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lum bright="70000" contrast="-70000"/>
          </a:blip>
          <a:stretch/>
        </p:blipFill>
        <p:spPr>
          <a:xfrm>
            <a:off x="0" y="0"/>
            <a:ext cx="9144000" cy="6858000"/>
          </a:xfrm>
          <a:prstGeom prst="rect">
            <a:avLst/>
          </a:prstGeom>
          <a:ln w="0">
            <a:noFill/>
          </a:ln>
        </p:spPr>
      </p:pic>
      <p:sp>
        <p:nvSpPr>
          <p:cNvPr id="148" name=""/>
          <p:cNvSpPr/>
          <p:nvPr/>
        </p:nvSpPr>
        <p:spPr>
          <a:xfrm>
            <a:off x="746280" y="801720"/>
            <a:ext cx="755964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pinión Consultiva sobre el Sahara Occidental (197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Pregunta sometida a la Corte por la Asamblea Gene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Era Sahara Occidental al tiempo de la colonización española un territorio perteneciente a nadie (terra nullius). Si la respuesta a la primera pregunta es negativ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2.  ¿</a:t>
            </a:r>
            <a:r>
              <a:rPr b="0" lang="he-IL" sz="2400" spc="-1" strike="noStrike">
                <a:solidFill>
                  <a:srgbClr val="000000"/>
                </a:solidFill>
                <a:latin typeface="Arial"/>
                <a:ea typeface="Times New Roman"/>
              </a:rPr>
              <a:t>Cuáles eran los lazos jurídicos entre este territorio y el Reino de Marruecos y la entidad de Mauritani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tretch/>
        </p:blipFill>
        <p:spPr>
          <a:xfrm>
            <a:off x="0" y="0"/>
            <a:ext cx="9144000" cy="6858000"/>
          </a:xfrm>
          <a:prstGeom prst="rect">
            <a:avLst/>
          </a:prstGeom>
          <a:ln w="0">
            <a:noFill/>
          </a:ln>
        </p:spPr>
      </p:pic>
      <p:sp>
        <p:nvSpPr>
          <p:cNvPr id="54" name=""/>
          <p:cNvSpPr/>
          <p:nvPr/>
        </p:nvSpPr>
        <p:spPr>
          <a:xfrm>
            <a:off x="441360" y="333360"/>
            <a:ext cx="870264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3</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se compondrá de quince miembros, de los cuales no podrá haber dos que sean nacionales del mismo Estad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9</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toda elección, los electores tendrán en cuenta no sólo que las personas que hayan de elegirse reúnan individualmente las condiciones requeridas, sino también que en el conjunto estén representadas las grandes civilizaciones y los principales sistemas jurídicos del mundo.</a:t>
            </a:r>
            <a:endParaRPr b="0" lang="en-US" sz="2400" spc="-1" strike="noStrike">
              <a:solidFill>
                <a:srgbClr val="000000"/>
              </a:solidFill>
              <a:latin typeface="Arial"/>
            </a:endParaRPr>
          </a:p>
        </p:txBody>
      </p:sp>
      <p:pic>
        <p:nvPicPr>
          <p:cNvPr id="55" name="" descr=""/>
          <p:cNvPicPr/>
          <p:nvPr/>
        </p:nvPicPr>
        <p:blipFill>
          <a:blip r:embed="rId2"/>
          <a:stretch/>
        </p:blipFill>
        <p:spPr>
          <a:xfrm>
            <a:off x="5076720" y="4881600"/>
            <a:ext cx="3816360" cy="1628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70000" contrast="-70000"/>
          </a:blip>
          <a:stretch/>
        </p:blipFill>
        <p:spPr>
          <a:xfrm>
            <a:off x="0" y="0"/>
            <a:ext cx="9144000" cy="6858000"/>
          </a:xfrm>
          <a:prstGeom prst="rect">
            <a:avLst/>
          </a:prstGeom>
          <a:ln w="0">
            <a:noFill/>
          </a:ln>
        </p:spPr>
      </p:pic>
      <p:sp>
        <p:nvSpPr>
          <p:cNvPr id="150" name=""/>
          <p:cNvSpPr/>
          <p:nvPr/>
        </p:nvSpPr>
        <p:spPr>
          <a:xfrm>
            <a:off x="365040" y="573120"/>
            <a:ext cx="83217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pinión Consultiva sobre el Sahara Occidental (197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35</a:t>
            </a:r>
            <a:r>
              <a:rPr b="0" lang="es-CL" sz="2400" spc="-1" strike="noStrike">
                <a:solidFill>
                  <a:srgbClr val="000000"/>
                </a:solidFill>
                <a:latin typeface="Arial"/>
                <a:ea typeface="Times New Roman"/>
              </a:rPr>
              <a:t>. </a:t>
            </a:r>
            <a:r>
              <a:rPr b="0" lang="es-CL" sz="1800" spc="-1" strike="noStrike">
                <a:solidFill>
                  <a:srgbClr val="000000"/>
                </a:solidFill>
                <a:latin typeface="Arial"/>
                <a:ea typeface="Times New Roman"/>
              </a:rPr>
              <a:t>El objeto de la Asamblea General no ha sido el de traer ante la Corte, por medio de una solicitud de una opinión consultiva, una disputa o controversia jurídica, de manera que se pueda posteriormente sobre la base de la opinión de la Corte, ejercer sus poderes y funciones para la solución pacífica de esa controversia o disputa.  El objeto de la solicitud es uno enteramente diferente: obtener de la Corte una opinión que la Asamblea General considera de ayuda para el ejercicio apropiado de sus funciones relativas a la descolonización del territo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42. . . .La cuestión entre Marruecos y España relativa al Sahara Occidental no es una que se refiera al estatus jurídico del territorio hoy en día, sino una referida a los derechos de Marruecos sobre él al tiempo de la colonización. La respuesta a esta cuestión no afectará los derechos de España  hoy en día como Potencia administradora, pero ayudará a la Asamblea General a decidir la política que debe seguirse en orden a acelerar el proceso de descolonización en el territorio.  Se sigue que la posición jurídica del Estado que ha denegado su consentimiento a este procedimiento no está “de ninguna manera comprometida por las respuestas que la Corte pueda dar a las preguntas que se le han some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9360" y="585720"/>
            <a:ext cx="9125280" cy="5686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El Palacio de la Paz, sede de la Corte Internacional de Justicia.">
            <a:hlinkClick r:id="rId1"/>
          </p:cNvPr>
          <p:cNvPicPr/>
          <p:nvPr/>
        </p:nvPicPr>
        <p:blipFill>
          <a:blip r:embed="rId2"/>
          <a:stretch/>
        </p:blipFill>
        <p:spPr>
          <a:xfrm>
            <a:off x="-76320" y="-57240"/>
            <a:ext cx="9220320" cy="6915240"/>
          </a:xfrm>
          <a:prstGeom prst="rect">
            <a:avLst/>
          </a:prstGeom>
          <a:ln w="0">
            <a:noFill/>
          </a:ln>
        </p:spPr>
      </p:pic>
      <p:sp>
        <p:nvSpPr>
          <p:cNvPr id="153" name=""/>
          <p:cNvSpPr/>
          <p:nvPr/>
        </p:nvSpPr>
        <p:spPr>
          <a:xfrm>
            <a:off x="3132000" y="0"/>
            <a:ext cx="6012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nternational Court of Justice,</a:t>
            </a:r>
            <a:br>
              <a:rPr sz="2400"/>
            </a:br>
            <a:r>
              <a:rPr b="1" lang="en-GB" sz="2400" spc="-1" strike="noStrike">
                <a:solidFill>
                  <a:srgbClr val="000000"/>
                </a:solidFill>
                <a:latin typeface="Arial"/>
              </a:rPr>
              <a:t>is offering five two-month internships for summer 2007 (from 1 July 2007)</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ship No. 1</a:t>
            </a:r>
            <a:br>
              <a:rPr sz="2400"/>
            </a:br>
            <a:r>
              <a:rPr b="1" lang="en-GB" sz="2400" spc="-1" strike="noStrike">
                <a:solidFill>
                  <a:srgbClr val="000000"/>
                </a:solidFill>
                <a:latin typeface="Arial"/>
              </a:rPr>
              <a:t>Internship with the Legal Department</a:t>
            </a:r>
            <a:r>
              <a:rPr b="0" lang="es-ES_tradnl"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ttp://www.icj-cij.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lum bright="70000" contrast="-70000"/>
          </a:blip>
          <a:stretch/>
        </p:blipFill>
        <p:spPr>
          <a:xfrm>
            <a:off x="0" y="0"/>
            <a:ext cx="9144000" cy="6858000"/>
          </a:xfrm>
          <a:prstGeom prst="rect">
            <a:avLst/>
          </a:prstGeom>
          <a:ln w="0">
            <a:noFill/>
          </a:ln>
        </p:spPr>
      </p:pic>
      <p:sp>
        <p:nvSpPr>
          <p:cNvPr id="58" name=""/>
          <p:cNvSpPr/>
          <p:nvPr/>
        </p:nvSpPr>
        <p:spPr>
          <a:xfrm>
            <a:off x="2124000" y="333360"/>
            <a:ext cx="669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pic>
        <p:nvPicPr>
          <p:cNvPr id="59" name="" descr="higgins.jpg (14304 bytes)"/>
          <p:cNvPicPr/>
          <p:nvPr/>
        </p:nvPicPr>
        <p:blipFill>
          <a:blip r:embed="rId2"/>
          <a:stretch/>
        </p:blipFill>
        <p:spPr>
          <a:xfrm>
            <a:off x="0" y="0"/>
            <a:ext cx="1800360" cy="2314440"/>
          </a:xfrm>
          <a:prstGeom prst="rect">
            <a:avLst/>
          </a:prstGeom>
          <a:ln w="0">
            <a:noFill/>
          </a:ln>
        </p:spPr>
      </p:pic>
      <p:sp>
        <p:nvSpPr>
          <p:cNvPr id="60" name=""/>
          <p:cNvSpPr/>
          <p:nvPr/>
        </p:nvSpPr>
        <p:spPr>
          <a:xfrm>
            <a:off x="2195640" y="290520"/>
            <a:ext cx="6553080" cy="100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esident Rosalyn HIGGI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ember of the Court since 12 July 1995;  re-elected as from 6 February 2000;  </a:t>
            </a:r>
            <a:br>
              <a:rPr sz="1500"/>
            </a:br>
            <a:r>
              <a:rPr b="1" lang="en-GB" sz="1500" spc="-1" strike="noStrike">
                <a:solidFill>
                  <a:srgbClr val="000000"/>
                </a:solidFill>
                <a:latin typeface="Arial"/>
              </a:rPr>
              <a:t>President of the Court since 6 February 2006</a:t>
            </a:r>
            <a:endParaRPr b="0" lang="en-US" sz="1500" spc="-1" strike="noStrike">
              <a:solidFill>
                <a:srgbClr val="000000"/>
              </a:solidFill>
              <a:latin typeface="Arial"/>
            </a:endParaRPr>
          </a:p>
        </p:txBody>
      </p:sp>
      <p:graphicFrame>
        <p:nvGraphicFramePr>
          <p:cNvPr id="61" name=""/>
          <p:cNvGraphicFramePr/>
          <p:nvPr/>
        </p:nvGraphicFramePr>
        <p:xfrm>
          <a:off x="1763640" y="1555920"/>
          <a:ext cx="7380360" cy="5155920"/>
        </p:xfrm>
        <a:graphic>
          <a:graphicData uri="http://schemas.openxmlformats.org/presentationml/2006/ole">
            <p:oleObj r:id="rId3" spid="">
              <p:embed/>
              <p:pic>
                <p:nvPicPr>
                  <p:cNvPr id="62" name="" descr=""/>
                  <p:cNvPicPr/>
                  <p:nvPr/>
                </p:nvPicPr>
                <p:blipFill>
                  <a:blip r:embed="rId4"/>
                  <a:stretch/>
                </p:blipFill>
                <p:spPr>
                  <a:xfrm>
                    <a:off x="1763640" y="1555920"/>
                    <a:ext cx="7380360" cy="515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24000" y="0"/>
            <a:ext cx="8550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ección de los miembros de la C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4</a:t>
            </a:r>
            <a:r>
              <a:rPr b="0"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Los miembros de la Corte serán elegidos por la Asamblea General y el Consejo de Seguridad de una nómina de candidatos propuestos por los grupos nacionales de la Corte Permanente de Arbitraje, de conformidad con las disposiciones sigui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8</a:t>
            </a:r>
            <a:r>
              <a:rPr b="0"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samblea General y el Consejo de Seguridad procederán independientemente a la elección de los miembros de la Corte</a:t>
            </a:r>
            <a:endParaRPr b="0" lang="en-US" sz="2400" spc="-1" strike="noStrike">
              <a:solidFill>
                <a:srgbClr val="000000"/>
              </a:solidFill>
              <a:latin typeface="Arial"/>
            </a:endParaRPr>
          </a:p>
        </p:txBody>
      </p:sp>
      <p:pic>
        <p:nvPicPr>
          <p:cNvPr id="65" name="" descr=""/>
          <p:cNvPicPr/>
          <p:nvPr/>
        </p:nvPicPr>
        <p:blipFill>
          <a:blip r:embed="rId2"/>
          <a:stretch/>
        </p:blipFill>
        <p:spPr>
          <a:xfrm>
            <a:off x="5364000" y="4869000"/>
            <a:ext cx="3311640" cy="19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746280" y="574560"/>
            <a:ext cx="778824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ección de los miembros de la CIJ</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10 (Estatuto)</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onsiderarán electos los candidatos que obtengan una mayoría absoluta de votos en la Asamblea General y en el Consejo de Seguridad.</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s votaciones del Consejo de Seguridad, sean para elegir magistrados o para designar los miembros de la comisión prevista en el artículo 12, no habrá distinción alguna entre miembros permanentes y miembros no permanentes del Consejo de Seguridad.</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 que más de un nacional de un mismo Estado obtenga una mayoría absoluta de votos tanto en la Asamblea General como en el Consejo de Seguridad, se considerará electo el de mayor edad.</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24000" y="404640"/>
            <a:ext cx="862632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13  </a:t>
            </a:r>
            <a:r>
              <a:rPr b="1" lang="es-CL" sz="2400" spc="-1" strike="noStrike">
                <a:solidFill>
                  <a:srgbClr val="000000"/>
                </a:solidFill>
                <a:latin typeface="Arial"/>
              </a:rPr>
              <a:t>(Estatu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miembros de la Corte desempeñarán sus cargos por nueve años, y podrán ser reelectos. Sin embargo, el período de cinco de los magistrados electos en la primera elección expirará a los tres años, y el período de otros cinco magistrados expirará a los seis año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pic>
        <p:nvPicPr>
          <p:cNvPr id="70" name="" descr=""/>
          <p:cNvPicPr/>
          <p:nvPr/>
        </p:nvPicPr>
        <p:blipFill>
          <a:blip r:embed="rId2"/>
          <a:stretch/>
        </p:blipFill>
        <p:spPr>
          <a:xfrm>
            <a:off x="5724360" y="4340160"/>
            <a:ext cx="2376720" cy="22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03:13:03Z</dcterms:created>
  <dc:creator>user</dc:creator>
  <dc:description/>
  <dc:language>en-US</dc:language>
  <cp:lastModifiedBy>Ximena Fuentes</cp:lastModifiedBy>
  <dcterms:modified xsi:type="dcterms:W3CDTF">2007-04-11T04:13:19Z</dcterms:modified>
  <cp:revision>30</cp:revision>
  <dc:subject/>
  <dc:title>Presentación de PowerPoint</dc:title>
</cp:coreProperties>
</file>