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6B4-F008-46FD-BF48-284BEAE6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C32-D10D-40FC-8FF3-957134F0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256-432E-45C3-829A-078E3CE4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543-B472-4614-ACD3-C868E020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5C7-8D25-4017-A512-91866552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0E02-8AAB-4A0F-A6FE-5883B0A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8CF1-A970-486D-9D8E-242534E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0528-A468-4CB7-9AAB-7459E39A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8534-99A0-47EE-A697-A90F241E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FDE6-40E2-47E6-A8E4-0BF0BDD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04BB-0649-4B2B-8D38-EA26809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0B7-2F5F-4233-95C3-C7D4E6DF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33BD-4BF3-4D5F-A129-40180D6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07BF-19B1-47B8-A1C3-597D857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4245-FE3F-4D27-8515-C272EC7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8FF0-AA85-4C29-84BF-2E31BDCE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F35-27EB-4AB5-BAC1-8B0E9030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F30-C1FF-407A-A79A-CDBBEBC2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35A-509C-4938-AE88-A67C037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C6E-4F7B-4002-B6D4-D8EEF37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DA-B8AA-4FDC-8B86-DD9921B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00E-EAB9-409C-94EE-C605542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ECA-1C44-43F4-A5A1-F175444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DC5-4B95-48B3-829E-43FA336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479-15B0-4AF0-99DC-8FCB73450FA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7799-85D6-433E-B392-755D1E44B40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tamarugo.cec.uchile.cl/~aabdie/media/logo-uch.gif&amp;imgrefurl=http://tamarugo.cec.uchile.cl/~aabdie/home.html&amp;h=115&amp;w=56&amp;sz=2&amp;tbnid=NwXXBaMn1ZSVsM:&amp;tbnh=82&amp;tbnw=39&amp;hl=es&amp;start=118&amp;prev=/images%3Fq%3Dlogo%2Buniversidad%2Bde%2Bchile%26start%3D100%26svnum%3D10%26hl%3Des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ANTA SE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eannette Irigoin Barr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549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284640"/>
            <a:ext cx="16574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tapas Histór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870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ta 18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1870 y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805360"/>
            <a:ext cx="1042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era Etapa (hasta 18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6960" y="1483920"/>
            <a:ext cx="84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pontificios con la misma calidad que el resto de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e de Estado (Papa) es también jefe espiritual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eres del Pa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unda Etapa (1870 a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aparecen Estados Pontificios (por anexión de Roma por Ital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apa carece de poder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y de garantías” rigen relación leg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uenta con Derechos y honores de sobe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a de dinero anual para el Pa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territorialidad de palacios pap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uestión Romana”  rige relación re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hace uso de derecho de leg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oncluye tratados (Concordat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era Etapa (desde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de Letrán: crea Estado de la Ciudad del Vaticano que estable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talia reconoce la soberanía de la Santa S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tiene propiedad sobre Ciudad del Vaticano, además de soberanía exclusiva y absol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rsona de Soberano Pontífice es sagrada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reconoce a Santa Sede Derecho de Legación activo y pa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permanecerá ajena a rivalidades temporales entre lo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será territorio neutro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734080"/>
            <a:ext cx="111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tros acuerdos de Letrá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16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ord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ción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orda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200448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ece privilegios para la Iglesia Católica en Ital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religión oficial del Estado de Italia será la Cat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ñanza obligatoria de doctrina Católica, modificado en 198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za auxilio de fuerza pública para ejecución de sentencias eclesiás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vención Financie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31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que completa los Acuerdos de Letr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nsación económica al Papado por pérdida de Estados Pontif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Santa Sede después de Tratado de Letrá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914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oficio del jefe Supremo de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Sede actúa en la vida internacional como órgano supremo de la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iene un observador permanente en la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ibe misiones diplo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ía agentes diplomáticos (Nuncios) al exterior, con carácter de embaj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51:00Z</dcterms:created>
  <dc:creator>..</dc:creator>
  <dc:description/>
  <dc:language>en-US</dc:language>
  <cp:lastModifiedBy>cfinsterbusch</cp:lastModifiedBy>
  <dcterms:modified xsi:type="dcterms:W3CDTF">2007-05-14T13:38:47Z</dcterms:modified>
  <cp:revision>9</cp:revision>
  <dc:subject/>
  <dc:title>SANTA SEDE</dc:title>
</cp:coreProperties>
</file>