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6BD-8712-4413-9BD6-350F6545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14E-F419-46E0-AECA-5B5F4E27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4AA-4324-4AC9-AFAC-9396F9AD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E57-1E4D-4813-A763-E0CAF5A6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305E-7D5C-497F-83DA-4F2FC4C8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66F-C8FE-4A8F-A0F8-CC4C4D3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6EF3-7AD7-4859-B3BC-7C39092E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BFA-0414-4A56-8CC3-53B84147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2A84-A3D8-451C-ABAC-B5E7617D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CB06-EB4E-4315-BF6E-4A83FE44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F1DD-220B-4F9F-BBAE-41288B7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765-7986-4D43-BC6C-6274036D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131B-44E6-4A3A-AA6C-2A549860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77C0-A581-412C-833D-BA711D8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173C-510F-40BB-9648-9C68BA4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D965-501D-495A-A9CC-DFF8EADF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A047-52F1-4F98-BD69-34819713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0B4-05D1-4236-BD94-5330263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660-08E1-49B9-BA64-D191BCF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FB2-CD35-4F1A-B4C9-246AB49D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D9A-C57C-40D6-805C-7E1CA39B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FD8-3891-4FC5-B3AE-7A2639D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54A-D7F4-449A-9A1D-8136CAB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BC7-CCE2-442D-939D-BB49BA6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0474-89F6-413C-BB25-16C6C92D54B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D13F-2C02-43E7-8B0F-26DF3017344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tamarugo.cec.uchile.cl/~aabdie/media/logo-uch.gif&amp;imgrefurl=http://tamarugo.cec.uchile.cl/~aabdie/home.html&amp;h=115&amp;w=56&amp;sz=2&amp;tbnid=NwXXBaMn1ZSVsM:&amp;tbnh=82&amp;tbnw=39&amp;hl=es&amp;start=118&amp;prev=/images%3Fq%3Dlogo%2Buniversidad%2Bde%2Bchile%26start%3D100%26svnum%3D10%26hl%3Des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ANTA SE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eannette Irigoin Barr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54936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284640"/>
            <a:ext cx="16574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tapas Histór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870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ta 18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1870 y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805360"/>
            <a:ext cx="1042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era Etapa (hasta 18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6960" y="1483920"/>
            <a:ext cx="84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pontificios con la misma calidad que el resto de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e de Estado (Papa) es también jefe espiritual de la Igl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eres del Pa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unda Etapa (1870 a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aparecen Estados Pontificios (por anexión de Roma por Ital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apa carece de poder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y de garantías” rigen relación leg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uenta con Derechos y honores de sober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a de dinero anual para el Pa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territorialidad de palacios pap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uestión Romana”  rige relación re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hace uso de derecho de leg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oncluye tratados (Concordat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cera Etapa (desde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de Letrán: crea Estado de la Ciudad del Vaticano que estable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talia reconoce la soberanía de la Santa Se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tiene propiedad sobre Ciudad del Vaticano, además de soberanía exclusiva y absol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rsona de Soberano Pontífice es sagrada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reconoce a Santa Sede Derecho de Legación activo y pa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permanecerá ajena a rivalidades temporales entre los Es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será territorio neutro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734080"/>
            <a:ext cx="111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tros acuerdos de Letrá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16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ord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ción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orda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4000" y="200448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ece privilegios para la Iglesia Católica en Ital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religión oficial del Estado de Italia será la Cat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eñanza obligatoria de doctrina Católica, modificado en 198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rantiza auxilio de fuerza pública para ejecución de sentencias eclesiás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vención Financie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31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que completa los Acuerdos de Letr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nsación económica al Papado por pérdida de Estados Pontif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Santa Sede después de Tratado de Letrá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914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oficio del jefe Supremo de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a Sede actúa en la vida internacional como órgano supremo de la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tiene un observador permanente en la 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ibe misiones diplomá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ía agentes diplomáticos (Nuncios) al exterior, con carácter de embaj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51:00Z</dcterms:created>
  <dc:creator>..</dc:creator>
  <dc:description/>
  <dc:language>en-US</dc:language>
  <cp:lastModifiedBy>cfinsterbusch</cp:lastModifiedBy>
  <dcterms:modified xsi:type="dcterms:W3CDTF">2007-05-14T13:38:47Z</dcterms:modified>
  <cp:revision>9</cp:revision>
  <dc:subject/>
  <dc:title>SANTA SEDE</dc:title>
</cp:coreProperties>
</file>