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D44-6FB2-410C-B9A5-9AEC603A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0CA-5FE1-4F52-8B31-E351140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EBA-5E9C-4396-BB8A-673E449F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CD5-EC49-4361-AF4F-366B140F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0150-2ADA-4D67-900C-5415E4EF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EDC7-9402-446A-A653-461F1582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B43A-52F9-4E2A-9F2A-884EA755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728D-DDBB-45DD-BD84-22D47E4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9EED-BA49-42AB-9B7D-5FBFF921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A571-A767-4473-9E9D-1009A278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483C-7347-4E8F-AF03-1F3B3FA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B01-EDCC-4AE9-A3AA-70B7C2F5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3061-5DA2-4CDC-8675-D9C31C8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2B93-9291-4B76-9B0B-5ACAD16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E8A9-14E7-4BCF-84E0-0E774D51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0839-0DBB-41CF-9FCC-0845E38E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B76-5FF0-49CD-AFC4-E8B0131F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8FC-F83E-4AEB-BF22-1404D56B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92E-EAD6-4F9D-AF2F-C3B34823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C78-1934-4887-857D-D32E3DCD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749-4814-4B9E-BC9C-DCA7800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285-FF1B-4804-BD6D-E6F1846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914-F026-4863-9F43-D81EC73D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0CC-B532-48A8-BA34-91F7CD7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5635-8C0C-4A74-BC7A-F07E95F4270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99E-6DFB-477C-A9E1-4A9711D9260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tamarugo.cec.uchile.cl/~aabdie/media/logo-uch.gif&amp;imgrefurl=http://tamarugo.cec.uchile.cl/~aabdie/home.html&amp;h=115&amp;w=56&amp;sz=2&amp;tbnid=NwXXBaMn1ZSVsM:&amp;tbnh=82&amp;tbnw=39&amp;hl=es&amp;start=118&amp;prev=/images%3Fq%3Dlogo%2Buniversidad%2Bde%2Bchile%26start%3D100%26svnum%3D10%26hl%3Des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ANTA SE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eannette Irigoin Barr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549360"/>
            <a:ext cx="1297080" cy="1197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284640"/>
            <a:ext cx="16574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tapas Histór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870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ta 18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1870 y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805360"/>
            <a:ext cx="1042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era Etapa (hasta 18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6960" y="1483920"/>
            <a:ext cx="8447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pontificios con la misma calidad que el resto de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e de Estado (Papa) es también jefe espiritual de la Igl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eres del Pap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gunda Etapa (1870 a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aparecen Estados Pontificios (por anexión de Roma por Ital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apa carece de poder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y de garantías” rigen relación leg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uenta con Derechos y honores de sober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a de dinero anual para el Pa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territorialidad de palacios pap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uestión Romana”  rige relación re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hace uso de derecho de leg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oncluye tratados (Concordat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cera Etapa (desde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de Letrán: crea Estado de la Ciudad del Vaticano que estable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talia reconoce la soberanía de la Santa Se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tiene propiedad sobre Ciudad del Vaticano, además de soberanía exclusiva y absol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rsona de Soberano Pontífice es sagrada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reconoce a Santa Sede Derecho de Legación activo y pa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permanecerá ajena a rivalidades temporales entre los Es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será territorio neutro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734080"/>
            <a:ext cx="111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tros acuerdos de Letrá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16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ord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ción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orda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4000" y="2004480"/>
            <a:ext cx="8518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ece privilegios para la Iglesia Católica en Ital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religión oficial del Estado de Italia será la Cat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eñanza obligatoria de doctrina Católica, modificado en 198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rantiza auxilio de fuerza pública para ejecución de sentencias eclesiás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vención Financie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231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que completa los Acuerdos de Letr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nsación económica al Papado por pérdida de Estados Pontif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Santa Sede después de Tratado de Letrá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914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oficio del jefe Supremo de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a Sede actúa en la vida internacional como órgano supremo de la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tiene un observador permanente en la 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ibe misiones diplomá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ía agentes diplomáticos (Nuncios) al exterior, con carácter de embaj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51:00Z</dcterms:created>
  <dc:creator>..</dc:creator>
  <dc:description/>
  <dc:language>en-US</dc:language>
  <cp:lastModifiedBy>cfinsterbusch</cp:lastModifiedBy>
  <dcterms:modified xsi:type="dcterms:W3CDTF">2007-05-14T13:38:47Z</dcterms:modified>
  <cp:revision>9</cp:revision>
  <dc:subject/>
  <dc:title>SANTA SEDE</dc:title>
</cp:coreProperties>
</file>