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1A6E-D6E4-4CDF-823E-CA010591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5748-AB74-4BFB-B963-9DD1F6B0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2928-9336-4F41-AABD-DABB5387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AF6F-73F6-409F-8D1F-C01F7BD1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76A-7731-4232-A35E-842AC6FA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AC24-E2AB-43FF-8758-CDDAE01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6EB0-13D3-40FE-8848-CBC20AE7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4AB3-6F57-4C8B-9D23-D86CC5BA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6D88-DED5-47CD-BA4E-CC8A5FCD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2406-E763-4D73-8271-D69B403F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037F-2FEA-4AF6-A63B-CC97CE5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C742-F08F-4ED3-B6BE-E6BB6BE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4E88-A2BB-4296-9BA9-957969F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94B8-0099-4B9F-80F8-35E56A5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18D1-022D-4960-BCC4-DA5AA3D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48CA-96FC-4595-AF5C-A6D7D729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1B55-87F1-474B-9DD1-58307FFE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46E0-8BC1-4886-952C-CB130E37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E9E2-FA8F-477A-A1BC-E99ECD1B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5481-929E-4863-BD38-FC9F3A44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54F8-1AEC-4FC0-9729-4E2B2BE0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7D95-BBA1-4DA1-8EAF-2AF9336A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6F6E-A20D-4367-9D6E-B35BC721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D3F2-1998-4459-AFD9-F245C291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5775-6B58-48FC-8C99-1A526CC18A8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C144-2D7C-4B58-9B70-59D43617EBD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ffcc00"/>
                </a:solidFill>
                <a:latin typeface="Times New Roman"/>
              </a:rPr>
              <a:t>TRATADOS INTERNACIONALES (continuació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Profesora Jeannette Irigoin Barren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410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12477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LA PREVIS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 CONVENCIONAL DE DERECHOS Y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1. Tratados que prevén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2. Tratados que prevén derecho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cc"/>
                </a:solidFill>
                <a:latin typeface="Times New Roman"/>
              </a:rPr>
              <a:t>B.- </a:t>
            </a:r>
            <a:r>
              <a:rPr b="0" i="1" lang="es-E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LA SUCESI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 DE EST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La relación suceso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Consecuencias de la relación sucesoria en materia de trat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3. El régimen de los distintos tipos de suce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) La sucesión en los tratados constitutivos de regímenes territoriales obje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i) La sucesión en los demás  tratados celebrados p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r Estados surgidos de la desc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lonizac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ón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ONDICIONES DE VALIDE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quisitos del acto jurídico y los trat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Capacidad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Consentimiento exento de vic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Objeto líc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gulación. Convención de Viena, Parte V: “Nulidad, terminación y suspensión de la aplicación de los tratado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a diferencia entre los contratos y los tratados deriva de la influencia de la técnica anglosajona sobre los últim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RELATIV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diciones formales de valid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Violación del derecho interno concerniente a la competencia para celebrar tratados (art. 46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Inobservancia de una restricción específica de los poderes para manifestar consentimiento del Estado (art. 47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cios del consentimi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Err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Do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 La corrupción del representante del Est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ABSOLUT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el representante de un Estado (art. 51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un Estado por amenaza o uso de la fuerza (art. 52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posición a normas de Jus Cogens (arts. 53 y 64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ausales intrínsecas (provenientes del propio tratad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. Cumplimiento del plaz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2. Cumplimiento de la condición resolutor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Denunc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ausales extrínsecas (provenientes del derecho  internacional gener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Mutuo consentimiento (abrogació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2. Celebrar un tratado posterior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3. Violació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4. Imposibilidad subsiguiente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5. Cambio fundamental de las circunstanci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6. Jus Cogens emerg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Como alternativa a la termin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1. Por violación grave del tra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2. Por un cambio fundamental de las circunstancias: Rebus sic stantib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spensión (por sí mis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Por disposición del propio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Por Acuerdo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Por acuerdo de algunas partes (tratado multilateral) no incompatible con el objeto y fi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4. Por la adopción posterior de un tratado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5. Por la imposibilidad temporal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52480"/>
            <a:ext cx="802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ADHES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, PECULIAR DE LOS TRATADOS MULTILATERA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: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Es una forma de manifestación del consentimiento que permite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llegar a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ser parte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 un tratado a sujetos no signatarios del mism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GEN: Fue concebida como un procedimiento que permitía acceder a la condición de parte en un tratado en vigor a un Estado que no había participado en su negociación y al que, por lo tanto, no le había sido  posible la firma y la posterior ratificació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1" i="1" lang="es-MX" sz="4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FINALIDAD: Estas iniciativas persiguen la eliminación  de reglas restrictivas de acceso a la condición de parte y la más rápida entrada en vigor de los tratados multilaterales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LAS RESERVAS A LOS TRATAD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: “ Declaración unilateral, cualquiera que sea su enunciado o denominación, hecha por un Estado al firmar, ratificar, aceptar o apr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bar un tratado o al adherirse a él, con objeto de exccluir o modificar los efectos jurídicos de ciertas disposiciones del tratado en su aplicación a ese Estado” 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( Art. 2.1. d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de la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C. de Viena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LAS RESERV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BJETIVO: Permitir la mayor participación posible y una mayor efectiv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1. Principio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integridad del tratad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Principi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universal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Times New Roman"/>
              </a:rPr>
              <a:t>LAS  </a:t>
            </a: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 RESERVA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GIMEN DE LAS RESERVA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1. Reservas no previstas por el tratado: El criterio de la compatibilidad con el objeto y fin d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2. Reservas previstas por 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3. Efectos juríd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A) Entre el reservante y el aceptante: Las disposiciones del tratado se modifican en la medid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prevista por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B) Entre el reservante y el objetante: Es necesario distinguir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) El objetante no ha expresado inequívocamente la intención de que el tratado no entre en vigor entre él y el Estado reservante: El tratado entra en vigor entre reservante y objetante viéndose modificadas las disposiciones del tratado en la medida de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i) El objetante ha expresado inequívocamente la intención de que el tratado no entre en vigor entre él y el Estado reservante: Debe entenderse que no hay tratado entre ambos Estados.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EFECTOS DE LOS TRATAD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ENTRE LAS PAR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RESPECTO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TERCE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ACIONAL.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Entrada en vigor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Regla de Pacta Sunt Servand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Recep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Publica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3. Medidas legales y reglamentarias para la ejecu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4. Ejecución de los tratados en los Estados de estructura compleja</a:t>
            </a:r>
            <a:r>
              <a:rPr b="0" i="1" lang="es-MX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PROBLEMAS GENERALES DE LA APLICACIÓN DE LOS TRATAD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Delimitación espacial y temporal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Determinación del contenido de los tratados. La cláusula de la nación más favoreci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INTERPRETA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Regla general de interpretación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Medios complementarios: los trabajos preparatorio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6:46:42Z</dcterms:created>
  <dc:creator>MunhRa</dc:creator>
  <dc:description/>
  <dc:language>en-US</dc:language>
  <cp:lastModifiedBy>cfinsterbusch</cp:lastModifiedBy>
  <dcterms:modified xsi:type="dcterms:W3CDTF">2007-04-19T22:02:51Z</dcterms:modified>
  <cp:revision>32</cp:revision>
  <dc:subject/>
  <dc:title>L   </dc:title>
</cp:coreProperties>
</file>