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1D71-A91A-418E-8370-1BA986CE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F6EF5-47AB-4FBB-B065-B5F57C20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660F-F5FF-457D-8E8A-43533635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B0E3C-DC50-4D73-B6F7-D49B4A72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99C4-FAA9-4C5C-A08D-332EE710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DF37-520B-4862-A393-D96BFCD2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F08D-0020-4435-87AC-0CEE9278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8FDC-06BA-4F52-817D-CB84534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5E02-D72C-4388-B935-4BD36C2E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B03F-68FC-404C-9CC0-B81067B0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B663-FCB3-44F2-9F3A-BF5A311F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FC2D-B67C-4D9F-B33D-92337EAC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644-6138-4D1C-9ACF-13E5138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424D-B7A9-46AE-9AE4-571D9EC3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2D56-A22A-4548-9D7A-0A0C1750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57CE-F70E-4F6C-945D-F3BCE0E1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DCA-CEEA-4ECB-96B5-254A7AD2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489F9-1CBF-4480-8A2F-FB4ED7EE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E441-6FB4-4177-9A4D-69C2094A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3B81-9DEE-4645-A2A9-956CADF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10B7B-BBD3-40D9-BA05-693FE222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8F3A7-993A-4843-B467-98C3CCDF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BA79-C051-40BA-9A4F-0CDB18E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DF93-D12D-4193-BB28-070B60D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398A-DA0C-4A63-BAB0-1DA3CCE02E7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32AC-46F1-4392-B483-51AB9752C54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ffcc00"/>
                </a:solidFill>
                <a:latin typeface="Times New Roman"/>
              </a:rPr>
              <a:t>TRATADOS INTERNACIONALES (continuación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Profesora Jeannette Irigoin Barren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66"/>
                </a:solidFill>
                <a:latin typeface="Garamond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2565360"/>
            <a:ext cx="410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067280" y="333360"/>
            <a:ext cx="124776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LA PREVIS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 CONVENCIONAL DE DERECHOS Y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1. Tratados que prevén obligacione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2. Tratados que prevén derechos para tercero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cc"/>
                </a:solidFill>
                <a:latin typeface="Times New Roman"/>
              </a:rPr>
              <a:t>B.- </a:t>
            </a:r>
            <a:r>
              <a:rPr b="0" i="1" lang="es-ES" sz="3600" spc="-1" strike="noStrike">
                <a:solidFill>
                  <a:srgbClr val="ffffcc"/>
                </a:solidFill>
                <a:latin typeface="Times New Roman"/>
              </a:rPr>
              <a:t>LOS EFECTOS DE LOS TRATADOS  RESPECTO DE TERCERO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LA SUCESI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 DE EST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La relación sucesor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Consecuencias de la relación sucesoria en materia de trat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3. El régimen de los distintos tipos de suce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) La sucesión en los tratados constitutivos de regímenes territoriales objetiv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i) La sucesión en los demás  tratados celebrados p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r Estados surgidos de la desc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olonizac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ión</a:t>
            </a:r>
            <a:r>
              <a:rPr b="1" i="1" lang="es-MX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ONDICIONES DE VALIDE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quisitos del acto jurídico y los tratad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Capacidad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Consentimiento exento de vic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Objeto líci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Regulación. Convención de Viena, Parte V: “Nulidad, terminación y suspensión de la aplicación de los tratado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La diferencia entre los contratos y los tratados deriva de la influencia de la técnica anglosajona sobre los últim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RELATIV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diciones formales de valide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Violación del derecho interno concerniente a la competencia para celebrar tratados (art. 46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Inobservancia de una restricción específica de los poderes para manifestar consentimiento del Estado (art. 47 C. de Vien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cios del consentimi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Err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Dol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La corrupción del representante del Est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CAUSALES DE NULIDAD ABSOLUT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el representante de un Estado (art. 51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oacción sobre un Estado por amenaza o uso de la fuerza (art. 52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posición a normas de Jus Cogens (arts. 53 y 64 C. De Vien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ausales intrínsecas (provenientes del propio tratad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1. Cumplimiento del plaz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2. Cumplimiento de la condición resoluto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3. Denunc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TERMINA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ausales extrínsecas (provenientes del derecho  internacional genera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1. Mutuo consentimiento (abrogació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2. Celebrar un tratado posterior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3. Violació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4. Imposibilidad subsiguiente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5. Cambio fundamental de las circunstanci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6. Jus Cogens emerge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Como alternativa a la termin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1. Por violación grave del trat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600" spc="-1" strike="noStrike">
                <a:solidFill>
                  <a:srgbClr val="ffffff"/>
                </a:solidFill>
                <a:latin typeface="Times New Roman"/>
              </a:rPr>
              <a:t>2. Por un cambio fundamental de las circunstancias: Rebus sic stantibu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CAUSALES DE SUSPENS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uspensión (por sí mism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1. Por disposición del propio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2. Por Acuerdo de las par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3. Por acuerdo de algunas partes (tratado multilateral) no incompatible con el objeto y fin del trata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4. Por la adopción posterior de un tratado sobre la misma mater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5. Por la imposibilidad temporal de cumpli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752480"/>
            <a:ext cx="802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ADHES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, PECULIAR DE LOS TRATADOS MULTILATERALE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: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Es una forma de manifestación del consentimiento que permite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llegar a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ser parte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de un tratado a sujetos no signatarios del mism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GEN: Fue concebida como un procedimiento que permitía acceder a la condición de parte en un tratado en vigor a un Estado que no había participado en su negociación y al que, por lo tanto, no le había sido  posible la firma y la posterior ratificació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LA EXPRESI</a:t>
            </a:r>
            <a:r>
              <a:rPr b="1" i="1" lang="es-MX" sz="4000" spc="-1" strike="noStrike">
                <a:solidFill>
                  <a:srgbClr val="ffffcc"/>
                </a:solidFill>
                <a:latin typeface="Times New Roman"/>
              </a:rPr>
              <a:t>Ó</a:t>
            </a:r>
            <a:r>
              <a:rPr b="1" i="1" lang="es-ES" sz="4000" spc="-1" strike="noStrike">
                <a:solidFill>
                  <a:srgbClr val="ffffcc"/>
                </a:solidFill>
                <a:latin typeface="Times New Roman"/>
              </a:rPr>
              <a:t>N DEL CONSENTIMIEN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FINALIDAD: Estas iniciativas persiguen la eliminación  de reglas restrictivas de acceso a la condición de parte y la más rápida entrada en vigor de los tratados multilaterales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LAS RESERVAS A LOS TRATADO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DEFINICI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N: “ Declaración unilateral, cualquiera que sea su enunciado o denominación, hecha por un Estado al firmar, ratificar, aceptar o apr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bar un tratado o al adherirse a él, con objeto de exccluir o modificar los efectos jurídicos de ciertas disposiciones del tratado en su aplicación a ese Estado” 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( Art. 2.1. d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 de la</a:t>
            </a:r>
            <a:r>
              <a:rPr b="1" i="1" lang="es-MX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" sz="3000" spc="-1" strike="noStrike">
                <a:solidFill>
                  <a:srgbClr val="ffffff"/>
                </a:solidFill>
                <a:latin typeface="Times New Roman"/>
              </a:rPr>
              <a:t>C. de Viena)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LAS RESERV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OBJETIVO: Permitir la mayor participación posible y una mayor efectiv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1. Principio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integridad del tratad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2. Principio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universalidad del trat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Times New Roman"/>
              </a:rPr>
              <a:t>LAS  </a:t>
            </a:r>
            <a:r>
              <a:rPr b="0" lang="es-MX" sz="3200" spc="-1" strike="noStrike">
                <a:solidFill>
                  <a:srgbClr val="ffffcc"/>
                </a:solidFill>
                <a:latin typeface="Times New Roman"/>
              </a:rPr>
              <a:t> RESERVA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GIMEN DE LAS RESERVA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1. Reservas no previstas por el tratado: El criterio de la compatibilidad con el objeto y fin d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2. Reservas previstas por el tratad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3. Efectos jurídicos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A) Entre el reservante y el aceptante: Las disposiciones del tratado se modifican en la medid</a:t>
            </a:r>
            <a:r>
              <a:rPr b="1" i="1" lang="es-MX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prevista por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B) Entre el reservante y el objetante: Es necesario distinguir: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) El objetante no ha expresado inequívocamente la intención de que el tratado no entre en vigor entre él y el Estado reservante: El tratado entra en vigor entre reservante y objetante viéndose modificadas las disposiciones del tratado en la medida de la reserv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ii) El objetante ha expresado inequívocamente la intención de que el tratado no entre en vigor entre él y el Estado reservante: Debe entenderse que no hay tratado entre ambos Estados.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EFECTOS DE LOS TRATAD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ENTRE LAS PAR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EFECTOS DE LOS TRATADOS </a:t>
            </a:r>
            <a:r>
              <a:rPr b="1" i="1" lang="es-MX" sz="3200" spc="-1" strike="noStrike">
                <a:solidFill>
                  <a:srgbClr val="ffffff"/>
                </a:solidFill>
                <a:latin typeface="Times New Roman"/>
              </a:rPr>
              <a:t>RESPECTO DE</a:t>
            </a: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 TERCE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ACIONAL.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Entrada en vigor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Regla de Pacta Sunt Servand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OBLIGATORIEDAD Y APLICABILIDAD DE LOS TRATADOS EN EL ORDEN INTERNO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1. Recep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2. Publica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3. Medidas legales y reglamentarias para la ejecución de los tratados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Times New Roman"/>
              </a:rPr>
              <a:t>4. Ejecución de los tratados en los Estados de estructura compleja</a:t>
            </a:r>
            <a:r>
              <a:rPr b="0" i="1" lang="es-MX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s-ES" sz="3000" spc="-1" strike="noStrike">
                <a:solidFill>
                  <a:srgbClr val="ffffcc"/>
                </a:solidFill>
                <a:latin typeface="Times New Roman"/>
              </a:rPr>
              <a:t>EFECTOS DE LOS TRATADOS ENTRE LAS PARTES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PROBLEMAS GENERALES DE LA APLICACIÓN DE LOS TRATAD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Delimitación espacial y temporal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Determinación del contenido de los tratados. La cláusula de la nación más favorecida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LA INTERPRETACI</a:t>
            </a:r>
            <a:r>
              <a:rPr b="1" i="1" lang="es-MX" sz="2600" spc="-1" strike="noStrike">
                <a:solidFill>
                  <a:srgbClr val="ffffff"/>
                </a:solidFill>
                <a:latin typeface="Times New Roman"/>
              </a:rPr>
              <a:t>Ó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N DE LOS TRATADO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1. Regla general de interpretación 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s-ES" sz="2600" spc="-1" strike="noStrike">
                <a:solidFill>
                  <a:srgbClr val="ffffff"/>
                </a:solidFill>
                <a:latin typeface="Times New Roman"/>
              </a:rPr>
              <a:t>2. Medios complementarios: los trabajos preparatorios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3T16:46:42Z</dcterms:created>
  <dc:creator>MunhRa</dc:creator>
  <dc:description/>
  <dc:language>en-US</dc:language>
  <cp:lastModifiedBy>cfinsterbusch</cp:lastModifiedBy>
  <dcterms:modified xsi:type="dcterms:W3CDTF">2007-04-19T22:02:51Z</dcterms:modified>
  <cp:revision>32</cp:revision>
  <dc:subject/>
  <dc:title>L   </dc:title>
</cp:coreProperties>
</file>