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0EA-2E39-4EA6-8CDD-8E6FDF10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078-B40C-419B-B9F5-19088088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580-56AA-4A29-9D10-1717E929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76C-87F7-44FD-B512-B79B62E1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12E4-1FB5-4745-A892-DE0707D4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A72-9BA4-4962-B83E-CE915E3F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E315-DAB9-42CA-9E78-C961C910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73A9-AA08-4531-88CC-0AB32C0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788-48AC-4597-BD20-A02A4640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3FF0-8317-4E55-81D0-7C65487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1F2-E38B-43BA-ACD8-2A8C446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2EA-69FF-4EBD-BC72-063EEB06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D03-1898-4297-B656-86F6C61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AB2B-59A8-4BDB-88DF-ABBFE663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0D6-ACC4-4098-9553-6B5B383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C7E6-0CE7-4F69-A185-E09B0CAA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178-D1AF-4DE5-B4C5-DF46BA83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7FA-8EDE-47F4-A6D9-F112863F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3E1-23B5-4DD2-BA07-306C748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48C-F9BE-457C-8B81-772AC71F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65D-A74D-4EB5-B465-77A2DD0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BEF-B49D-4B82-BA03-752512B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474-D191-4DF1-BB27-98504AA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492-1F22-4D8E-B677-5468CDB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FE5-2912-445C-843E-025486AE78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C20-121A-4D9B-BB86-041BD1E478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84872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Baskerville Old Face"/>
              </a:rPr>
              <a:t>FUENTES DEL DERECHO INTERNACIONAL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609120"/>
            <a:ext cx="8561520" cy="5451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ccff"/>
                </a:solidFill>
                <a:latin typeface="Baskerville Old Face"/>
              </a:rPr>
              <a:t>Promesa:</a:t>
            </a: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 Declaración de voluntad verbal o escrita, formulada por el Estado, con la clara intención de obligarse o de adoptar un determinado comportamiento con respecto de otro u otros Esta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ccff"/>
                </a:solidFill>
                <a:latin typeface="Baskerville Old Face"/>
              </a:rPr>
              <a:t>Declaración:</a:t>
            </a: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 Acto mediante el cual un Estado, por medio de sus órganos competentes, fija una posición, reconoce un hecho, una decisión judicial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Decisiones y Recomendaciones de Organi</a:t>
            </a:r>
            <a:r>
              <a:rPr b="1" i="1" lang="es-MX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zaciones</a:t>
            </a:r>
            <a:r>
              <a:rPr b="1" i="1" lang="es-ES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 Internacional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Decisiones: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on de carácter obligatori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se adoptan por las mayorías establecidas en las Cartas Constitutivas de l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pectiv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 Organ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zacion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. Ej: Decisiones del Consejo de Seguridad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ON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Recomendaciones: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No son obligatorias, pero plantean una forma de conducta influyente, ejerciendo presión en la forma en que se conducen los Estados. Ej: Declaración de los Derechos del Ni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pperplate Gothic Bold"/>
              </a:rPr>
              <a:t>Fuentes Principales o Form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as Convenciones Internacionales o Tratados Internacion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rtículo 2 Convención de Viena sobre el Derecho de 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a) Se entiende por “Tratado” un acuerdo internacional celebrado por escrito entre Estados y regido por el Derecho Internacional, ya conste en un instrumento único o en dos o más instrumentos conexos y cualquiera sea su denominació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Tratados tradicionales, clásicos,  formales o solemne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cuerdo concluido por dos o más sujetos de Derecho Internacional, regidos por éste y destinado a producir efectos jurídicos, cualquiera que sea su denomin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Elaboración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Negociación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Redac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Ratificación (aprobación Parlamento y Rat. Ejecutivo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Canje o depósito de Instrumentos de ratifica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000" spc="-1" strike="noStrike" u="sng">
                <a:solidFill>
                  <a:srgbClr val="00ffff"/>
                </a:solidFill>
                <a:uFillTx/>
                <a:latin typeface="Baskerville Old Face"/>
              </a:rPr>
              <a:t>Acuerdos en forma simplificada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ambién se denominan Executive agreements o  Acuerdos simplificados. El consentimiento del  Estado en obligarse por el Tratado se manifiesta mediante la sola firma del Tratado por el Ejecutivo, no requiere de Ratific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Times New Roman"/>
              </a:rPr>
              <a:t>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a) Negociación y adopción d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b) Firma o canje de instrumentos, como medio de expresar el consentimiento en obligarse por el Tratado y darlo a cono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os Tratados Internacionales en la Constitución del 80 (2005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imes New Roman"/>
              </a:rPr>
              <a:t>Artículo 32 Nº 17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tribuciones epeciales del Presidente de la República: Conducir las relaciones políticas con las potencias extranjeras y organismos internacionales, y llevar a cabo las nagociaciones; concluir, firmar y ratificar los tratados que estime convenientes para los intereses del país, los que deberán ser sometidos a la aprobación del Congreso conforme a lo prescrito en el artículo 54 Nº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Los Tratados Internacionales en la Constitución del 80 (2005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295280"/>
            <a:ext cx="922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Tratados Formales o solem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ff"/>
                </a:solidFill>
                <a:latin typeface="Times New Roman"/>
              </a:rPr>
              <a:t>Artículo 50 Nº1 “Atribuciones exclusivas del Congreso”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esidente se los presenta antes de la Ratificació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Aprobar o rechazar, nunca introducir mod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Acuerdos en forma simplificad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ff"/>
                </a:solidFill>
                <a:latin typeface="Times New Roman"/>
              </a:rPr>
              <a:t>Artículo 50 Nº1 inc. final:  Exime del Trámite de aprobación, siempre y cuand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No se requiera nueva aprobación del Congreso, salvo materias propias de le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n el mismo acuerdo aprobatorio de un Tratado se autoriza al Presidente para dictar disposiciones con fuerza de ley que estime convenientes para su cabal cumpli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ERVA A LOS TRAT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to jurídico unilateral que excluye o modifica los efectos jurídicos de una disposición del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cede a la firma, ratificación o adhesión al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tado puede prohibir, autorizar o guardar silencio respecto a la posibilidad de formular reservas a un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548280" indent="-5482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pperplate Gothic Bold"/>
              </a:rPr>
              <a:t>	</a:t>
            </a:r>
            <a:r>
              <a:rPr b="1" lang="es-ES" sz="2900" spc="-1" strike="noStrike">
                <a:solidFill>
                  <a:srgbClr val="00ffff"/>
                </a:solidFill>
                <a:latin typeface="Copperplate Gothic Bold"/>
              </a:rPr>
              <a:t>ARTICULO 38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ffff"/>
                </a:solidFill>
                <a:latin typeface="Copperplate Gothic Bold"/>
              </a:rPr>
              <a:t>ESTATUTO DE LA CORTE INTERNACIONAL DE JUSTICIA DE LA HAY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1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Corte, cuya función es decidir conforme al Derecho Internacional las controversias que le sean sometidas, deberá aplicar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a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s Convenciones Internacionales, sean generales o particulares, que establecen reglas expresamente reconocidas por los Estados litigante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b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Costumbre Internacional como prueba de una práctica generalmente aceptada como Derecho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c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os Principios Generales de Derecho reconocidos por las naciones civilizada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d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s Decisiones Judiciales y las Doctrinas de los Publicistas de mayor competencia de las distintas naciones, como medio auxiliar para la determinación de las reglas de derecho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2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presente disposición no restringe la facultad de la Corte para decidir un litigio </a:t>
            </a:r>
            <a:r>
              <a:rPr b="1" i="1" lang="es-ES" sz="2300" spc="-1" strike="noStrike" u="sng">
                <a:solidFill>
                  <a:srgbClr val="ffff00"/>
                </a:solidFill>
                <a:uFillTx/>
                <a:latin typeface="Baskerville Old Face"/>
              </a:rPr>
              <a:t>ex aequo et bono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, si las partes así lo conviniere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 u="sng">
                <a:solidFill>
                  <a:srgbClr val="ccccff"/>
                </a:solidFill>
                <a:uFillTx/>
                <a:latin typeface="Baskerville Old Face"/>
              </a:rPr>
              <a:t>FUENTES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945800"/>
            <a:ext cx="8763120" cy="468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Principales o Forma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Auxilia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no contempladas en el artículo 38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pperplate Gothic Bold"/>
              </a:rPr>
              <a:t>Fuentes Principales o Form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as Convenciones Internacionales o Tratados Internacion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rtículo 2 Convención de Viena sobre el Derecho de 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a) Se entiende por “Tratado” un acuerdo internacional celebrado por escrito entre Estados y regido por el Derecho Internacional, ya conste en un instrumento único o en dos o más instrumentos conexos y cualquiera sea su denominació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8736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La Costumbre Internacional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6160" y="1447920"/>
            <a:ext cx="8637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 entiende por Costumbre Internacional la expresión de una práctica, constante y uniforme, seguida por los Sujetos Internacionales y generalmente aceptada como Derec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ff"/>
                </a:solidFill>
                <a:latin typeface="Times New Roman"/>
              </a:rPr>
              <a:t>Elem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Material u objetivo: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Práctica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constante y unifor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sicológico o subjetivo: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Opinio Iuris.Los Estados realizan esta práctica con la convicción de estar cumpliendo una obligación jurí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Principios Generales de Derec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560" y="1066680"/>
            <a:ext cx="8637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Principios Generales de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sa juzgada, irretroactividad de la Ley, no hay crimen sin ley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Principios Generales del Derecho Internacion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acta Sunt Servanda, autodeterminación de los Pueblos, Continuidad del Estado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oncepto de 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ciones Civilizadas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 u="sng">
                <a:solidFill>
                  <a:srgbClr val="00ffff"/>
                </a:solidFill>
                <a:uFillTx/>
                <a:latin typeface="Baskerville Old Face"/>
              </a:rPr>
              <a:t>La Equidad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23880"/>
            <a:ext cx="8686800" cy="5029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Baskerville Old Face"/>
              </a:rPr>
              <a:t>2.</a:t>
            </a:r>
            <a:r>
              <a:rPr b="1" lang="es-E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askerville Old Face"/>
              </a:rPr>
              <a:t>La presente disposición no restringe la facultad de la Corte para decidir un litigio 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Baskerville Old Face"/>
              </a:rPr>
              <a:t>ex aequo et bono</a:t>
            </a:r>
            <a:r>
              <a:rPr b="1" lang="es-ES" sz="3200" spc="-1" strike="noStrike">
                <a:solidFill>
                  <a:srgbClr val="ffff00"/>
                </a:solidFill>
                <a:latin typeface="Baskerville Old Face"/>
              </a:rPr>
              <a:t>, si las partes así lo convinieren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Infra Leg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Contra Le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Praeter Le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x aequo Et Bo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Copperplate Gothic Bold"/>
              </a:rPr>
              <a:t>Fuentes Auxiliar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Baskerville Old Face"/>
              </a:rPr>
              <a:t>d.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 Las Decisiones Judiciales y las Doctrinas de los Publicistas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 (autores de Dº público)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 de mayor competencia de l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 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países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, como medio auxiliar para la determinación de las reglas de derech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ffff"/>
                </a:solidFill>
                <a:uFillTx/>
                <a:latin typeface="Baskerville Old Face"/>
              </a:rPr>
              <a:t>Decisiones Judiciale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No es obligatorio para la Corte tomar en cuenta 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Decisiones anteriores, tanto emana</a:t>
            </a:r>
            <a:r>
              <a:rPr b="1" lang="es-ES_tradnl" sz="2800" spc="-1" strike="noStrike">
                <a:solidFill>
                  <a:srgbClr val="ffffff"/>
                </a:solidFill>
                <a:latin typeface="Baskerville Old Face"/>
              </a:rPr>
              <a:t>da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 del propio tribunal</a:t>
            </a:r>
            <a:r>
              <a:rPr b="1" lang="es-ES_tradnl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como de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ffff"/>
                </a:solidFill>
                <a:uFillTx/>
                <a:latin typeface="Baskerville Old Face"/>
              </a:rPr>
              <a:t>Doctrina de los Publicista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Hay tantas Doctrinas como Publicist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No Contempladas en el artículo 38</a:t>
            </a:r>
            <a:r>
              <a:rPr b="1" lang="es-MX" sz="4400" spc="-1" strike="noStrike">
                <a:solidFill>
                  <a:srgbClr val="ffff00"/>
                </a:solidFill>
                <a:latin typeface="Copperplate Gothic Bold"/>
              </a:rPr>
              <a:t> Estatuto CIJ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Actos Jdcos</a:t>
            </a:r>
            <a:r>
              <a:rPr b="1" i="1" lang="es-MX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.</a:t>
            </a: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 Unilaterales del Est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Reconocimiento:</a:t>
            </a:r>
            <a:r>
              <a:rPr b="1" lang="es-ES" sz="3000" spc="-1" strike="noStrike">
                <a:solidFill>
                  <a:srgbClr val="00ffff"/>
                </a:solidFill>
                <a:latin typeface="Baskerville Old Face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Acto o conjunto de actos por el cual un Estado comprueba y acepta un hecho, una situación, un acto o una preten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Protesta: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 Acto expreso mediante el cual un Estado declara su intención de no reconocer una situa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Renuncia: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 Manifestación de la voluntad de abandonar un Derecho o Facultad, provocando la extinción del Derecho o pretensión</a:t>
            </a:r>
            <a:r>
              <a:rPr b="1" lang="es-MX" sz="3000" spc="-1" strike="noStrike">
                <a:solidFill>
                  <a:srgbClr val="ffffff"/>
                </a:solidFill>
                <a:latin typeface="Baskerville Old Face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3:12:30Z</dcterms:created>
  <dc:creator>Universidad de Chile</dc:creator>
  <dc:description/>
  <dc:language>en-US</dc:language>
  <cp:lastModifiedBy>cfinsterbusch</cp:lastModifiedBy>
  <dcterms:modified xsi:type="dcterms:W3CDTF">2007-04-19T22:00:45Z</dcterms:modified>
  <cp:revision>25</cp:revision>
  <dc:subject/>
  <dc:title>FUENTES DEL DERECHO INTERNACIONAL</dc:title>
</cp:coreProperties>
</file>