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3E3-3324-4CB4-8E72-EBE4898B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B46-658D-4663-8737-35038A95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C46-DFFB-42B5-A83E-C3680B4C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6A31-0AE3-4187-ACBD-F27E9BE4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85B2-340E-42E7-9D51-EA57AA89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FDE4-2464-4ADF-ABCF-E09AB4E0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B3E0-38C7-4DCB-A0E3-4F4AFD31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4141-F5D3-4265-A4B4-3B8161AF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42A5-144F-4E4C-8A4B-51ED839F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E5A7-DB7D-4E86-A83A-4DEBB609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58E0-DBF3-4F4B-AC4D-5EEB6C3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2038-B97B-4887-AF08-34B7D7A0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AEC2-2F7B-4DD2-A8BC-A3098531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E6C8-E3F8-46D8-AFCD-058AEC50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AC27-0054-4793-AF45-C61FAE17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9558-875D-494A-819D-F8B7F093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00D0-C226-4B32-B200-231D490B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F97-303D-4FE6-B7D8-77EC92BA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561-6781-4AB4-8CC2-27CD6623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538-34EC-4ECC-9EF6-4377F535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DD8-D503-46E3-AC74-D665452A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1A38-4640-4715-9EC1-A54EA8B3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BAC-7F0C-440B-B6A6-20E2C861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3CB-DCC0-46A7-9D95-A1E5272F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47A4-2B08-4ECB-97D2-1957B3C571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ABD2-8E00-4A9D-A05F-A3217ED426D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848720" cy="4343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00"/>
                </a:solidFill>
                <a:latin typeface="Baskerville Old Face"/>
              </a:rPr>
              <a:t>FUENTES DEL DERECHO INTERNACIONAL</a:t>
            </a:r>
            <a:endParaRPr b="0" lang="en-US" sz="6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609120"/>
            <a:ext cx="8561520" cy="5451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ccff"/>
                </a:solidFill>
                <a:latin typeface="Baskerville Old Face"/>
              </a:rPr>
              <a:t>Promesa:</a:t>
            </a:r>
            <a:r>
              <a:rPr b="1" lang="es-ES" sz="3600" spc="-1" strike="noStrike">
                <a:solidFill>
                  <a:srgbClr val="ffffff"/>
                </a:solidFill>
                <a:latin typeface="Baskerville Old Face"/>
              </a:rPr>
              <a:t> Declaración de voluntad verbal o escrita, formulada por el Estado, con la clara intención de obligarse o de adoptar un determinado comportamiento con respecto de otro u otros Estad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ccff"/>
                </a:solidFill>
                <a:latin typeface="Baskerville Old Face"/>
              </a:rPr>
              <a:t>Declaración:</a:t>
            </a:r>
            <a:r>
              <a:rPr b="1" lang="es-ES" sz="3600" spc="-1" strike="noStrike">
                <a:solidFill>
                  <a:srgbClr val="ffffff"/>
                </a:solidFill>
                <a:latin typeface="Baskerville Old Face"/>
              </a:rPr>
              <a:t> Acto mediante el cual un Estado, por medio de sus órganos competentes, fija una posición, reconoce un hecho, una decisión judicial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 u="sng">
                <a:solidFill>
                  <a:srgbClr val="00ffff"/>
                </a:solidFill>
                <a:uFillTx/>
                <a:latin typeface="Baskerville Old Face"/>
              </a:rPr>
              <a:t>Decisiones y Recomendaciones de Organi</a:t>
            </a:r>
            <a:r>
              <a:rPr b="1" i="1" lang="es-MX" sz="4800" spc="-1" strike="noStrike" u="sng">
                <a:solidFill>
                  <a:srgbClr val="00ffff"/>
                </a:solidFill>
                <a:uFillTx/>
                <a:latin typeface="Baskerville Old Face"/>
              </a:rPr>
              <a:t>zaciones</a:t>
            </a:r>
            <a:r>
              <a:rPr b="1" i="1" lang="es-ES" sz="4800" spc="-1" strike="noStrike" u="sng">
                <a:solidFill>
                  <a:srgbClr val="00ffff"/>
                </a:solidFill>
                <a:uFillTx/>
                <a:latin typeface="Baskerville Old Face"/>
              </a:rPr>
              <a:t> Internacional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Times New Roman"/>
              </a:rPr>
              <a:t>Decisiones: 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Son de carácter obligatori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, se adoptan por las mayorías establecidas en las Cartas Constitutivas de l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pectiv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s Organ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izacione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. Ej: Decisiones del Consejo de Seguridad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 ON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Times New Roman"/>
              </a:rPr>
              <a:t>Recomendaciones: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No son obligatorias, pero plantean una forma de conducta influyente, ejerciendo presión en la forma en que se conducen los Estados. Ej: Declaración de los Derechos del Niñ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opperplate Gothic Bold"/>
              </a:rPr>
              <a:t>Fuentes Principales o Formal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Las Convenciones Internacionales o Tratados Internacional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rtículo 2 Convención de Viena sobre el Derecho de 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Times New Roman"/>
              </a:rPr>
              <a:t>a) Se entiende por “Tratado” un acuerdo internacional celebrado por escrito entre Estados y regido por el Derecho Internacional, ya conste en un instrumento único o en dos o más instrumentos conexos y cualquiera sea su denominación par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ffff"/>
                </a:solidFill>
                <a:uFillTx/>
                <a:latin typeface="Baskerville Old Face"/>
              </a:rPr>
              <a:t>Tratados tradicionales, clásicos,  formales o solemnes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572760" indent="-57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cuerdo concluido por dos o más sujetos de Derecho Internacional, regidos por éste y destinado a producir efectos jurídicos, cualquiera que sea su denomin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Times New Roman"/>
              </a:rPr>
              <a:t>Etap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Elaboración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Negociación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Redacció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Firm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Ratificación (aprobación Parlamento y Rat. Ejecutivo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Canje o depósito de Instrumentos de ratifica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000" spc="-1" strike="noStrike" u="sng">
                <a:solidFill>
                  <a:srgbClr val="00ffff"/>
                </a:solidFill>
                <a:uFillTx/>
                <a:latin typeface="Baskerville Old Face"/>
              </a:rPr>
              <a:t>Acuerdos en forma simplificada</a:t>
            </a:r>
            <a:endParaRPr b="0" lang="en-US" sz="5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560" y="1447560"/>
            <a:ext cx="8839080" cy="5181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También se denominan Executive agreements o  Acuerdos simplificados. El consentimiento del  Estado en obligarse por el Tratado se manifiesta mediante la sola firma del Tratado por el Ejecutivo, no requiere de Ratific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ff"/>
                </a:solidFill>
                <a:latin typeface="Times New Roman"/>
              </a:rPr>
              <a:t>Etap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a) Negociación y adopción d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b) Firma o canje de instrumentos, como medio de expresar el consentimiento en obligarse por el Tratado y darlo a cono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Los Tratados Internacionales en la Constitución del 80 (2005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Times New Roman"/>
              </a:rPr>
              <a:t>Artículo 32 Nº 17: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n atribuciones epeciales del Presidente de la República: Conducir las relaciones políticas con las potencias extranjeras y organismos internacionales, y llevar a cabo las nagociaciones; concluir, firmar y ratificar los tratados que estime convenientes para los intereses del país, los que deberán ser sometidos a la aprobación del Congreso conforme a lo prescrito en el artículo 54 Nº 1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ffff"/>
                </a:solidFill>
                <a:uFillTx/>
                <a:latin typeface="Baskerville Old Face"/>
              </a:rPr>
              <a:t>Los Tratados Internacionales en la Constitución del 80 (2005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295280"/>
            <a:ext cx="922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Tratados Formales o solemn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ccff"/>
                </a:solidFill>
                <a:latin typeface="Times New Roman"/>
              </a:rPr>
              <a:t>Artículo 50 Nº1 “Atribuciones exclusivas del Congreso” 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esidente se los presenta antes de la Ratificación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Aprobar o rechazar, nunca introducir modificacion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Acuerdos en forma simplificada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ccccff"/>
                </a:solidFill>
                <a:latin typeface="Times New Roman"/>
              </a:rPr>
              <a:t>Artículo 50 Nº1 inc. final:  Exime del Trámite de aprobación, siempre y cuand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No se requiera nueva aprobación del Congreso, salvo materias propias de le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n el mismo acuerdo aprobatorio de un Tratado se autoriza al Presidente para dictar disposiciones con fuerza de ley que estime convenientes para su cabal cumpli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RESERVA A LOS TRAT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to jurídico unilateral que excluye o modifica los efectos jurídicos de una disposición del tra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cede a la firma, ratificación o adhesión al tra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tado puede prohibir, autorizar o guardar silencio respecto a la posibilidad de formular reservas a un tra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548280" indent="-54828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pperplate Gothic Bold"/>
              </a:rPr>
              <a:t>	</a:t>
            </a:r>
            <a:r>
              <a:rPr b="1" lang="es-ES" sz="2900" spc="-1" strike="noStrike">
                <a:solidFill>
                  <a:srgbClr val="00ffff"/>
                </a:solidFill>
                <a:latin typeface="Copperplate Gothic Bold"/>
              </a:rPr>
              <a:t>ARTICULO 38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ffff"/>
                </a:solidFill>
                <a:latin typeface="Copperplate Gothic Bold"/>
              </a:rPr>
              <a:t>ESTATUTO DE LA CORTE INTERNACIONAL DE JUSTICIA DE LA HAY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1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a Corte, cuya función es decidir conforme al Derecho Internacional las controversias que le sean sometidas, deberá aplicar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a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as Convenciones Internacionales, sean generales o particulares, que establecen reglas expresamente reconocidas por los Estados litigantes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b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a Costumbre Internacional como prueba de una práctica generalmente aceptada como Derecho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c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os Principios Generales de Derecho reconocidos por las naciones civilizadas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d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as Decisiones Judiciales y las Doctrinas de los Publicistas de mayor competencia de las distintas naciones, como medio auxiliar para la determinación de las reglas de derecho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2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a presente disposición no restringe la facultad de la Corte para decidir un litigio </a:t>
            </a:r>
            <a:r>
              <a:rPr b="1" i="1" lang="es-ES" sz="2300" spc="-1" strike="noStrike" u="sng">
                <a:solidFill>
                  <a:srgbClr val="ffff00"/>
                </a:solidFill>
                <a:uFillTx/>
                <a:latin typeface="Baskerville Old Face"/>
              </a:rPr>
              <a:t>ex aequo et bono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, si las partes así lo conviniere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17181" dir="2438368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7200" spc="-1" strike="noStrike" u="sng">
                <a:solidFill>
                  <a:srgbClr val="ccccff"/>
                </a:solidFill>
                <a:uFillTx/>
                <a:latin typeface="Baskerville Old Face"/>
              </a:rPr>
              <a:t>FUENTES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880" y="1945800"/>
            <a:ext cx="8763120" cy="4683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opperplate Gothic Bold"/>
              </a:rPr>
              <a:t>Fuentes Principales o Forma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opperplate Gothic Bold"/>
              </a:rPr>
              <a:t>Fuentes Auxilia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opperplate Gothic Bold"/>
              </a:rPr>
              <a:t>Fuentes no contempladas en el artículo 38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opperplate Gothic Bold"/>
              </a:rPr>
              <a:t>Fuentes Principales o Formal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Las Convenciones Internacionales o Tratados Internacional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rtículo 2 Convención de Viena sobre el Derecho de 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Times New Roman"/>
              </a:rPr>
              <a:t>a) Se entiende por “Tratado” un acuerdo internacional celebrado por escrito entre Estados y regido por el Derecho Internacional, ya conste en un instrumento único o en dos o más instrumentos conexos y cualquiera sea su denominación par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-387360"/>
            <a:ext cx="8305920" cy="1752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s-ES" sz="4400" spc="-1" strike="noStrike" u="sng">
                <a:solidFill>
                  <a:srgbClr val="00ffff"/>
                </a:solidFill>
                <a:uFillTx/>
                <a:latin typeface="Baskerville Old Face"/>
              </a:rPr>
              <a:t>La Costumbre Internacional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6160" y="1447920"/>
            <a:ext cx="8637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e entiende por Costumbre Internacional la expresión de una práctica, constante y uniforme, seguida por los Sujetos Internacionales y generalmente aceptada como Derech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ccff"/>
                </a:solidFill>
                <a:latin typeface="Times New Roman"/>
              </a:rPr>
              <a:t>Elemen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Material u objetivo: </a:t>
            </a:r>
            <a:r>
              <a:rPr b="1" lang="es-ES" sz="2800" spc="-1" strike="noStrike">
                <a:solidFill>
                  <a:srgbClr val="00ffff"/>
                </a:solidFill>
                <a:latin typeface="Times New Roman"/>
              </a:rPr>
              <a:t>Práctica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ff"/>
                </a:solidFill>
                <a:latin typeface="Times New Roman"/>
              </a:rPr>
              <a:t>constante y unifor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Psicológico o subjetivo: </a:t>
            </a:r>
            <a:r>
              <a:rPr b="1" lang="es-ES" sz="2800" spc="-1" strike="noStrike">
                <a:solidFill>
                  <a:srgbClr val="00ffff"/>
                </a:solidFill>
                <a:latin typeface="Times New Roman"/>
              </a:rPr>
              <a:t>Opinio Iuris.Los Estados realizan esta práctica con la convicción de estar cumpliendo una obligación juríd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ffff"/>
                </a:solidFill>
                <a:uFillTx/>
                <a:latin typeface="Baskerville Old Face"/>
              </a:rPr>
              <a:t>Principios Generales de Derech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560" y="1066680"/>
            <a:ext cx="8637480" cy="548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Principios Generales de Derecho Intern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Cosa juzgada, irretroactividad de la Ley, no hay crimen sin ley, 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Principios Generales del Derecho Internacion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acta Sunt Servanda, autodeterminación de los Pueblos, Continuidad del Estado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oncepto de </a:t>
            </a: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s-ES" sz="3200" spc="-1" strike="noStrike" u="sng">
                <a:solidFill>
                  <a:srgbClr val="ffff00"/>
                </a:solidFill>
                <a:uFillTx/>
                <a:latin typeface="Times New Roman"/>
              </a:rPr>
              <a:t>Naciones Civilizadas</a:t>
            </a: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 u="sng">
                <a:solidFill>
                  <a:srgbClr val="00ffff"/>
                </a:solidFill>
                <a:uFillTx/>
                <a:latin typeface="Baskerville Old Face"/>
              </a:rPr>
              <a:t>La Equidad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23880"/>
            <a:ext cx="8686800" cy="5029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ff"/>
                </a:solidFill>
                <a:latin typeface="Baskerville Old Face"/>
              </a:rPr>
              <a:t>2.</a:t>
            </a:r>
            <a:r>
              <a:rPr b="1" lang="es-ES" sz="3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askerville Old Face"/>
              </a:rPr>
              <a:t>La presente disposición no restringe la facultad de la Corte para decidir un litigio </a:t>
            </a:r>
            <a:r>
              <a:rPr b="1" i="1" lang="es-ES" sz="3200" spc="-1" strike="noStrike" u="sng">
                <a:solidFill>
                  <a:srgbClr val="ffff00"/>
                </a:solidFill>
                <a:uFillTx/>
                <a:latin typeface="Baskerville Old Face"/>
              </a:rPr>
              <a:t>ex aequo et bono</a:t>
            </a:r>
            <a:r>
              <a:rPr b="1" lang="es-ES" sz="3200" spc="-1" strike="noStrike">
                <a:solidFill>
                  <a:srgbClr val="ffff00"/>
                </a:solidFill>
                <a:latin typeface="Baskerville Old Face"/>
              </a:rPr>
              <a:t>, si las partes así lo convinieren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Baskerville Old Face"/>
              </a:rPr>
              <a:t>Equidad Infra Leg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Baskerville Old Face"/>
              </a:rPr>
              <a:t>Equidad Contra Le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Baskerville Old Face"/>
              </a:rPr>
              <a:t>Equidad Praeter Le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Baskerville Old Face"/>
              </a:rPr>
              <a:t>Ex aequo Et Bo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Copperplate Gothic Bold"/>
              </a:rPr>
              <a:t>Fuentes Auxiliares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" y="1371600"/>
            <a:ext cx="8610480" cy="548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Baskerville Old Face"/>
              </a:rPr>
              <a:t>d.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 Las Decisiones Judiciales y las Doctrinas de los Publicistas</a:t>
            </a:r>
            <a:r>
              <a:rPr b="1" lang="es-MX" sz="2800" spc="-1" strike="noStrike">
                <a:solidFill>
                  <a:srgbClr val="ffffff"/>
                </a:solidFill>
                <a:latin typeface="Baskerville Old Face"/>
              </a:rPr>
              <a:t> (autores de Dº público)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 de mayor competencia de l</a:t>
            </a:r>
            <a:r>
              <a:rPr b="1" lang="es-MX" sz="2800" spc="-1" strike="noStrike">
                <a:solidFill>
                  <a:srgbClr val="ffffff"/>
                </a:solidFill>
                <a:latin typeface="Baskerville Old Face"/>
              </a:rPr>
              <a:t>o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s </a:t>
            </a:r>
            <a:r>
              <a:rPr b="1" lang="es-MX" sz="2800" spc="-1" strike="noStrike">
                <a:solidFill>
                  <a:srgbClr val="ffffff"/>
                </a:solidFill>
                <a:latin typeface="Baskerville Old Face"/>
              </a:rPr>
              <a:t>países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, como medio auxiliar para la determinación de las reglas de derech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ffff"/>
                </a:solidFill>
                <a:uFillTx/>
                <a:latin typeface="Baskerville Old Face"/>
              </a:rPr>
              <a:t>Decisiones Judiciales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No es obligatorio para la Corte tomar en cuenta 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Decisiones anteriores, tanto emana</a:t>
            </a:r>
            <a:r>
              <a:rPr b="1" lang="es-ES_tradnl" sz="2800" spc="-1" strike="noStrike">
                <a:solidFill>
                  <a:srgbClr val="ffffff"/>
                </a:solidFill>
                <a:latin typeface="Baskerville Old Face"/>
              </a:rPr>
              <a:t>da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s del propio tribunal</a:t>
            </a:r>
            <a:r>
              <a:rPr b="1" lang="es-ES_tradnl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como de ot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ffff"/>
                </a:solidFill>
                <a:uFillTx/>
                <a:latin typeface="Baskerville Old Face"/>
              </a:rPr>
              <a:t>Doctrina de los Publicistas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Baskerville Old Face"/>
              </a:rPr>
              <a:t>Hay tantas Doctrinas como Publicist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opperplate Gothic Bold"/>
              </a:rPr>
              <a:t>Fuentes No Contempladas en el artículo 38</a:t>
            </a:r>
            <a:r>
              <a:rPr b="1" lang="es-MX" sz="4400" spc="-1" strike="noStrike">
                <a:solidFill>
                  <a:srgbClr val="ffff00"/>
                </a:solidFill>
                <a:latin typeface="Copperplate Gothic Bold"/>
              </a:rPr>
              <a:t> Estatuto CIJ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Actos Jdcos</a:t>
            </a:r>
            <a:r>
              <a:rPr b="1" i="1" lang="es-MX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.</a:t>
            </a:r>
            <a:r>
              <a:rPr b="1" i="1" lang="es-ES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 Unilaterales del Esta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ccff"/>
                </a:solidFill>
                <a:latin typeface="Baskerville Old Face"/>
              </a:rPr>
              <a:t>Reconocimiento:</a:t>
            </a:r>
            <a:r>
              <a:rPr b="1" lang="es-ES" sz="3000" spc="-1" strike="noStrike">
                <a:solidFill>
                  <a:srgbClr val="00ffff"/>
                </a:solidFill>
                <a:latin typeface="Baskerville Old Face"/>
              </a:rPr>
              <a:t> </a:t>
            </a:r>
            <a:r>
              <a:rPr b="1" lang="es-ES" sz="3000" spc="-1" strike="noStrike">
                <a:solidFill>
                  <a:srgbClr val="ffffff"/>
                </a:solidFill>
                <a:latin typeface="Baskerville Old Face"/>
              </a:rPr>
              <a:t>Acto o conjunto de actos por el cual un Estado comprueba y acepta un hecho, una situación, un acto o una pretens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ccff"/>
                </a:solidFill>
                <a:latin typeface="Baskerville Old Face"/>
              </a:rPr>
              <a:t>Protesta:</a:t>
            </a:r>
            <a:r>
              <a:rPr b="1" lang="es-ES" sz="3000" spc="-1" strike="noStrike">
                <a:solidFill>
                  <a:srgbClr val="ffffff"/>
                </a:solidFill>
                <a:latin typeface="Baskerville Old Face"/>
              </a:rPr>
              <a:t> Acto expreso mediante el cual un Estado declara su intención de no reconocer una situac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ccff"/>
                </a:solidFill>
                <a:latin typeface="Baskerville Old Face"/>
              </a:rPr>
              <a:t>Renuncia:</a:t>
            </a:r>
            <a:r>
              <a:rPr b="1" lang="es-ES" sz="3000" spc="-1" strike="noStrike">
                <a:solidFill>
                  <a:srgbClr val="ffffff"/>
                </a:solidFill>
                <a:latin typeface="Baskerville Old Face"/>
              </a:rPr>
              <a:t> Manifestación de la voluntad de abandonar un Derecho o Facultad, provocando la extinción del Derecho o pretensión</a:t>
            </a:r>
            <a:r>
              <a:rPr b="1" lang="es-MX" sz="3000" spc="-1" strike="noStrike">
                <a:solidFill>
                  <a:srgbClr val="ffffff"/>
                </a:solidFill>
                <a:latin typeface="Baskerville Old Face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3:12:30Z</dcterms:created>
  <dc:creator>Universidad de Chile</dc:creator>
  <dc:description/>
  <dc:language>en-US</dc:language>
  <cp:lastModifiedBy>cfinsterbusch</cp:lastModifiedBy>
  <dcterms:modified xsi:type="dcterms:W3CDTF">2007-04-19T22:00:45Z</dcterms:modified>
  <cp:revision>25</cp:revision>
  <dc:subject/>
  <dc:title>FUENTES DEL DERECHO INTERNACIONAL</dc:title>
</cp:coreProperties>
</file>