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C9A-1AF1-4E75-BCFE-7EE1BD1A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B86-7344-4D8D-9F40-D9B4087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02F-5C44-4B83-B555-78B62078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3ED-7080-4462-8446-1865B181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29BC-EAFF-48C6-AFB1-CE2F9C34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B200-4109-4D89-BA05-AADE2AB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51DE-680C-490A-829E-9B34FA0C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0E40-6F15-4782-807C-02667583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B44D-219A-4578-B7ED-B94BD1D3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4880-EE90-4B43-ABE3-9481E8C8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25BB-00AA-41C9-9333-BD187445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33F-9F02-4390-BB1C-D8EFB6F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072-8193-45A4-A3FD-3D7D740C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02B1-DA52-432E-AEA7-C3CAB136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79DF-1CF6-427D-BDFE-C4360181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AF77-75C4-4465-A799-A1EBFAF7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51E6-FB54-424C-BCDE-8702C52D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561-84C1-4C22-B51D-C193E982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6D4-3CE9-4FC5-A97D-9B217EBF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16F-D20D-4B49-8661-C909E634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6D7-67FC-4D02-8AB6-9CC101F7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1E6-B1AF-47F8-8CE2-51AE2A0F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8BC-4669-4782-872D-93B4D256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296-1A61-44C5-AAA8-B472D793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12D3-D8AE-4D1A-A1C4-6AD2E8DB16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65C8-175C-4CA4-8128-7B4E7DA81D2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848720" cy="434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Baskerville Old Face"/>
              </a:rPr>
              <a:t>FUENTES DEL DERECHO INTERNACIONAL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609120"/>
            <a:ext cx="8561520" cy="5451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ccff"/>
                </a:solidFill>
                <a:latin typeface="Baskerville Old Face"/>
              </a:rPr>
              <a:t>Promesa:</a:t>
            </a:r>
            <a:r>
              <a:rPr b="1" lang="es-ES" sz="3600" spc="-1" strike="noStrike">
                <a:solidFill>
                  <a:srgbClr val="ffffff"/>
                </a:solidFill>
                <a:latin typeface="Baskerville Old Face"/>
              </a:rPr>
              <a:t> Declaración de voluntad verbal o escrita, formulada por el Estado, con la clara intención de obligarse o de adoptar un determinado comportamiento con respecto de otro u otros Estad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ccff"/>
                </a:solidFill>
                <a:latin typeface="Baskerville Old Face"/>
              </a:rPr>
              <a:t>Declaración:</a:t>
            </a:r>
            <a:r>
              <a:rPr b="1" lang="es-ES" sz="3600" spc="-1" strike="noStrike">
                <a:solidFill>
                  <a:srgbClr val="ffffff"/>
                </a:solidFill>
                <a:latin typeface="Baskerville Old Face"/>
              </a:rPr>
              <a:t> Acto mediante el cual un Estado, por medio de sus órganos competentes, fija una posición, reconoce un hecho, una decisión judicial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 u="sng">
                <a:solidFill>
                  <a:srgbClr val="00ffff"/>
                </a:solidFill>
                <a:uFillTx/>
                <a:latin typeface="Baskerville Old Face"/>
              </a:rPr>
              <a:t>Decisiones y Recomendaciones de Organi</a:t>
            </a:r>
            <a:r>
              <a:rPr b="1" i="1" lang="es-MX" sz="4800" spc="-1" strike="noStrike" u="sng">
                <a:solidFill>
                  <a:srgbClr val="00ffff"/>
                </a:solidFill>
                <a:uFillTx/>
                <a:latin typeface="Baskerville Old Face"/>
              </a:rPr>
              <a:t>zaciones</a:t>
            </a:r>
            <a:r>
              <a:rPr b="1" i="1" lang="es-ES" sz="4800" spc="-1" strike="noStrike" u="sng">
                <a:solidFill>
                  <a:srgbClr val="00ffff"/>
                </a:solidFill>
                <a:uFillTx/>
                <a:latin typeface="Baskerville Old Face"/>
              </a:rPr>
              <a:t> Internacional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Decisiones: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on de carácter obligatori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se adoptan por las mayorías establecidas en las Cartas Constitutivas de l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pectiv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 Organ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izacione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. Ej: Decisiones del Consejo de Seguridad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ON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Recomendaciones: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No son obligatorias, pero plantean una forma de conducta influyente, ejerciendo presión en la forma en que se conducen los Estados. Ej: Declaración de los Derechos del Ni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pperplate Gothic Bold"/>
              </a:rPr>
              <a:t>Fuentes Principales o Form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Las Convenciones Internacionales o Tratados Internaciona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rtículo 2 Convención de Viena sobre el Derecho de 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a) Se entiende por “Tratado” un acuerdo internacional celebrado por escrito entre Estados y regido por el Derecho Internacional, ya conste en un instrumento único o en dos o más instrumentos conexos y cualquiera sea su denominación par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Tratados tradicionales, clásicos,  formales o solemne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cuerdo concluido por dos o más sujetos de Derecho Internacional, regidos por éste y destinado a producir efectos jurídicos, cualquiera que sea su denomin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Etap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Elaboración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Negociación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Redacció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Firm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Ratificación (aprobación Parlamento y Rat. Ejecutivo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Times New Roman"/>
              </a:rPr>
              <a:t>Canje o depósito de Instrumentos de ratificación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000" spc="-1" strike="noStrike" u="sng">
                <a:solidFill>
                  <a:srgbClr val="00ffff"/>
                </a:solidFill>
                <a:uFillTx/>
                <a:latin typeface="Baskerville Old Face"/>
              </a:rPr>
              <a:t>Acuerdos en forma simplificada</a:t>
            </a:r>
            <a:endParaRPr b="0" lang="en-US" sz="5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También se denominan Executive agreements o  Acuerdos simplificados. El consentimiento del  Estado en obligarse por el Tratado se manifiesta mediante la sola firma del Tratado por el Ejecutivo, no requiere de Ratific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ff"/>
                </a:solidFill>
                <a:latin typeface="Times New Roman"/>
              </a:rPr>
              <a:t>Etap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a) Negociación y adopción d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b) Firma o canje de instrumentos, como medio de expresar el consentimiento en obligarse por el Tratado y darlo a cono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Los Tratados Internacionales en la Constitución del 80 (2005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Times New Roman"/>
              </a:rPr>
              <a:t>Artículo 32 Nº 17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n atribuciones epeciales del Presidente de la República: Conducir las relaciones políticas con las potencias extranjeras y organismos internacionales, y llevar a cabo las nagociaciones; concluir, firmar y ratificar los tratados que estime convenientes para los intereses del país, los que deberán ser sometidos a la aprobación del Congreso conforme a lo prescrito en el artículo 54 Nº 1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Los Tratados Internacionales en la Constitución del 80 (2005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295280"/>
            <a:ext cx="922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Tratados Formales o solemn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ccff"/>
                </a:solidFill>
                <a:latin typeface="Times New Roman"/>
              </a:rPr>
              <a:t>Artículo 50 Nº1 “Atribuciones exclusivas del Congreso” 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esidente se los presenta antes de la Ratificació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Aprobar o rechazar, nunca introducir mod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Acuerdos en forma simplificad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ccccff"/>
                </a:solidFill>
                <a:latin typeface="Times New Roman"/>
              </a:rPr>
              <a:t>Artículo 50 Nº1 inc. final:  Exime del Trámite de aprobación, siempre y cuand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No se requiera nueva aprobación del Congreso, salvo materias propias de le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n el mismo acuerdo aprobatorio de un Tratado se autoriza al Presidente para dictar disposiciones con fuerza de ley que estime convenientes para su cabal cumpli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ERVA A LOS TRAT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to jurídico unilateral que excluye o modifica los efectos jurídicos de una disposición del tra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cede a la firma, ratificación o adhesión al tra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tado puede prohibir, autorizar o guardar silencio respecto a la posibilidad de formular reservas a un trat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548280" indent="-5482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pperplate Gothic Bold"/>
              </a:rPr>
              <a:t>	</a:t>
            </a:r>
            <a:r>
              <a:rPr b="1" lang="es-ES" sz="2900" spc="-1" strike="noStrike">
                <a:solidFill>
                  <a:srgbClr val="00ffff"/>
                </a:solidFill>
                <a:latin typeface="Copperplate Gothic Bold"/>
              </a:rPr>
              <a:t>ARTICULO 38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ffff"/>
                </a:solidFill>
                <a:latin typeface="Copperplate Gothic Bold"/>
              </a:rPr>
              <a:t>ESTATUTO DE LA CORTE INTERNACIONAL DE JUSTICIA DE LA HAY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1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 Corte, cuya función es decidir conforme al Derecho Internacional las controversias que le sean sometidas, deberá aplicar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a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s Convenciones Internacionales, sean generales o particulares, que establecen reglas expresamente reconocidas por los Estados litigantes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b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 Costumbre Internacional como prueba de una práctica generalmente aceptada como Derecho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c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os Principios Generales de Derecho reconocidos por las naciones civilizadas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d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s Decisiones Judiciales y las Doctrinas de los Publicistas de mayor competencia de las distintas naciones, como medio auxiliar para la determinación de las reglas de derecho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ffff"/>
                </a:solidFill>
                <a:latin typeface="Baskerville Old Face"/>
              </a:rPr>
              <a:t>2.</a:t>
            </a:r>
            <a:r>
              <a:rPr b="1" lang="es-ES" sz="23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La presente disposición no restringe la facultad de la Corte para decidir un litigio </a:t>
            </a:r>
            <a:r>
              <a:rPr b="1" i="1" lang="es-ES" sz="2300" spc="-1" strike="noStrike" u="sng">
                <a:solidFill>
                  <a:srgbClr val="ffff00"/>
                </a:solidFill>
                <a:uFillTx/>
                <a:latin typeface="Baskerville Old Face"/>
              </a:rPr>
              <a:t>ex aequo et bono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, si las partes así lo conviniere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lnSpc>
                <a:spcPct val="100000"/>
              </a:lnSpc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7200" spc="-1" strike="noStrike" u="sng">
                <a:solidFill>
                  <a:srgbClr val="ccccff"/>
                </a:solidFill>
                <a:uFillTx/>
                <a:latin typeface="Baskerville Old Face"/>
              </a:rPr>
              <a:t>FUENTES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1945800"/>
            <a:ext cx="8763120" cy="4683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Principales o Forma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Auxilia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no contempladas en el artículo 38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pperplate Gothic Bold"/>
              </a:rPr>
              <a:t>Fuentes Principales o Form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Las Convenciones Internacionales o Tratados Internaciona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rtículo 2 Convención de Viena sobre el Derecho de 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Times New Roman"/>
              </a:rPr>
              <a:t>a) Se entiende por “Tratado” un acuerdo internacional celebrado por escrito entre Estados y regido por el Derecho Internacional, ya conste en un instrumento único o en dos o más instrumentos conexos y cualquiera sea su denominación par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87360"/>
            <a:ext cx="8305920" cy="1752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La Costumbre Internacional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6160" y="1447920"/>
            <a:ext cx="8637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Se entiende por Costumbre Internacional la expresión de una práctica, constante y uniforme, seguida por los Sujetos Internacionales y generalmente aceptada como Derec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ccff"/>
                </a:solidFill>
                <a:latin typeface="Times New Roman"/>
              </a:rPr>
              <a:t>Elemen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Material u objetivo: </a:t>
            </a:r>
            <a:r>
              <a:rPr b="1" lang="es-ES" sz="2800" spc="-1" strike="noStrike">
                <a:solidFill>
                  <a:srgbClr val="00ffff"/>
                </a:solidFill>
                <a:latin typeface="Times New Roman"/>
              </a:rPr>
              <a:t>Práctica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ff"/>
                </a:solidFill>
                <a:latin typeface="Times New Roman"/>
              </a:rPr>
              <a:t>constante y unifor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Psicológico o subjetivo: </a:t>
            </a:r>
            <a:r>
              <a:rPr b="1" lang="es-ES" sz="2800" spc="-1" strike="noStrike">
                <a:solidFill>
                  <a:srgbClr val="00ffff"/>
                </a:solidFill>
                <a:latin typeface="Times New Roman"/>
              </a:rPr>
              <a:t>Opinio Iuris.Los Estados realizan esta práctica con la convicción de estar cumpliendo una obligación jurí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ffff"/>
                </a:solidFill>
                <a:uFillTx/>
                <a:latin typeface="Baskerville Old Face"/>
              </a:rPr>
              <a:t>Principios Generales de Derec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560" y="1066680"/>
            <a:ext cx="863748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Principios Generales de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osa juzgada, irretroactividad de la Ley, no hay crimen sin ley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Principios Generales del Derecho Internacion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acta Sunt Servanda, autodeterminación de los Pueblos, Continuidad del Estado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oncepto de 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s-ES" sz="3200" spc="-1" strike="noStrike" u="sng">
                <a:solidFill>
                  <a:srgbClr val="ffff00"/>
                </a:solidFill>
                <a:uFillTx/>
                <a:latin typeface="Times New Roman"/>
              </a:rPr>
              <a:t>Naciones Civilizadas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 u="sng">
                <a:solidFill>
                  <a:srgbClr val="00ffff"/>
                </a:solidFill>
                <a:uFillTx/>
                <a:latin typeface="Baskerville Old Face"/>
              </a:rPr>
              <a:t>La Equidad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23880"/>
            <a:ext cx="8686800" cy="5029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ff"/>
                </a:solidFill>
                <a:latin typeface="Baskerville Old Face"/>
              </a:rPr>
              <a:t>2.</a:t>
            </a:r>
            <a:r>
              <a:rPr b="1" lang="es-ES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askerville Old Face"/>
              </a:rPr>
              <a:t>La presente disposición no restringe la facultad de la Corte para decidir un litigio </a:t>
            </a:r>
            <a:r>
              <a:rPr b="1" i="1" lang="es-ES" sz="3200" spc="-1" strike="noStrike" u="sng">
                <a:solidFill>
                  <a:srgbClr val="ffff00"/>
                </a:solidFill>
                <a:uFillTx/>
                <a:latin typeface="Baskerville Old Face"/>
              </a:rPr>
              <a:t>ex aequo et bono</a:t>
            </a:r>
            <a:r>
              <a:rPr b="1" lang="es-ES" sz="3200" spc="-1" strike="noStrike">
                <a:solidFill>
                  <a:srgbClr val="ffff00"/>
                </a:solidFill>
                <a:latin typeface="Baskerville Old Face"/>
              </a:rPr>
              <a:t>, si las partes así lo convinieren</a:t>
            </a:r>
            <a:r>
              <a:rPr b="1" lang="es-ES" sz="2300" spc="-1" strike="noStrike">
                <a:solidFill>
                  <a:srgbClr val="ffff00"/>
                </a:solidFill>
                <a:latin typeface="Baskerville Old Face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quidad Infra Leg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quidad Contra Le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quidad Praeter Le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ccff"/>
                </a:solidFill>
                <a:latin typeface="Baskerville Old Face"/>
              </a:rPr>
              <a:t>Ex aequo Et Bo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Copperplate Gothic Bold"/>
              </a:rPr>
              <a:t>Fuentes Auxiliare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" y="1371600"/>
            <a:ext cx="861048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ff"/>
                </a:solidFill>
                <a:latin typeface="Baskerville Old Face"/>
              </a:rPr>
              <a:t>d.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 Las Decisiones Judiciales y las Doctrinas de los Publicistas</a:t>
            </a:r>
            <a:r>
              <a:rPr b="1" lang="es-MX" sz="2800" spc="-1" strike="noStrike">
                <a:solidFill>
                  <a:srgbClr val="ffffff"/>
                </a:solidFill>
                <a:latin typeface="Baskerville Old Face"/>
              </a:rPr>
              <a:t> (autores de Dº público)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 de mayor competencia de l</a:t>
            </a:r>
            <a:r>
              <a:rPr b="1" lang="es-MX" sz="28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s </a:t>
            </a:r>
            <a:r>
              <a:rPr b="1" lang="es-MX" sz="2800" spc="-1" strike="noStrike">
                <a:solidFill>
                  <a:srgbClr val="ffffff"/>
                </a:solidFill>
                <a:latin typeface="Baskerville Old Face"/>
              </a:rPr>
              <a:t>países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, como medio auxiliar para la determinación de las reglas de derech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ffff"/>
                </a:solidFill>
                <a:uFillTx/>
                <a:latin typeface="Baskerville Old Face"/>
              </a:rPr>
              <a:t>Decisiones Judiciale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No es obligatorio para la Corte tomar en cuenta 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Decisiones anteriores, tanto emana</a:t>
            </a:r>
            <a:r>
              <a:rPr b="1" lang="es-ES_tradnl" sz="2800" spc="-1" strike="noStrike">
                <a:solidFill>
                  <a:srgbClr val="ffffff"/>
                </a:solidFill>
                <a:latin typeface="Baskerville Old Face"/>
              </a:rPr>
              <a:t>da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s del propio tribunal</a:t>
            </a:r>
            <a:r>
              <a:rPr b="1" lang="es-ES_tradnl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Baskerville Old Face"/>
              </a:rPr>
              <a:t>como de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ffff"/>
                </a:solidFill>
                <a:uFillTx/>
                <a:latin typeface="Baskerville Old Face"/>
              </a:rPr>
              <a:t>Doctrina de los Publicista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Baskerville Old Face"/>
              </a:rPr>
              <a:t>Hay tantas Doctrinas como Publicist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Copperplate Gothic Bold"/>
              </a:rPr>
              <a:t>Fuentes No Contempladas en el artículo 38</a:t>
            </a:r>
            <a:r>
              <a:rPr b="1" lang="es-MX" sz="4400" spc="-1" strike="noStrike">
                <a:solidFill>
                  <a:srgbClr val="ffff00"/>
                </a:solidFill>
                <a:latin typeface="Copperplate Gothic Bold"/>
              </a:rPr>
              <a:t> Estatuto CIJ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Actos Jdcos</a:t>
            </a:r>
            <a:r>
              <a:rPr b="1" i="1" lang="es-MX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.</a:t>
            </a:r>
            <a:r>
              <a:rPr b="1" i="1" lang="es-ES" sz="4000" spc="-1" strike="noStrike" u="sng">
                <a:solidFill>
                  <a:srgbClr val="00ffff"/>
                </a:solidFill>
                <a:uFillTx/>
                <a:latin typeface="Baskerville Old Face"/>
              </a:rPr>
              <a:t> Unilaterales del Est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ccff"/>
                </a:solidFill>
                <a:latin typeface="Baskerville Old Face"/>
              </a:rPr>
              <a:t>Reconocimiento:</a:t>
            </a:r>
            <a:r>
              <a:rPr b="1" lang="es-ES" sz="3000" spc="-1" strike="noStrike">
                <a:solidFill>
                  <a:srgbClr val="00ffff"/>
                </a:solidFill>
                <a:latin typeface="Baskerville Old Face"/>
              </a:rPr>
              <a:t> </a:t>
            </a:r>
            <a:r>
              <a:rPr b="1" lang="es-ES" sz="3000" spc="-1" strike="noStrike">
                <a:solidFill>
                  <a:srgbClr val="ffffff"/>
                </a:solidFill>
                <a:latin typeface="Baskerville Old Face"/>
              </a:rPr>
              <a:t>Acto o conjunto de actos por el cual un Estado comprueba y acepta un hecho, una situación, un acto o una pretens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ccff"/>
                </a:solidFill>
                <a:latin typeface="Baskerville Old Face"/>
              </a:rPr>
              <a:t>Protesta:</a:t>
            </a:r>
            <a:r>
              <a:rPr b="1" lang="es-ES" sz="3000" spc="-1" strike="noStrike">
                <a:solidFill>
                  <a:srgbClr val="ffffff"/>
                </a:solidFill>
                <a:latin typeface="Baskerville Old Face"/>
              </a:rPr>
              <a:t> Acto expreso mediante el cual un Estado declara su intención de no reconocer una situació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ccff"/>
                </a:solidFill>
                <a:latin typeface="Baskerville Old Face"/>
              </a:rPr>
              <a:t>Renuncia:</a:t>
            </a:r>
            <a:r>
              <a:rPr b="1" lang="es-ES" sz="3000" spc="-1" strike="noStrike">
                <a:solidFill>
                  <a:srgbClr val="ffffff"/>
                </a:solidFill>
                <a:latin typeface="Baskerville Old Face"/>
              </a:rPr>
              <a:t> Manifestación de la voluntad de abandonar un Derecho o Facultad, provocando la extinción del Derecho o pretensión</a:t>
            </a:r>
            <a:r>
              <a:rPr b="1" lang="es-MX" sz="3000" spc="-1" strike="noStrike">
                <a:solidFill>
                  <a:srgbClr val="ffffff"/>
                </a:solidFill>
                <a:latin typeface="Baskerville Old Face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3:12:30Z</dcterms:created>
  <dc:creator>Universidad de Chile</dc:creator>
  <dc:description/>
  <dc:language>en-US</dc:language>
  <cp:lastModifiedBy>cfinsterbusch</cp:lastModifiedBy>
  <dcterms:modified xsi:type="dcterms:W3CDTF">2007-04-19T22:00:45Z</dcterms:modified>
  <cp:revision>25</cp:revision>
  <dc:subject/>
  <dc:title>FUENTES DEL DERECHO INTERNACIONAL</dc:title>
</cp:coreProperties>
</file>