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9469F-62DB-473E-844C-3C7B527A5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8E64-96C1-4503-9FCF-531CE1BAF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A00C4-356C-45F9-AFE9-B359724C4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EEA8B-5A42-4063-8526-FDCC0173B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8C255-7062-4F2D-8AA8-D6477247C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BEDA8-59E7-4F52-84D8-E880E4EE1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1DEB4-57FB-435D-8F32-4EDAB7ED8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AD1FF-F621-4EE3-905F-68BEB231B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0F720-DB8A-4497-A838-8F088B127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C097D-3E36-413D-B072-9FD1DF2DC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23391-992A-4A43-B71A-5E5284695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9B869-DD54-4200-AA40-F6314DD2A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E3C60-FA29-4A49-ABAD-59FF04BBA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691A1-28FD-4E81-9CE8-DC8BA5E1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18CBFA-8151-48B2-8BAE-CFFC78240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6DAC1-4288-4801-BD08-BD1133429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67EB4-2D58-4AE4-8650-B517324BC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761D4-DCBF-4B0B-A416-64755BF6D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4D5E-B68D-4D22-AC22-A873AF231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D6829-E0B9-49FD-A589-42BBA1093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B8D43-9934-472A-8CA5-36E76F407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14DD-9C82-47A0-A10A-F6E38A922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6904-2AB5-4BC4-996C-6DBD63F7A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D16B-2375-4284-B6C6-2CE399E37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E20A-9E01-4AA6-AF2C-5B638A8293BF}"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839B-4184-47DD-A68D-03392552A87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2120"/>
            <a:ext cx="7772400" cy="365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es-ES" sz="4400" spc="-1" strike="noStrike">
                <a:solidFill>
                  <a:srgbClr val="ffcc66"/>
                </a:solidFill>
                <a:latin typeface="Arial"/>
                <a:ea typeface="Times New Roman"/>
              </a:rPr>
              <a:t> </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0" y="0"/>
            <a:ext cx="9144000" cy="685800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
          <p:cNvSpPr/>
          <p:nvPr/>
        </p:nvSpPr>
        <p:spPr>
          <a:xfrm>
            <a:off x="0" y="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RESPONSABILIDAD INTERNACIONA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c66"/>
                </a:solidFill>
                <a:uFillTx/>
                <a:latin typeface="Times New Roman"/>
              </a:rPr>
              <a:t> </a:t>
            </a:r>
            <a:r>
              <a:rPr b="1" lang="es-ES" sz="2800" spc="-1" strike="noStrike" u="sng">
                <a:solidFill>
                  <a:srgbClr val="ffcc66"/>
                </a:solidFill>
                <a:uFillTx/>
                <a:latin typeface="Times New Roman"/>
              </a:rPr>
              <a:t>DEL ESTADO</a:t>
            </a:r>
            <a:br>
              <a:rPr sz="2800"/>
            </a:br>
            <a:r>
              <a:rPr b="1" lang="es-ES" sz="2800" spc="-1" strike="noStrike" u="sng">
                <a:solidFill>
                  <a:srgbClr val="ffcc66"/>
                </a:solidFill>
                <a:uFillTx/>
                <a:latin typeface="Times New Roman"/>
              </a:rPr>
              <a:t>POR HECHOS ILÍCITOS</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s partidarios de la teoría de la culpa afirman que en un caso de este tipo es necesario atribuir la culpa al legislador.   al hacerlo, "el concepto de la culpa queda privado de toda consistencia: su investigación pasa a ser incierta y evasiva.  Sería necesario buscarla en los legisladores, aun en los redactores de la constitución del Estad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corresponde a la definición de "culpa" más aceptada en el derecho priv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2"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e argumento no es la razón básica para rechazar la teoría de la culpa en forma general.  La consideración decisiva radica en que, a no ser que la regla de derecho internacional -objeto específico de la violación- contemple la malicia o la negligencia culpable, las reglas de derecho internacional no contienen un "requisito general fluctuante de malicia o negligencia culpable como condición de responsabilidad".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iertas reglas especiales del derecho internacional pueden exigir como condición de la responsabilidad un elemento de malicia por parte del agente del Estado que violó la regl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uestión de saber si se requiere la existencia de la culpa como elemento de responsabilidad internacional se ha discutido especialmente en relación con ciertos casos de omisión, cuando la responsabilidad surge tan sólo si ha faltado la debida diligencia por parte de los agentes del Est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Varios laudos arbitrales han establecido la responsabilidad por la violación de los deberes de neutralidad o por ofensas contra extranjeros; siendo factor decisivo el determinar si los agentes del Estado dejaron de hacer lo que era necesario para proteger los derechos de los beligerantes o de los extranjeros Así, la responsabilidad del Estado está claramente vinculada con la negligencia de uno de sus agent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nclusión la culpabilidad o "culpa", aun cuando no se aplique a actos positivos, es un requisito previo a la violación del derecho internacional por omisión. </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laudos pueden explicarse sin que impliquen, necesariamente, una aceptación del concepto de la culpa.  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800" spc="-1" strike="noStrike">
              <a:solidFill>
                <a:srgbClr val="ffffff"/>
              </a:solidFill>
              <a:latin typeface="Times New Roman"/>
            </a:endParaRPr>
          </a:p>
          <a:p>
            <a:pPr marL="322200" indent="-3222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del Estado no requiere la existencia de un acto de malicia, negligencia o descuido por parte de cualquier agente individual; puede consistir en un defecto general o en una falla en la estructura del Estado, o en su administración pública, y estar absolutamente separado de toda intención subjetiva.  Puede aun radicar en la "insuficiencia" de los poderes legales del gobierno.  En estos casos, sería inútil buscar la culpa del órgano legislativo o constitucional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JURISPRUDENCIA CORTE INTERNACIONAL EN RELACIÓN CON  CULP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 la sentencia se hubiera fundado en  la "culpa" no habría sido necesario para los jueces Krylov, Acevedo y Ecer declararse en favor de esa doctrina en sus votos disident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Corte buscó determinar la responsabilidad internacional ver si había existido la violación de una obligación preexistente.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internacional se origina en  conductas violatorias de normas de derecho internacional, de los sujeto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del Estado puede provenir de conductas violatorias de personas, bienes o  derechos de otro Estado, si tales personas, bienes o derechos están protegidos por normas internacionales.</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conclusión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prueba es de importancia decisiva en materia de responsabilidad, es de difícil producción por la parte perjudicada. dificultad aumenta cuando  Estado reclamante no puede obtener pruebas  del origen de los daños porque el Estado demandado ejerce control exclusivo sobre su territorio.</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ino Unido invocó ante  Corte el principio res ipsa loquitur del commom law que traslada la carga de la prueba del demandante cuando el demandado tiene el control exclusivo del objeto que causó el daño.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 traslado de la carga de la prueba del demandante al demandado o el establecimiento de presunciones que tienen el mismo efecto, son instrumentos importantes usados por el derecho interno para promover la evolución del derecho de la responsabilidad con base en los conceptos del riesgo o de la responsabilidad absolu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a Corte se negó a dar el paso hacia la responsabilidad absoluta solicitado por el Reino Unido, declarando: "el mero hecho del control ejercido por un Estado sobre su territorio y sus aguas, por sí mismo, y aparte de otras circunstancias, no implica prima facie responsabilidad ni traslada la carga de la prueba".  Sin embargo, debido a este control territorial exclusivo, a la víctima "debe permitírsela un recurso más liberal a las inferencias de los hechos y a la prueba circunstancia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380880" y="-360"/>
            <a:ext cx="876312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DEL RIESG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aceptación por el derecho interno del principio de responsabilidad por el "riesgo creado significa que quien por su propio placer o utilidad introduce algo peligroso a la sociedad, es responsable de cualquier accidente que de ello se derive, aun cuando no se le pueda imputar culpa o negligencia alguna.</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teoría  incorporada a la legislación nacional de muchos países en relación con los accidentes del trabajo y  se aplica a otras actividades ultra peligrosas, como  almacenaje de explosivos,  trabajos con barrenos,  daños en tierra causados por la aviación y la fisión nuclear con propósitos industriales y de transpor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 usa únicamente sobre la base de reglas preexistentes para un número limitado de actividades extremadamente peligrosas.  </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l derecho internacional, la teoría del riesgo se aplica de manera similar, no como un principio general de responsabilidad, sino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0" name="PlaceHolder 2"/>
          <p:cNvSpPr>
            <a:spLocks noGrp="1"/>
          </p:cNvSpPr>
          <p:nvPr>
            <p:ph/>
          </p:nvPr>
        </p:nvSpPr>
        <p:spPr>
          <a:xfrm>
            <a:off x="0" y="-360"/>
            <a:ext cx="91440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esponsabilidad definida en la Convención Suplementaria del 31 de enero de 1963 sobre Responsabilidad Frente a Terceros por Daño Nuclear; en la Convención de París del 29 de julio de 1960, sobre la misma materia, entre los miembros de la OECE; y en la Convención de Bruselas del 25 de mayo de 1962, relativa a la Responsabilidad de los Operadores de Naves Nucleares.  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a aplicación del principio de la responsabilidad absoluta en el derecho internacional es  daños y perjuicios causados por el lanzamiento de objetos al espacio exterior y su caída a la tierra.  De nuevo la razón práctica resulta ser la extrema dificultad para probar negligencia de alguna clase por parte de los Estados u organizaciones que lanzan objetos al espacio.   el principio de la responsabilidad absoluta no ha sido establecido por una convención especial, sino por la resolución de la Asamblea General de las Naciones Unidas sobre los Principios jurídicos que Rigen las Actividades de los Estados en la Exploración y el Uso del Espacio  Exterior.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sgo común a doctrina de la responsabilidad      absoluta es que las actividades que causan, o que es probable que causen el daño, son peligrosas pero no ilícitas.</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Otro ejemplo efecto de las radiaciones atómicas resultantes de las pruebas nucleares- no pertenece  a esta categoría.  No debe incluirse en la teoría del riesgo, sino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a:t>
            </a:r>
            <a:endParaRPr b="0" lang="en-US" sz="2800" spc="-1" strike="noStrike">
              <a:solidFill>
                <a:srgbClr val="ffffff"/>
              </a:solidFill>
              <a:latin typeface="Times New Roman"/>
            </a:endParaRPr>
          </a:p>
          <a:p>
            <a:pPr marL="339480" indent="-3394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6"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2"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4"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UJETOS DE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UEDEN REALIZAR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CCION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OMISIONE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COTEJAN FRENTE AL DIP</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SON CONFORMES AL DIP  NO HAY RESPONSABILIDAD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I NO SON CONFORMES AL DIP INCURRE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 RESPONSABILIDAD INTER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6" name="PlaceHolder 2"/>
          <p:cNvSpPr>
            <a:spLocks noGrp="1"/>
          </p:cNvSpPr>
          <p:nvPr>
            <p:ph/>
          </p:nvPr>
        </p:nvSpPr>
        <p:spPr>
          <a:xfrm>
            <a:off x="-360" y="0"/>
            <a:ext cx="8458200" cy="685800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Elementos de la responsabilidad internacional.</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1.- Sea acto u omis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La infracción puede recaer en un acto positivo o la omisión de un acto al que el Estado estaba oblig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1" i="1" lang="es-ES_tradnl" sz="2800" spc="-1" strike="noStrike" u="sng">
                <a:solidFill>
                  <a:srgbClr val="ffffff"/>
                </a:solidFill>
                <a:uFillTx/>
                <a:latin typeface="Times New Roman"/>
                <a:ea typeface="Times New Roman"/>
              </a:rPr>
              <a:t>2.- Que sea contrario al Derecho Internacional.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ebe generarse el hecho ilícito internacional. Un acto puede ser perfectamente lícito bajo el Derecho interno, pero no  conforme al Derecho internacional. Si un Estado celebra un tratado y es ratificado internamente, la no dictación de decretos que lo hagan cumplir dentro del país no es razón suficiente para que el Estado pretenda excepcionarse  de cumplir su obligación, siendo que se han cumplido los requisitos que el Derecho internacional requie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360" y="-360"/>
            <a:ext cx="8458200" cy="6095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En este último caso, la responsabilidad es ante el Estado del cual el extranjero es nacional.</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3) La imputabilidad.</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ualquier órgano del Estado compromete  la responsabilidad de este por los actos u omisiones cometidos por funcionarios o por particular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Respecto al </a:t>
            </a:r>
            <a:r>
              <a:rPr b="0" i="1" lang="es-ES" sz="2800" spc="-1" strike="noStrike">
                <a:solidFill>
                  <a:srgbClr val="ffffff"/>
                </a:solidFill>
                <a:latin typeface="Times New Roman"/>
                <a:ea typeface="Times New Roman"/>
              </a:rPr>
              <a:t>funcionario incompetente</a:t>
            </a:r>
            <a:r>
              <a:rPr b="0" lang="es-ES" sz="2800" spc="-1" strike="noStrike">
                <a:solidFill>
                  <a:srgbClr val="ffffff"/>
                </a:solidFill>
                <a:latin typeface="Times New Roman"/>
                <a:ea typeface="Times New Roman"/>
              </a:rPr>
              <a:t>, la regla es que sus actos comprometan al Estado al que pertenece, a menos que su incompetencia sea manifiesta (por ejemplo, el caso del cartero desubicado que arresta a alguien). El funcionario técnicamente incompetente, pero aparentemente competente compromete al Estado que integra con sus acto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Circunstancias en que se excluye la i</a:t>
            </a:r>
            <a:r>
              <a:rPr b="1" i="1" lang="es-ES" sz="3200" spc="-1" strike="noStrike" u="sng">
                <a:solidFill>
                  <a:srgbClr val="ffffff"/>
                </a:solidFill>
                <a:uFillTx/>
                <a:latin typeface="Times New Roman"/>
                <a:ea typeface="Times New Roman"/>
              </a:rPr>
              <a:t>- El consentimiento de la víctim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2.- Legítima defens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3.- Las contramedidas o represalia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4.- La fuerza mayor y el caso fortuit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5.- El estado de necesidad.</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	</a:t>
            </a:r>
            <a:r>
              <a:rPr b="1" i="1" lang="es-ES" sz="3200" spc="-1" strike="noStrike" u="sng">
                <a:solidFill>
                  <a:srgbClr val="ffffff"/>
                </a:solidFill>
                <a:uFillTx/>
                <a:latin typeface="Times New Roman"/>
                <a:ea typeface="Times New Roman"/>
              </a:rPr>
              <a:t>Bajo estas circunstancias, como no hay acto ilícito, no hay responsabilidad internacional. A modo de ejemplo podríamos citar el caso del Rainbow Warri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licitud de los acto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4" name="PlaceHolder 2"/>
          <p:cNvSpPr>
            <a:spLocks noGrp="1"/>
          </p:cNvSpPr>
          <p:nvPr>
            <p:ph/>
          </p:nvPr>
        </p:nvSpPr>
        <p:spPr>
          <a:xfrm>
            <a:off x="304560" y="-360"/>
            <a:ext cx="8839080" cy="60958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4) El daño. </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l acto contrario al Derecho Internacional debe producir daño. Tradicionalmente el daño se relaciona a personas y propiedad. Sin embargo, el daño aveces no afecta directamente a las personas, por esto se ha extendido a otro tipo de daño que es el  genérico (ej: la contaminación). Cualquier acción debe sostener un interés jurídico del reclamante; en el caso del daño genérico es difícil hallar un interés jurídico, por lo cual la acción la entabla un mandatario que representa a la comunidad y en su nombre. Esta es una modalidad nueva que consiste en que una entidad actúa a nombre de la comunidad internacional. Se ha hablado de la existencia de un "Alto Comisionado" del medio ambiente. Se presentan problemas cuando la víctima es un particular o el que causa daño lo es.</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ctr">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ff"/>
                </a:solidFill>
                <a:uFillTx/>
                <a:latin typeface="Times New Roman"/>
                <a:ea typeface="Times New Roman"/>
              </a:rPr>
              <a:t> </a:t>
            </a:r>
            <a:r>
              <a:rPr b="1" lang="es-ES_tradnl" sz="2800" spc="-1" strike="noStrike" u="sng">
                <a:solidFill>
                  <a:srgbClr val="ffffff"/>
                </a:solidFill>
                <a:uFillTx/>
                <a:latin typeface="Times New Roman"/>
                <a:ea typeface="Times New Roman"/>
              </a:rPr>
              <a:t>la reparación del dañ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la restitutio in integrum. </a:t>
            </a:r>
            <a:r>
              <a:rPr b="0" lang="es-ES" sz="2800" spc="-1" strike="noStrike">
                <a:solidFill>
                  <a:srgbClr val="ffffff"/>
                </a:solidFill>
                <a:latin typeface="Times New Roman"/>
                <a:ea typeface="Times New Roman"/>
              </a:rPr>
              <a:t>El objetivo es borrar los efectos del daño y procurar volver al estado anterior al hecho que produjo tal daño. Existen dos modalidade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ea typeface="Times New Roman"/>
              </a:rPr>
              <a:t>a) La indemnizació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onsiste en el pago de una suma de dinero como compensación. Sus características son:</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Debe haber un vínculo de directo de causalidad entre el hecho y el dañ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8"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e debe indemnizar el daño emergente, en que se compensa por una pérdida pecuniaria.</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Se puede indemnizar también el lucro cesante, que consiste en una expectativa genuina  y legítima de haber obtenido alguna ganancia, su estimación es dificultosa. La estimación de una indemnización es una tarea que excede del ámbito jurídico y concurrirán siempre criterios económicos para facilitarla. Se puede llegar a indemnizar a suma alzada cuando los medios de estimación normales fracasan en la medición del lucro cesante (la medición del daño emergente es muchísimo más fácil de efectua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0"/>
            <a:ext cx="7772400" cy="685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a:t>
            </a:r>
            <a:endParaRPr b="0" lang="en-US" sz="4400" spc="-1" strike="noStrike">
              <a:solidFill>
                <a:srgbClr val="ffcc66"/>
              </a:solidFill>
              <a:latin typeface="Arial"/>
            </a:endParaRPr>
          </a:p>
        </p:txBody>
      </p:sp>
      <p:sp>
        <p:nvSpPr>
          <p:cNvPr id="18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stimación del lucro ces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81" name=""/>
          <p:cNvSpPr/>
          <p:nvPr/>
        </p:nvSpPr>
        <p:spPr>
          <a:xfrm>
            <a:off x="380880" y="0"/>
            <a:ext cx="876312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906640" y="3048120"/>
            <a:ext cx="18396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4" name="PlaceHolder 2"/>
          <p:cNvSpPr>
            <a:spLocks noGrp="1"/>
          </p:cNvSpPr>
          <p:nvPr>
            <p:ph/>
          </p:nvPr>
        </p:nvSpPr>
        <p:spPr>
          <a:xfrm>
            <a:off x="685800" y="456840"/>
            <a:ext cx="7772400" cy="5638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66"/>
                </a:solidFill>
                <a:latin typeface="Arial"/>
                <a:ea typeface="Arial"/>
              </a:rPr>
              <a:t>criterio del valor de reemplazo": </a:t>
            </a:r>
            <a:r>
              <a:rPr b="0" lang="es-ES" sz="2800" spc="-1" strike="noStrike">
                <a:solidFill>
                  <a:srgbClr val="ffcc66"/>
                </a:solidFill>
                <a:latin typeface="Times New Roman"/>
                <a:ea typeface="Times New Roman"/>
              </a:rPr>
              <a:t>cuánto costaría reemplaza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l infractor.</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El daño, además de material puede ser moral, y también debe ser indemnizado. Es común la concurrencia de ambos tipos de daño en un sólo hecho ilícito. Sin embargo, a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ea typeface="Times New Roman"/>
              </a:rPr>
              <a:t> </a:t>
            </a:r>
            <a:r>
              <a:rPr b="1" i="1" lang="es-ES_tradnl" sz="3200" spc="-1" strike="noStrike" u="sng">
                <a:solidFill>
                  <a:srgbClr val="ffffff"/>
                </a:solidFill>
                <a:uFillTx/>
                <a:latin typeface="Times New Roman"/>
                <a:ea typeface="Times New Roman"/>
              </a:rPr>
              <a:t>La satisfacción.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8"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CONSTITUTIVOS DE LA RESPONSABILIDAD INTERNACIONAL</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ementos esenciales para el establecimiento  responsabilidad internacional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1)</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stencia de un acto u omisión que viola una obligación establecida por una regla de derecho internacional vigente entre el Estado responsable del acto u omisión y el Estado perjudicado por dicho acto u omisión</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2)</a:t>
            </a: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l acto ilícito debe ser imputable al Estado como persona jurídica.</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3)   Debe haberse producido un perjuicio o un daño como consecuencia del acto ilícito.  , en las relaciones interestatales el concepto del daño no tiene un carácter esencialmente material o patrimoni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2"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6"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Los actos ilícitos lesivos de intereses, no materiales originan una reparación adecuada, aunque no hayan tenido como resultado una pérdida pecuniaria  el Estado reclamante.</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stos elementos del ilícito han sido confirmados por la practica del Estado, la jurisprudencia y la doctrina como requisitos, esenciales para el nacimiento de la responsabilidad internacional. En el proyecto no se incluyo el daño como elemento constitutivo independiente. A juicio del relator  especial, Roberto Ago.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razón  que ciertos autores consideren al daño como elemento constitutivo de la responsabilidad internacional, consiste en que  examinan sólo la responsabilidad en relación con el perjuicio causado a extranjeros,  un ámbito en que el deber que se viola es  una obligación de no causar perjuicios.  Aduce  que en estos casos, el requisito del daño está contenido, en las reglas primarias y no en las secundarias relativas a la responsabilidad del Estado;  el elemento daño estaría implícito en el primer elemento constitutivo.  Jiménez de Aréchega, comentando el informe del proyecto establece:</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el daño no forma parte de las reglas primarias, está vinculado con las reglas secundarias de responsabilidad del Estado, puesto que se refiere a su implementación en el plano diplomático y judicial.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4"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 requisito del daño es,  una expresión de un principio jurídico fundamental que prescribe que nadie tiene acción sin un interés de carácter jurídico.  El daño sufrido por un Estado es  el elemento que autoriza a un Estado  a formular una reclamación contra otro y a pedir reparación.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última postura tiene  apoyo en la doctrina: es difícil pensar en reparación sin hacer referencia al daño.   la determinación de la forma de reparar, dependerá del tipo de daño y de los bienes dañados; de no ser el daño un elemento constitutivo, la base para la determinación de las sanciones seria inexistente.</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CUESTIÓN DE LA CULPA</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elementos constitutivos  complementada con un elemento subjetivo adicional: la falta o culpa del Estado.</a:t>
            </a:r>
            <a:endParaRPr b="0" lang="en-US" sz="3200" spc="-1" strike="noStrike">
              <a:solidFill>
                <a:srgbClr val="ffffff"/>
              </a:solidFill>
              <a:latin typeface="Times New Roman"/>
            </a:endParaRPr>
          </a:p>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Times New Roman"/>
              </a:rPr>
              <a:t>lo  relevante no es la actitud psicológica de los individuos que actúan como órganos del Estado, sino la conducta objetiva del Estado :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GILDA CICCI SALAZAR</cp:lastModifiedBy>
  <dcterms:modified xsi:type="dcterms:W3CDTF">2007-03-23T04:48:32Z</dcterms:modified>
  <cp:revision>55</cp:revision>
  <dc:subject/>
  <dc:title>        </dc:title>
</cp:coreProperties>
</file>