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391CB-8BDD-4F08-B801-51431078C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4DA4F-4339-460E-8F19-6C17BCB9A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9EB8C-8E46-4A13-A7DB-690A08A54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1BD57-EB3D-4B54-B14B-E79538666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66487-4CCF-4991-BCBA-FFE26EB26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0A51D-E33A-41DB-9D4F-EB3DCD6F5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D2DC3-FF64-4D78-B94B-5F0AE92E9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34E6D-61A2-4B51-9700-D31A5230A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2849C-ED28-4872-82D0-B56122CB6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18FC4-844D-4B77-B90C-5BD3E7741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BDE8E-A9BA-4E2D-B7CF-27556F996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61874-80BB-49DA-A286-57353B9A2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6EF7E-F3F7-4F1A-9894-32FF2A00D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9803E-2937-49E6-9038-00763A70F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C06FE-1CBB-4D47-8649-B6176B969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E714A-C3F2-4C98-AB24-5358AB49E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04E12-8BAF-4A75-86EF-DE7B17966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AAEF4-252D-4D24-A935-B71CB10F1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B2D1A-BE08-40C4-BBF9-BAC98DE22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5E0E9-2EC0-4196-B2C1-2170637CB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82B5F-A201-44B2-87B7-640F23E48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2729D-76F0-4A8A-AAB8-9CF53EBB8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9EADB-FC63-4895-B0E6-3B5830D16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243AF-DC0A-46FB-9103-059764943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74A02-7D9C-4395-94A6-538B84CF7287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96DCE-3D9B-4A68-BEC8-DB99FCA8F53D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4784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896040" algn="ctr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438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7920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37160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ffff"/>
                </a:solidFill>
                <a:latin typeface="Times New Roman"/>
              </a:rPr>
              <a:t>Derecho Internacional Público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1905120" y="3429000"/>
            <a:ext cx="67053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imes New Roman"/>
              </a:rPr>
              <a:t>Profesora: Srta. Gilda Cicc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221840" y="0"/>
            <a:ext cx="7273440" cy="69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FUNCION EJECUTIVA.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EN ORDEN INTERNO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ISTE UN PODER EJECUTIV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- OBTIENE CUMPLIMIENTO DE LAS NORM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-ASEGURA LA APLICACIÓN DE LAS SANCION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EN ORDEN INTERNACIONAL</a:t>
            </a:r>
            <a:r>
              <a:rPr b="1" lang="es-ES_tradnl" sz="1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LTA UNA AUTORIDAD CENTR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 HAGA OBLIGATORIA LAS NORMAS DEL DIP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ACCION DEL ESTADO LESIONAD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 LA INTERVENCIÓN DE OTROS ESTAD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N LOS MEDIO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RA DAR EFECTIVIDAD AL DIP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DIDAS QUE PUEDE ADOPTAR EL ESTAD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RETIRO DE AGENTES DIPLOMÁTIC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RUPTURA DE RELACIONES DIPLOMÁTICAS CON ESTADO INFRACTO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SUSPENSION CUMPLIMIENTO DE UN TRATAD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NO RECONOCER UNA SITUACIÓN CONTRARIA AL DIP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946440" y="557280"/>
            <a:ext cx="8230680" cy="49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OTRAS MEDID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LOS SISTEMAS DE SEGURIDAD COLECTIVA</a:t>
            </a: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MERA EXPERIENCIA- SOCIEDAD DE LAS NACIONES-INSUFICIENT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FECCIONADA POR LA ONU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NDE LA CENTRALIZACIÓN SE EXPRES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 LAS ATRIBUCIONES DEL CONSEJO DE SEGURIDAD CAPITULO VII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CENTRALIZACIÓN TAMBIEN SE EXPRESA  EN LA FUNCION EJECUTI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 EL MECANISMO  PREVISTO EN LA CARTA DE LA ONU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RA CUMPLIR  LAS SENTENCIAS  DICTADAS POR LA CIJ ART 94-No 2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FALTA DE SANCION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LTA DE UN PROCEDIMIENTO JUDICIAL OBLIGATORIO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 SOLUCION D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FLICT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FALTA DE UNA AUTORIDAD CENTRAL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 APLIQUE LAS SENTENCI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QUE HAGA CUMPLIR EL DIP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996480" y="0"/>
            <a:ext cx="7707960" cy="697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FUNCION JUDICIAL.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EN DERECHO INTERNO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FUNCION CORRESPONDE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TRIBUNALES PERMANENT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S CARACTERÍSTICA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- OBLIGATORIEDAD DE LA JU7RISDICC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- JERARQUIZACION DE LAS INSTANCIAS JUDICIAL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EN EL DIP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JURISDICCIÓN  ES OBLIGATORIA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ANDO LOS ESTADOS</a:t>
            </a:r>
            <a:r>
              <a:rPr b="0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HAN ACEPTAD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PRESAMENT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S ESTADOS PUEDEN OTORGAR JURISDICCIÓN A UN TRIBUNAL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TES  O DESPU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 SURJA EL LITIGI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O LOS ESTADOS POR LA INTERDEPENDENCIA Y LA GLOBALIZACIÓ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VIOLAN EL DIP  CON FRECUENCI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 LA PREVENCIÓN Y SANCION  DE LAS VIOLACION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CONSEJO DE SEGURIDAD</a:t>
            </a:r>
            <a:r>
              <a:rPr b="0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IENE LA RESPONSABILIDAD PRIMORDIA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 EL MANTENIMIENTO DE LA PAZ Y SEGURIDAD INTERNACIONAL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S DECISIONES SON OBLIGATORIAS PARA SUS MIEMBRO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 SOLO EN 1990 POR EL ACTO DE AGRESION DE IRAK CONTRA KUWAI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OPTO  MEDIDAS  EN EL MARCO DEL CAPITULO VII DE LA ONU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993960" y="0"/>
            <a:ext cx="7719840" cy="69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SOLUCIÓN PACÍFICA DE LAS CONTROVERSI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 EL DIP EXISTE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OBLIGACIÓN DE SOLUCIONAR LAS CONTROVERSI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R MEDIOS PACIFIC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T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 3 Y ART 33 DE LA ONU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 EL PRINCIPIO DE LA LIBRE ELECCIÓN DE LOS MEDIOS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UNICO MEDIO DE ARREGLO OBLIGATORIO PARA LAS PART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 EL JURISDICCION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ARBITR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O  JUDICIAL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RECURSO A ESTE MEDIO ES VOLUNTARIO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PRECURSORES DEL DI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OLOGOS ESPAÑO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FRANCISCO DE VITORIA SIGLO XV  Y SIGLO XV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PADRE SUAREZ  SIGLO XVI-  SIGLO XVI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ALBERICO GENTILI  SIGLO XVI—SIGLO XVI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MAS IMPORTANT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HOLANDES HUGO GROCIO  SIGLO XVI—SIGLO XVI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RAS—---MARE LIBERUM—Y DE JURE  BELLI AC PACIS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890280" y="0"/>
            <a:ext cx="8242920" cy="69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OMUNIDAD INTERNACION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ORIGEN DI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NACIMIENTO SIGLO XVI Y XVII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E ESTADOS EUROPE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P NACE EN LA MODERNIDAD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R     SISTEMA EUROPEO     ESTADO – NACIÓ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E    RENACIMIENTO EUROPEO     Y  LA  REFORMA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COMPORTAMIENTOS OBLIGATORI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 TIEMPOS DE GUERR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 TIEMPOS DE PAZ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RMAS DEL DIP ACTUAL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   BASAN EN PRACTICAS SOBR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INMUNIDADES  DIPLOMÁTIC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PRISIONEROS DE GUERR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ARBITRAJES ETC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EDAD MEDIA.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RMAS OBLIGATORIAS PARA LAS COMUNIDADES FEUDALES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S ESTADOS MODERNOS EUROPEOS CRISTIANOS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R PODERIO ECONOMICO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 MILITAR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IMENTARON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NUEVO SISTEMA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JURÍDICO UNIVERSAL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UESTO A COMUNIDADES  NO EUROPE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990720" y="380880"/>
            <a:ext cx="8467560" cy="624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EN ANTIGÜEDAD Y LOS TIEMPOS MODERNOS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DEA DE UN ESTADO UNIVERSAL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DERECHO ROMANO SE ADAPTA A NUEVAS NECESIDADES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 ASI   APARECE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IUS  GENTIUM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JUNTO DE COSTUMBRES CREADAS  Y PUESTAS  EN PRACTIC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R TODOS LOS PUEBLOS  EN EL IMPERIO ROMANO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”.-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RENACIMIENTO  Y REFORMA</a:t>
            </a: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ELERAN FIN  DEL SISTEMA FEUD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PAZ DE WESTFALIA  ( 1648 )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USO FIN A LA GUERRA DE LOS 30 AÑ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E     HOLANDA( PAIS PROTESTANTE) Y LOS PAISES BAJOS( CATÓLICOS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 MOTIVOS POLÍTICO-RELIGIOSO)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TA PAZ DE WESTFALIA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;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MENTO HISTORICO POR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EPTACIÓN DE UN NUEVO ORDE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JURIDIC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POLITIC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Y RELIGIOSO  EN EUROP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072440" y="533520"/>
            <a:ext cx="7117920" cy="55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OMIENZA LA ERA DEL ESTADO.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EL IMPERIO ES REEMPLAZADO POR LOS ESTAD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SURGEN   GRANDES POTENCI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INGLATERRA—ESPAÑA—PORTUGAL—FRANCIA—SUECIA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Y LOS PAISES BAJOS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TE PROCESO EXPRESA  UN NUEVO DERECHO PUBLICO EUROPEO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 SE ESTRUCTURA SOBRE LAS BASES DE UNA COMUNIDAD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ACIONAL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DESCENTRALIZAD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DESORGANIZAD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PRINCIPIO DE IGUALDAD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URÍDICA DE LOS ESTAD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Y DE LA SOBERANIA TERRITORI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PANSION DE IMPERIO ING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EN LAS INDIAS     Y      EN AMERICA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A EXPENSAS DE  FRANCIA  Y DE ESPAÑ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999720" y="409680"/>
            <a:ext cx="7875000" cy="64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EPENDENCIA DE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A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  DE JULIO  DE  1776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GITIMIDAD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EMOCRATIC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SE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BRE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CONSENTIMIENTO  DE LOS PUEBLOS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VOLUCION FRANCESA  1789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CIPIO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—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RECHO DE LOS PUEBLOS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DISPONER DE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SI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SM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Y DERECHOS DEL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HOMBRE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EL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CIUDADANO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GRESO DE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VIENA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—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815.-        RECONSTRUIR   EL   MAPA  DE  EUROPA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SIDENTE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A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MONROE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823-   ENUNCIA-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CTRINA  MONRO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SE-- DE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LÍTICA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EXTERIOR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NORTEAMERICANA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MERICA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PARA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S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MERICANOS”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DAD  DE  ITALIA  Y  DE ALEMANIA-   SEGUNDA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MITAD  SIGLO XIX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 AMERIC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899 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COMIENZA EL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STEMA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AMERICANO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PROHIBICION   FUERZA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SOLUCION   PACIFICA 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  LAS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CONTROVERSIAS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DIFICACIÓ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U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STITUCIONALIZACION DE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LA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UNIDAD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NTERNACION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ACTIVA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PROCESO  DESCOLONIZACIÓN  RESOLUCIÓN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51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SURGEN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NUEVOS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ESTADOS EN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I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1960 LA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COLONIZACIÓN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SE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ELERA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EN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FRIC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069920" y="328680"/>
            <a:ext cx="4827600" cy="17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ESTRUCTURA ESTAT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ENTRALIZAD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JERARQUIZAD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ORGANIC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Y ORGANOS CENTR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PODER EJECUTIVO-LEGISLATIVO- JUDICIAL</a:t>
            </a: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070640" y="2462040"/>
            <a:ext cx="7689600" cy="42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ESTRUCTURA INTERNACION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DESCENTRALIZAD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INORGANICA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PARITARI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IGUALITARIA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NO HAY ORGANOS CENTR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 AMBITOS PARTICULARES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ISTE CENTRALIZACIÓN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J COMUNIDAD EUROPEA  Y CONSEJO DE SEGURIDAD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ISTE  FUERTE PODER  DEL CONSEJO EN LA PAZ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DIP ES UN DERECHO QUE RESPONDE A UN MEDIO SOCIAL DIFERENTE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 ESTAN PRESENTES  LAS  FUNCIONES  BASIC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JUDICIAL   -LEGISLATIVA--  EJECUTIVA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DE UNA MANERA DISTINT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APROPIADA A LA COMUNIDAD INTERNACIONAL</a:t>
            </a: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067400" y="914400"/>
            <a:ext cx="7840800" cy="481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ATEGORÍAS </a:t>
            </a: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DE</a:t>
            </a: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NORMAS QUE RIGEN </a:t>
            </a: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 </a:t>
            </a: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LAS</a:t>
            </a: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RELACIONES  ENTR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LOS </a:t>
            </a: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ESTAD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--DERECHO INTERNACIONAL—NORMAS INTERNACION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-CORTESIA INTERNACION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TEGORÍA NORMATIVA  NO  JURÍDICA.-NO SON NORMAS JURÍDIC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FACILITAN LA CONVIVENCIA- ENTRE  LOS  SUJETOS INTERNACIONALES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CONTENIDO DE ESTAS NORMAS ES DE MENOR RELEVANCIA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UNA NORMA DE CORTESÍA PUEDE CONVERTIRS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EN NORMA JURÍDICA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ALGUNAS NORMAS DE PROTOCOLO SON US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 LOS ESTADOS CUMPLE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NO ESTAN OBLIGADOS A HACERL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1101960" y="0"/>
            <a:ext cx="8038440" cy="70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INTRODUCCIÓ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P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</a:t>
            </a:r>
            <a:r>
              <a:rPr b="1" lang="ar-SA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SCIPLINA DE LAS RELACIONES INTERNACIONA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JETO DEL DIP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RMAS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JURÍDICAS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ULAN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S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LACIONES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NTERNACION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GLO XVIII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URISTA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RITÁNICO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REMIAS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NTHAM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TILIZO  LA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PRESION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 INTERNATIONAL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LAW”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  QUEDO COMO DERECH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ACIONAL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FINICIÓN  DEL  DIP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ULA LAS RELACIONES ENTRE LOS ESTADOS INDEPENDIENT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FINICIÓN INCOMPLETA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RQUE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EL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IP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MBIÉN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ULA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LAS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ELACIONES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E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TROS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JETOS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L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IP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SANTA SED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ORGANIZACIONES INTERNACION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GRUPOS NACIONALES INSURRECCION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RECHO INTERNACIONAL PUBLICO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 DERECHO INTERNACIONAL PRIVAD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DISTINCION ENTRE  AMBOS, EN CUANTO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AL CONTENID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FUENT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Y METOD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960480" y="609480"/>
            <a:ext cx="8366040" cy="54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LASIFICACION DE LAS NORMAS JURÍDIC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CONVENCION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CONSUETUDINARI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- BILATERALES—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MULTILATER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- PARTICULAR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GENER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P  PARTICULAR—OBLIGAN  A UN GRUPO DETERMINADO DE ESTAD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P GENERAL.—OBLIGAN A  TODOS LOS ESTADOS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RMAS QUE OBLIGAN A TODOS LOS ESTADOS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N NORMAS CONSUETUDINARIAS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IERTOS ESTADOS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 EXCLUYEN</a:t>
            </a:r>
            <a:r>
              <a:rPr b="0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 LA APLICACIÓN DE UNA NORMA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ERAL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 PROCESO PREVIO A LA POSITIVACION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</a:t>
            </a:r>
            <a:r>
              <a:rPr b="0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HAZO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S PRECEDENT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 EL ESTADO   RECALCITRANTE  U   OBJETOR PERSISTENTE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990720" y="380880"/>
            <a:ext cx="8153280" cy="57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-DISPOSITIV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IMPERATIVAS.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NORMAS</a:t>
            </a:r>
            <a:r>
              <a:rPr b="1" lang="es-ES_tradnl" sz="1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 </a:t>
            </a:r>
            <a:r>
              <a:rPr b="1" lang="ar-SA" sz="1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DISPOSITIVAS</a:t>
            </a:r>
            <a:r>
              <a:rPr b="1" lang="es-ES_tradnl" sz="1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RMAS JURÍDICAS OBLIGATORI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MITEN ACUERDO  EN CONTRARI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 DOS ESTADOS CONVIENEN UNA RENUNCIA BILATERAL  A   L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MUNIDAD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   JURISDICCIÓN.-)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NORMAS IMPERATIVAS.-O DE IUS COGENS</a:t>
            </a:r>
            <a:r>
              <a:rPr b="1" lang="es-ES_tradnl" sz="1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   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RMA JURÍDICA OBLIGATORI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 NO ADMITE ACUERDO EN CONTRARI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DO ACUERDO EN CONTRARIO</a:t>
            </a:r>
            <a:r>
              <a:rPr b="0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 NULO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J-PROHIBICION DEL USO DE LA FUERZA ETC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N UN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MITE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LA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UTONOMIA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UNTAD  DE  LOS  ESTADOS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MERA CONSAGRACIÓN POSITIVA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T 53   CONVENCION DE VIENA SOBRE DERECHO DE LOS TRATADOS 1969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ART 53 DEFINE  LA NORMA IMPERATIVA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989640" y="380880"/>
            <a:ext cx="7260120" cy="62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DOMINIO</a:t>
            </a: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RESERVADO </a:t>
            </a: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DE</a:t>
            </a: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 </a:t>
            </a: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LOS</a:t>
            </a: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ESTADOS</a:t>
            </a: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 O </a:t>
            </a: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COMPETENCIA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DOMESTICA.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AMBITOS ESTATALES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NDE NO  HAY   NORMAS INTERNACION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  PRESCRIBAN  DETERMINADOS  COMPORTAMIENT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  LOS ESTADOS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DOMINIO REGLADO DEL   ESTADO.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ESTADO CELEBRA UN TRATADO SOBRE UNA MATERI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ASUME UNA OBLIGACIÓN INTERNACION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QUE LIMITA  SU ACCION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DOMINIO RESERVADO  EN EL DIP CLÁSICO ERA MAS AMPLIO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OY POR LA GLOBALIZACIÓN Y LA INTERDEPENDENCI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ELEBRAN TRATADOS SOBRE DISTINTAS MATERI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EN LAS QUE ACTUAN DE ACUERD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 LAS OBLIGACIONES CONTRAÍDAS EN LOS TRATADOS.-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ESTADO REGLA SU COMPORTAMIENT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R NORMAS INTERNACIONALES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A PERDIENDO SU DOMINIO RESERVADO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J  DDHH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584360" y="39204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076400" y="1219320"/>
            <a:ext cx="7227720" cy="30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RATO</a:t>
            </a: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NACIONAL</a:t>
            </a: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 </a:t>
            </a: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SIN LIMITE</a:t>
            </a: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S</a:t>
            </a: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.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TO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TRANJEROS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NDAR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MINIMO INTERNACIONAL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 ESTADO NO RESPETA STANDA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S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MINIMO INTERNACION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TRANJERO RECURRE DE AMPARO O PROTECCIÓN DIPLOMÁTICA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SU ESTADO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DHH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APARECE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ESTA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IFERENCIA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TADO DEBE TRATAR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NACIONALES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EXTRANJER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GÚN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RMAS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E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TADOS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BRE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DHH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UMIDO.-</a:t>
            </a: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1071000" y="712800"/>
            <a:ext cx="7705080" cy="532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DERECHO INTERNACIONAL PRIVA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FUNCION</a:t>
            </a: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LUCIONAR CONFLICTOS DE LEYES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ANDO INTERVIENEN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UNO O MAS ELEMENTOS EXTRANJER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EXISTAN VARIAS LEGISLACIONES CONCURRENT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DERECHO INTERNACIONAL PRIVADO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DA LA SOLUCION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ICA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AL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GISLACIÓN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CIONAL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SE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CUENTRA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S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LAS  SE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IENEN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S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GISLACIONES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AS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E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DA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ESTADO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LAS QUE PUEDEN CODIFICARSE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TRATAD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J  CODIGO DE BUSTAMANTE   AÑO  1928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CONTENIDO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L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P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OBRA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S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ESTINATARIOS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ORTANTE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RQUE   Y 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ANDO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S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ESTADOS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MPLEN O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RINGEN  EL DIP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EL DIP  OPERA EN LA COMUNIDAD INTERNACIONAL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0"/>
            <a:ext cx="8153280" cy="64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ARACTERÍSTICAS  DE LA COMUNIDAD   INTERNACION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- PRESENCIA DE SUJETOS DE DIP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ESTAD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SANTA SED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ORGANIZACIONES INTERNACION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GRUPOS INSURRECTOS RECONOCIDOS COMO BELIGERANTES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- ESTRUCTURA—PARITARI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HAY SUBORINACION ENTRE ESTAD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PRINCIPIO-   IGUALDAD DE LOS ESTADOS ANTE EL DIP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INDEPENDENCI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DEBER DE NO INTERVENCIÓN EN LOS ASUNTOS DE OTROS ESTADOS.-ONU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- NUMERO DE SUJETOS—REDUCID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- AMBITO—UNIVERS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.- INORGÁNIC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NO EXISTEN ORGANOS DE CARÁCTER ESTABLE Y PERMANENT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.- DESCENTRALIZADA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.- COMPOSICIÓN-INTERESTATAL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066680" y="609480"/>
            <a:ext cx="6416640" cy="545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INUACIÓN..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P CARACTERIZADO PO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CARENCIA  DE  INSTITUCIONES ( INCERTIDUMBRE)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INSUFICIENTE  LA SANCION DE LAS VIOLACIONES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EXISTE UN PODER LEGISLATIVO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ASAMBLEA GENERAL ADOPTA RESOLUCIONES NO OBLIGATORI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LIGACIONES DE COMPORTAMIENT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NER LOS MEDIOS PARA UN RESULTADO SIN EXIGIRL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J SOLUCION DE CONTROVERSI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LIGACIONES DE RESULTAD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ONEN EL DEBER DE ALCANZAR  UN FI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J NO RECURRIR A LA AMENAZA O AL USO DE LA FUERZA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990720" y="0"/>
            <a:ext cx="8153280" cy="68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DEFINICIÓN DEL DI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RA IDENTIFICAR DENTRO DE TODAS LAS NORMAS JURÍDICAS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A REGLA DE DIP.-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-DEFINIR EL DIP  POR SUS DESTINATARIOS.-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P:  CONJUNTO DE NORMAS QUE REGULAN LAS RELACIONES</a:t>
            </a:r>
            <a:r>
              <a:rPr b="1" lang="es-ES_tradn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E SUJETOS DEL DIP.-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-  DEFINIRLO POR EL CONTENIDO.-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- DEFINIRLO POR LA CREACIÓN DE LAS REGLAS-POR SUS FUENTES.-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 PRESCINDE DE LA 1ª  PORQUE EL DIP SE REFIERE A LA RELACION</a:t>
            </a:r>
            <a:r>
              <a:rPr b="1" lang="es-ES_tradn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ULADA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SE DESCARTA EL CRITERIO MATERIAL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PORQUE EL CONTENIDO DEL DIP  ES CAMBIANTE- FLUIDO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EJ PROTECCIÓN DE LOS DERECHOS HUMANOS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EN 1789  FUERON OBJETO DE UNA DECLARACIÓN DE LA ASAMBLEA </a:t>
            </a:r>
            <a:r>
              <a:rPr b="1" lang="es-ES_tradn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TITUYENTE FRANCESA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Y EL 10- DE  DICIEMBRE DE 1948 SON PARTE INTEGRANTE DE LA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DECLARACIÓN DE LA ASAMBLEA  GENERAL DE LA ONU.-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Y EL 4 DE  NOVIEMBRE  DE 1950, RECIBEN  UNA  PROTECCIÓN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INTERNACIONAL EFECTIVA.-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POR LA CONVENCIÓN SOBRE SALVAGUARDA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DE LOS DERECHOS DEL HOMBRE 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ADOPTADA  EN EL MARCO DEL CONSEJO DE  EUROPA.-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1074960" y="0"/>
            <a:ext cx="8187480" cy="75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PUEDE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EFINIR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P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R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LA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TERIA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PORQUE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UEDEN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N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RESPONDER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LA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NUEVA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EALIDADE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O EXISTE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EN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EGLA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ACIONALE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EMENTO FIJO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CAMBIA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ES EL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CEDENCIA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IP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SE  DEFINE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O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EL CONJUNTO DE NORMAS POSITIVADA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R LOS PODERES NORMATIVOS DE LA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UNIDAD INTERNACIONA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LA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JURISPRUDENCIA  HAY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FINICIONES DEL DIP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LAS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UNTARISTAS   FUNDAMENTAN  EL  DIP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 LA VOLUNTAD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S ESTADOS.-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J  LA QUE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IZO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 CORTE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MANENTE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USTICIA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NTERNACIONA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SO LOTU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IP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IGE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LA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ELACIONE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E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TADO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NDEPENDIENTE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S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LA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E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RECHO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QUE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NCULAN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S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TADO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DEN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UNTAD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TO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UNTAD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IFESTADA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EN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CONVENCIONES O EN USO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CEPTAN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ERALMENTE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O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AGRADORES DE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PRINCIPIOS  DE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RECHO Y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TABLECIDOS CON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N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ULAR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EXISTENCIA DE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TAS COMUNIDAD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EPENDIENTE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CON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JETO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E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SECUCIÓN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NES COMUNES.-“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TA DEFINICIÓN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NO COINCIDE CON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LA JURISPRUDENCIA INTERNACIONAL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RQUE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NO HAY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RMA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CONVENCIONALE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NI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UETUDINARIA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LICA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CIPIO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GENERALE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E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ERECHO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YO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ASGO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ESNCIAL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TERMINAN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TE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ORDEN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NTERNO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LO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ESTADO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HÍ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GEN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URISDICCIONES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ACIONALE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LO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PLICAN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EN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UICIO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ESUELVAN.-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TOS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CIPIO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SON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CEPTADO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POR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DA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LA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NACIONES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J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.: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BUENA FE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Y 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LA 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SA</a:t>
            </a:r>
            <a:r>
              <a:rPr b="1" lang="es-ES_tradn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JUZGADA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ISTEN TAMBIEN LOS PRINCIPIOS PROPIOS DEL DIP  ART  2  DE LA CARTA DE LA ONU.-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1082880" y="0"/>
            <a:ext cx="7968240" cy="68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EL DIP Y LAS NORMAS DE CORTESÍA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DIP SE DISTINGUE  DE LA MORAL O CORTESÍA INTERNACIONAL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- POR LA RESPONSABILIDAD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-POR  EL GRADO DISTINTO  EN LAS SANCIONES.-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VIOLACIÓN DE UNA NORMA INTERNACIONAL ACARREA  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SPONSABILIDAD INTERNACIONAL .-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VIOLACIÓN DE UNA NORMA DE CORTESÍA INTERNACIONAL</a:t>
            </a:r>
            <a:r>
              <a:rPr b="1" lang="es-ES_tradn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IMPLICA 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SPONSABILIDAD INTERNACIONAL</a:t>
            </a:r>
            <a:r>
              <a:rPr b="1" lang="es-ES_tradn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NO REPULSIÓN DE LA OPINIÓN PUBLICA.-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NORMAS DE CORTESÍA INTERNACIONAL</a:t>
            </a:r>
            <a:r>
              <a:rPr b="1" lang="es-ES_tradnl" sz="1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JEMPLOS</a:t>
            </a:r>
            <a:r>
              <a:rPr b="1" lang="es-ES_tradn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     </a:t>
            </a: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SALUDAR BANDERA-BUQUES DE GUERRA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</a:t>
            </a: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USAR PAPEL BLANCO CORRESPONDENCIA DIPLOMÁTICA.-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S NORMAS DE  CORTESÍA –LOS USOS INTERNACIONALES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 TRANSFORMAN EN NORMAS JURÍDICAS INTERNACIONALES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ANDO AL ELEMENTO MATERIAL SE  UNE LA  OPINIO JURIS.-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 ES LA CONVICCIÓN DE QUE LOS USOS</a:t>
            </a:r>
            <a:r>
              <a:rPr b="1" lang="es-ES_tradn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LIGAN JURÍDICAMENTE.-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S INMUNIDADES Y PRIVILEGIOS DIPLOMÁTICOS NACIERON</a:t>
            </a:r>
            <a:r>
              <a:rPr b="1" lang="es-ES_tradn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E</a:t>
            </a:r>
            <a:r>
              <a:rPr b="1" lang="es-ES_tradn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ESA MANERA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FUNCION DEL DIP</a:t>
            </a: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LAMENTAR</a:t>
            </a:r>
            <a:r>
              <a:rPr b="1" lang="es-ES_tradn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LAS RELACIONES</a:t>
            </a:r>
            <a:r>
              <a:rPr b="1" lang="es-ES_tradn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E LOS SUJETOS</a:t>
            </a:r>
            <a:r>
              <a:rPr b="1" lang="es-ES_tradn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E </a:t>
            </a:r>
            <a:r>
              <a:rPr b="1" lang="es-ES_tradnl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COMUNIDAD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ACIONAL.-         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993600" y="380880"/>
            <a:ext cx="7486920" cy="60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FUNCIONES LEGISLATIVA-  EJECUTIVA  Y JUDICIAL  EN EL  DI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LA FUNCION LEGISLATIV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 EL DIP NO EXISTE UN ORGANO LEGISLATIVO CENTRALIZADO Y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MANENTE</a:t>
            </a:r>
            <a:r>
              <a:rPr b="1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O EN DERECHO INTERN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FUNCION LEGISLATIVA INTERNACION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- DESCENTRALIZACIÓ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- VOLUNTAD DE LOS ESTADOS EN LA CREACIÓN DE LA NORMA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 SE MANIFIESTA EN EL DERECHO CONVENCIONAL)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RQUE LOS TRATADOS SOLO OBLIGAN A LOS ESTADOS PART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LA COSTUMBRE- CONDUCTA COINCIDENTE DE LOS ESTADOS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EN DERECHO INTERN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 LA CREACIÓN DE LA NORMA NO PARTICIPAN SUS DESTINATARI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 LES IMPONE LA NORMA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 EL D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S ESTADOS CREAN LAS NORMAS Y ELLOS SON LOS DESTINATARIOS.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4T01:13:57Z</dcterms:created>
  <dc:creator>Héctor Escobar</dc:creator>
  <dc:description/>
  <dc:language>en-US</dc:language>
  <cp:lastModifiedBy>GILDA CICCI SALAZAR</cp:lastModifiedBy>
  <dcterms:modified xsi:type="dcterms:W3CDTF">2004-03-20T23:55:20Z</dcterms:modified>
  <cp:revision>21</cp:revision>
  <dc:subject/>
  <dc:title>Derecho Internacional Público</dc:title>
</cp:coreProperties>
</file>