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2F2-736A-47B1-8641-5380B63B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1D3-D208-4D41-9F34-B5466502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A72-54C6-4036-8A58-0F7A1701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F20-922F-4A9B-871A-CE308C8C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69E4-058C-4FD0-8097-C1A8B300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73B-E490-4D96-BDBD-9C6D2F9D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E37C-18A6-405D-A0DD-5B335BF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D53C-1708-4E92-B31A-A64B77C8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E51-4840-4478-A83F-CF9070E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57B9-E2DC-407E-84BE-F6244E2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E84C-42E9-49B4-98EE-71B3736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F6A-49D5-4879-9AAB-A519B44C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FA83-37C4-49F5-9A99-D76B30E3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C4AB-6ED3-4E0B-829E-E22A81F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8158-B228-449A-801A-F59850A1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E947-B1B3-4F3E-995B-F69457BA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1ABD-9BA3-43E0-A2A7-6762F312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01A-E849-427C-AD8F-AE53A241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7EA-C2EF-44FB-AA4E-05C0F343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A8B-5146-4728-850D-456DCC5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4D5-16A4-41DF-AF48-0EBAE16E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B3E-54DD-4B5D-8030-38C9C68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C32-05A3-4415-BF89-3B305E3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25F-7EF1-4978-A027-F117EDDC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D56-315A-4588-9432-E49B55D053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20B1-E1DD-449B-9F68-8F375DEE0C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 INTERNACIONAL</a:t>
            </a:r>
            <a:br>
              <a:rPr sz="4400"/>
            </a:b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s-MX" sz="2400" spc="-1" strike="noStrike">
                <a:solidFill>
                  <a:srgbClr val="ffcc00"/>
                </a:solidFill>
                <a:latin typeface="Arial Black"/>
              </a:rPr>
              <a:t>Profesora Gilda Cicci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UENTE FORMAL D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. 38 ESTATUTO CIJ-O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ESENCIALES DE CARÁCTER OBJETIVO “ USO CONSTANTE Y UNIFORME” EMPLEADOS POR LA CI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ASILO Y DE DERECHO DE PASO EN TERRITORIO DE LA IN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DICTUM FALLO ARBITRAL ACUERDO AEREO ENTRE ITALIA Y USADIJO: DEBE SER “ CONSTANTE, EFECTIVAMENTE SEGUIDA Y SIN CAMBI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MISIÓN Y ABSTENCIÓN CONTRIBUYEN COMO LA ACCION A CONSTITUIR EL ELEMENTO MATERIAL DE LA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LOTUS: LA  CPJI ESTABLECIO:  ABSTENCIÓN REPETIDA PODRIA CONSTITUIR COSTUMBRE INTERNACIONAL SIEMPRE QUE EXISTIERA LA OPINIO JU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PJI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AY COSTUMBRE SI ABSTENCIÓN ESTUVIERA MOTIVADA POR CONCIENCIA DEBER DE  ABSTEN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SE HAN ABSTENIDO DE EJERCER DILIGENCIAS PENALES Y NO QUE SE RECONOCIESEN OBLIGADOS A ACTUAR ASI SOLO HAY COSTUMBRE SI LA ABSTENCIÓN ESTUVIESE MOTIVADA POR LA CONCIENCIA DE UN DEBER DE  ABSTENERS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ACT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TANTE Y UNI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CASO PLATAFORMA CONTINENTAL  DEL MAR DEL N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 QUE HAYA TRANSCURRIDO UN LARGO PERIODO DE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A PARTICIPACIÓN MUY AMPLIA Y REPRESENTATIVA EN EL CONVEN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A LA UNANIM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REQUIERE LA PARTICIPACIÓN GENERALIZADA DE LA COMUNIDAD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304560"/>
            <a:ext cx="86108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O ABSTENCIONES SON REALIZADOS POR ORGANOS DEL ES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URISPRUDENCIA INTERNACIONAL NO EXIGE UN TIREMPO DETRMINADO DE DURACIÓN DE LA PRAC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L DIP CLÁSICO SE HABLABA DE  UNA PRACTICA DESDE TIEMPO INMEM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PRACTICA GENERAL CON RECONOCIMIENTO GENERAL QUE SE LOGRE EN BREVE- MEDIANO- O LARGO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 QUE PRACTICA HAYA SIDO FRECUENTE Y UNIFORME Y QUE HAYA TENIDO UN RECONOCIMIENTO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R CORTO QUE SEA EL PLAZO DEBE HABER REPETICIÓN DE PRECEDENTES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SICOLOGICO-SUBJETIVO-ESPIRI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BASTA LA REPETICIÓN DE PRECEDENTES AUNQUE SE TRATE DE ACTOS O ABSTENCIONES CONSTANTES Y UNIFOR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LEMENTO SICOLOGICO ESTA CONSTITUIDO POR LA CONVICCIÓN DE  LOS ESTADOS Y OTROS SUJETOS QUE LOS ACTOS O ABSTENCIONES LOS REALIZAN COMO EJERCICIO DE UN DERECHO O COMO CUMPLIMIENTO DE UNA OBL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 OPINIO JUR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DISTINGUE LA COSTUMBRE DE LOS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ROS USOS O DE LA CORTESÍA INTERNAC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TAMBIEN DE LOS ACTOS REALIZADOS POR RAZONES DE CONVEN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ARIAS SENTENCIAS HAN RECONOCIDO LA NECESIDAD DE ESTE ELEMENTO SUBJETIVO. LOTUS-SE HABIA ALEGADO LA ABSTENCIÓN SE RECHAZO ESTA ALEGACIÓN AL NO PROBARSE LA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SO ASILO AUSENCIA DE OPINIO JURIS DESCARTO EXISTENCIA DE UNA COSTUMBRE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 CASO PLATAFORMA CONTINENTAL CVIJ 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ACTOS NO SOLAMENTE DEBEN SUPONER UNA PRACTICA CONSTANTE SINO TAMBIEN DEBEN TENER TAL CARÁCTER O REALIZARSE DE TAL FORMA QUE DEMUESTREN LA CREENCIA DE QUE DICHA PRACTICA SE ESTIMA OBLIGATORIA EN VIRTUD DE UNA NORMA JURÍDICA QUE LA PRESCRI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NECESIDAD DE TAL CREENCIA ES DECIE: LA EXISTENCIA DE UN ELEMENTO SUBJETIVO SE HAY IMPLÍCITA EN EL PROPIO CONCEPTO DE OPINIO JU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OS ESTADOS INTERESADOS DEBEN SENTIR QUE CUMPLEN LO QUE SUPONE UNA OBLIGACIÓN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I LA FRECUENCIA NI EL CARÁCTER HABITUAL DE LOS ACTOS ES BAS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AY ACTOS INTERNACIONALES QUE EN PROTOCOLO SON REALIZADOS OBEDECIENDO A SIMPLES CONSIDERACIONES DE CORTESÍA DE CONVENIENCIA O DE TRADICIÓN Y NO A UN SENTIMIENTO DE DEBER JURÍD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UENTE EXTRACONVENCIONAL   ESPONTÁNEA FORMAL AUTO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 RESULTA DE LA MANIFESTACIÓN DE VOLUNTAD DE CREAR NORMAS JURÍD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NO DE UN CONJUNTO DE COMPORTAMIENTOS DE SUJETOS DE DERECH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92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LASIFICAC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rt. 38 ESTATUTO CIJ SE REFIERE A COSTUMBRES GEN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ERO LA JURISPRUDENCIA Y LA DOCTRINA RECONOCEN LA EXISTENCIA DE COSTUMBRES REGIONALES Y LOCALES O BILATE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IMPORTANCIA COSTUMB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DIP NACE COMO ORDENAMIENTO JURÍDICO BASADO EN LA COSTU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ARÁCTER DESCETRALIZADO DE SOCIEDAD INTERN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QUE CARECE DE LEGISL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 EPOCAS REC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CODIFICAN ASPECTOS REGULADOS POR EL DERECHO CONSUETUDIN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P GENERAL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Y REGIDO FUNDAMENTALMENTE POR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S EN QUE EXISTEN CONV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RIGE MATERIAS NO CONTEMPLADAS O NO SUFICIENTEMENTE DESARROLLADAS EN LA CONVEN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RIGE PARA LOS ESTADOS QUE NO SON PARTE EN EL TRAT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 TRATADO CODIFICO COSTUMBRE, LA COSTUMBRE ES EL MISMO TEXTO DE LA NORMA CONVEN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RECHO DE LOS TRATADOS SE BASA EN UNA NORMA CONSUETUDIN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ACTA SUNT SERVA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A INTERNACIONAL DESCENTRALIZ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ENTAJA COSTUMBRE: SE ADAPTA A TRANSFORMACIONES DE RELACIONES INTERNACIONALES. FUENTE MAS FLEXIBLE. QUE LOS TRA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S CONVENCIONES DEMORAN AÑOS EN ENTRAR EN VIGENC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. LA CONVENCIÓN DE ONU SOBRE DERECHO DEL MAR 1982 ENTRO EN VIGENCIA 16 NOVIEMBRE 19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EN CAMBIO SE ENCUENTRAN EN VIGOR A TRAVES DE LA COSTUM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PTOS COMO ZEE EJ VALOR MODIFICATORIO DE LA COSTUMBRE EN RELACION CON LA CONV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VENCIONES PUNTO DE PARTIDA DE REGLAS CONSUETUDINARIAS 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RISTALIZADOR DE  REGLAS CONSUETUDINAR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 ES NECESARIO UN TIEMPO INMEMORIAL COMO ANTIGUAMENTE SE REQUERIA PARA LA FORMACIÓN DE LA COSTUMBRE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BRE CAMPOS MAS VA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J CIJ CASO NICARAG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IJ ENGLOBO EN DERECHO CONSUETUDINARIO PRINCIOS DE NO INTERVENCIÓN- NO RECURSO A LA FUERZA- SOLUCION PACIFICA DE LAS CONTROVERSIAS ( CONCEPTO JURÍDICO FUNDAMENTAL SOBERANIA ESTADOS EN DERECHO CONSUETUDIN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VENTAJAS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ERTIDUMBRE-IMPR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ISTENCIA DIVERSAS COSTUMBRES SOBRE MISMA MA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COSTUMBRE INTER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S ELEMENTOS NECESARIOS PARA CONSTITUIR COSTUMB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.- ELEMENTO MATERIAL-OBJETIVO-HISTOR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 CONSTITUIDO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PRACTICA DE LOS ESTADOS Y DE OTROS SUJETOS DE D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REPETICIÓN CONSTANTE Y UNIFORME DE ACTOS O ABSTE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 DENOMINAN PRECE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22:38:45Z</dcterms:created>
  <dc:creator>aristide cicci</dc:creator>
  <dc:description/>
  <dc:language>en-US</dc:language>
  <cp:lastModifiedBy>GILDA CICCI SALAZAR</cp:lastModifiedBy>
  <dcterms:modified xsi:type="dcterms:W3CDTF">2005-09-11T22:42:52Z</dcterms:modified>
  <cp:revision>23</cp:revision>
  <dc:subject/>
  <dc:title>COSTUMBRE INTERNACIONAL</dc:title>
</cp:coreProperties>
</file>